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51429"/>
        <c:axId val="12802038"/>
      </c:barChart>
      <c:catAx>
        <c:axId val="42151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02038"/>
        <c:crosses val="autoZero"/>
        <c:auto val="1"/>
        <c:lblAlgn val="ctr"/>
        <c:lblOffset val="100"/>
        <c:noMultiLvlLbl val="0"/>
      </c:catAx>
      <c:valAx>
        <c:axId val="12802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1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E63-581D-4DEF-B9A9-D6440A70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2DB-561A-43FD-918C-26B6BE1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F14-0A02-40D7-B61D-5ABABFD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705-84A3-45C7-864D-8AE90915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A11-8799-48E7-9F9D-349DD455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E9B-8143-40FC-94D6-4063A4BA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DEB-6222-42D2-8ED6-B842551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76C-8FC1-415C-B650-AAFA4B1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A17-AFA9-40FC-AA46-10D0FE3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16B-9981-4D2B-B026-C1BFAAD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873-F7A9-42C7-BEC1-B893732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2AB-985B-4C90-A6C9-8F644F3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3F978-9821-4902-AF84-790F011BEA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