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99651"/>
        <c:axId val="13790134"/>
      </c:barChart>
      <c:catAx>
        <c:axId val="17399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0134"/>
        <c:crosses val="autoZero"/>
        <c:auto val="1"/>
        <c:lblAlgn val="ctr"/>
        <c:lblOffset val="100"/>
        <c:noMultiLvlLbl val="0"/>
      </c:catAx>
      <c:valAx>
        <c:axId val="13790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99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5D9-5C00-4521-ACEF-959A34CD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CC4-3B98-42FC-AB7E-5C058060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8BD-8232-4CB7-B278-4BE0C276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A8B-1944-49FD-858E-247339FC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201-3893-4907-8B63-276AD2D6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691-DFD1-4830-92D0-18002103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6F4-E003-453A-96AF-F2102EE3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F13-7D0E-47D4-924C-4EAE885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B4C-00F7-449B-B57C-44051454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9BD-D6BC-4A21-A33F-A8E8F97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C54-03E7-4B20-BC87-0B5F211B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AE9-AE0A-4298-83A2-3BAD101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F6C0D-A6BE-4F22-9345-CF16E5A9AF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