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88917"/>
        <c:axId val="1124314"/>
      </c:barChart>
      <c:catAx>
        <c:axId val="33388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314"/>
        <c:crosses val="autoZero"/>
        <c:auto val="1"/>
        <c:lblAlgn val="ctr"/>
        <c:lblOffset val="100"/>
        <c:noMultiLvlLbl val="0"/>
      </c:catAx>
      <c:valAx>
        <c:axId val="1124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88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48E-514A-424A-A9AC-57B8CC9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C12-F5A5-4017-B19A-0A557106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B81-3715-4DAC-8CCA-B00B924C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FB8-17CB-46F4-933B-9A4DE0B0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5E9-0325-4CAE-94DC-442092C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EE9-DA5C-4243-942D-BBAB07F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5C2-0AB9-4F87-9BB6-D40D723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474-784B-4C84-8543-DE8EE9D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547-B198-447E-B773-6121D83A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DDC-5C65-4C47-B9D1-9A363A2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BE9-6F28-48EC-ADD1-D724BC4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8AA-96F4-4134-B6C2-16884CD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EF395-A73E-40A0-B2AA-5CD349B60A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