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62182"/>
        <c:axId val="79093253"/>
      </c:barChart>
      <c:catAx>
        <c:axId val="31862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93253"/>
        <c:crosses val="autoZero"/>
        <c:auto val="1"/>
        <c:lblAlgn val="ctr"/>
        <c:lblOffset val="100"/>
        <c:noMultiLvlLbl val="0"/>
      </c:catAx>
      <c:valAx>
        <c:axId val="79093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62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063-819F-4A91-B0E8-B2411D1F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840-8D6F-4382-86D3-BAC66D6B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448-4F5B-4A85-9DBF-69448ED9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BA6-D72E-4B75-B796-D63B21A6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E65-AC87-485A-8136-8929969F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15B-5369-4045-A0A3-5AAD691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807-922C-486E-A910-144DEF11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24A-C9E9-4F5D-A819-ABE24836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C51-0C4D-4673-A03E-B3554B5E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1A4-227C-4A0A-AE8F-45F791BD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7D3-C734-45A4-BDC7-2CEF27AF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E98-B77F-4738-94FC-4EB4B603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25CC0-B201-4934-8321-59B828DAB9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