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87891"/>
        <c:axId val="18855621"/>
      </c:barChart>
      <c:catAx>
        <c:axId val="17487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5621"/>
        <c:crosses val="autoZero"/>
        <c:auto val="1"/>
        <c:lblAlgn val="ctr"/>
        <c:lblOffset val="100"/>
        <c:noMultiLvlLbl val="0"/>
      </c:catAx>
      <c:valAx>
        <c:axId val="18855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7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622-CBB9-4220-BD29-B470CB6D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212-EBDF-4B3A-9C92-BE1EA88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68C-000A-4DF1-9EFA-8BDAF6EC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EA1-DCFA-4BAD-A2A7-9E96EB34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D5C-D7DE-4395-B8E0-5C28DCA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EAA-B1F1-44EA-BC1D-21BCC184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D66-5611-4791-9FAD-0427085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2FC-D57F-4BB5-9893-5837A38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516-CCEE-4B1F-A09C-64D0BBB4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5EE-B616-41AF-8D1A-890460D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391-A519-4701-BCA6-EED5498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12C-7740-4682-A895-178D33E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7853F-8085-4BAD-B7CC-068C81EFC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