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835010"/>
        <c:axId val="64604243"/>
      </c:barChart>
      <c:catAx>
        <c:axId val="368350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604243"/>
        <c:crosses val="autoZero"/>
        <c:auto val="1"/>
        <c:lblAlgn val="ctr"/>
        <c:lblOffset val="100"/>
        <c:noMultiLvlLbl val="0"/>
      </c:catAx>
      <c:valAx>
        <c:axId val="646042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8350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E767-8FCA-4ADD-8BA3-AD002EF22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692F-ED61-44AA-B661-1063D709C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D1D9-3C97-417C-A4CC-89469F163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0A06-6F64-45F9-ADB2-4F1AB0B95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EB52-3885-4FCA-826D-858B58723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3115-93A6-4AB9-A7F7-7239A849C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852F-78B1-43DA-99CE-989B1A3DB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F8C0-8439-4B43-A9F3-4C7F0D4B8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09AF-6617-45F1-A2AC-8A15F45CD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E647-28BA-4719-911C-7C1E37C80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1FA4-AA86-4D1C-879B-24F237CCD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065E-BA7D-4107-89D6-B1F3FE8C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5FF4E1-E69D-4762-96E6-7B2ADA6B79A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