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40453"/>
        <c:axId val="29103033"/>
      </c:barChart>
      <c:catAx>
        <c:axId val="71140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3033"/>
        <c:crosses val="autoZero"/>
        <c:auto val="1"/>
        <c:lblAlgn val="ctr"/>
        <c:lblOffset val="100"/>
        <c:noMultiLvlLbl val="0"/>
      </c:catAx>
      <c:valAx>
        <c:axId val="29103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40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CBD-3B9E-471F-88D0-12F3BDCE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36B-89C8-47DA-9A80-F112A914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06E-3969-4268-BBCA-C6B67B2D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D78-A6EC-4CFD-8955-229FDA02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D9C-1702-46AD-A6F0-DA35B913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E5F-3B1C-4B9A-9038-A397C20A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D16-D427-4123-8138-21B49362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8C4-FAB1-40E1-9A77-CFAD4F5F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BF4-A337-4F14-BE5C-9097614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D78-8136-430A-B5F3-C394A8B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189-564D-4F99-90CA-0921AAA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152-5C00-4922-B1C4-9438DC5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B74B4-BCDF-417A-B8D9-1082D9F440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