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20091"/>
        <c:axId val="54193237"/>
      </c:barChart>
      <c:catAx>
        <c:axId val="17420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3237"/>
        <c:crosses val="autoZero"/>
        <c:auto val="1"/>
        <c:lblAlgn val="ctr"/>
        <c:lblOffset val="100"/>
        <c:noMultiLvlLbl val="0"/>
      </c:catAx>
      <c:valAx>
        <c:axId val="54193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20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6DA-B5DB-47E9-B969-1E91F903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766-3EB3-446B-BC5B-0E99DD66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F92-0DAE-440D-B48C-54A9EA03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1E5-535B-4050-9546-D1D5015D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5B6-515F-4BAC-8C3C-1BF5A500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49A-4854-4FC9-B6FF-2DE91F81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128-F2E9-40CE-AF39-8EB12B3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05B-C457-43A8-8862-2D5C8EC4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264-ADAB-4FBE-810C-B747BA44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CA1-BB09-4285-8CA2-D05D8FE6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AF8-6ED1-40AE-B2AA-76C48477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9F2-8408-4085-BA81-EABFA70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89DF5-BD9C-4FAC-9A4D-AB1946B150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