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06819"/>
        <c:axId val="82079580"/>
      </c:barChart>
      <c:catAx>
        <c:axId val="34206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9580"/>
        <c:crosses val="autoZero"/>
        <c:auto val="1"/>
        <c:lblAlgn val="ctr"/>
        <c:lblOffset val="100"/>
        <c:noMultiLvlLbl val="0"/>
      </c:catAx>
      <c:valAx>
        <c:axId val="82079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06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C70-00BE-43CB-B0B1-225A3596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F88-FDFE-492F-8B19-8C3B3CA8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025-7F5E-4C4C-8BD4-01ACB03C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7A4-04BC-4FD8-93F7-EA3A8AE5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ED0-815E-43EB-8A8C-72CAA15F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692-394A-446F-8D6E-CF1B8BAF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BBC-C428-4A8E-80D1-241274F8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0D2-A686-4B2A-807A-8FA0B035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BDB-E98E-4121-9715-8888F63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6BC-9EA8-4D7B-A5B6-2C4F2FD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1E0-9F60-40D9-87DB-BCBD2B94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442-4EA1-41E6-972C-5D0F02A8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C869F-A3BF-41C4-BA88-BDF3FE6A5A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