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03509"/>
        <c:axId val="92422073"/>
      </c:barChart>
      <c:catAx>
        <c:axId val="49003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22073"/>
        <c:crosses val="autoZero"/>
        <c:auto val="1"/>
        <c:lblAlgn val="ctr"/>
        <c:lblOffset val="100"/>
        <c:noMultiLvlLbl val="0"/>
      </c:catAx>
      <c:valAx>
        <c:axId val="92422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03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8C3-4A72-491C-9746-F45587CB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C69-08E7-4819-BA33-73FB2805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934-942C-49FE-9409-3C5BFFC0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67D-9391-422E-A182-51A14CFA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B6A-545A-4B41-A488-FDE198C6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7BE-3D37-4A93-842B-3EE1D04F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FD6-0DB6-4767-9AE1-24D32D00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4AF-3A7C-4CFD-B63D-21F5E457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D7D-724A-4A20-889F-DC59B5D3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DB1-9AF5-4980-8223-3F732BC4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CB5-B356-4383-9339-5731FFE6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4EE-44D7-49BE-BDC2-E98684C7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39E04-E5A0-40AB-80A1-AEF0DAB69B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