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60305"/>
        <c:axId val="56448252"/>
      </c:barChart>
      <c:catAx>
        <c:axId val="62660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8252"/>
        <c:crosses val="autoZero"/>
        <c:auto val="1"/>
        <c:lblAlgn val="ctr"/>
        <c:lblOffset val="100"/>
        <c:noMultiLvlLbl val="0"/>
      </c:catAx>
      <c:valAx>
        <c:axId val="56448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0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74F-CB7B-46DD-8880-75BBC9D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C5D-8D5D-4089-957C-7EBE8FE4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35B-C521-49E6-BA11-0CCE16D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E7B-578E-4C88-86AD-E1D686AB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E4E-E3AF-4E78-814D-1A4F7569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B9E-B8B9-4068-89F8-3F3A510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F83-A962-45E2-A1C3-337524B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C3F-9FCD-43C7-93BD-DE6462A0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7BC-45A9-4485-AC23-4D6546E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94B-58DD-40AF-B8C3-BD6807C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E4B-12FE-4DD6-8BD1-FDDDB47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F2A-645B-4B3C-B0C0-823C75D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72FE1-A25A-4542-BCE2-28AA9F73A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