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56158-2CD4-4475-9915-31AAC1DE3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51097-7FE6-456A-B74E-3250ECCAE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5A509-37C9-474D-B252-88D346460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F2E7E-611C-48A7-BCEC-8D2EDB879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E42B5-B507-47D1-B983-618E4A5AC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AFB26-54D3-4DB2-B4BE-2E8E0D782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83373-9F6F-4D37-8ADA-DBD9D448D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C2957-7ED6-4701-B4BB-13480BF80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AA518-6EF2-40DA-8EA0-84234C59E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3EFD2-7881-428C-B93E-17B81C5CF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30E21-8DD1-4EEA-B359-323BA9595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FE24E-D90E-4C25-910D-FEBD0A527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F41B4-536F-4970-83B3-F1BB77D5B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950C5-8DA5-4619-B8A1-5A0D0F82D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4544E-35DD-4CD2-BC8B-C0421727F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74CA3-331D-4F48-9C77-88FA35915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01AA8-82F1-4CE3-9AA5-EF5E4A10D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9FCC2-E24B-4BF3-8117-96D55440E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06270-0ACE-47C1-A0E6-8B7164887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08C36-51A6-4D39-AC78-05BB5B1A8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B5BE3-0976-4ADA-BC0C-03F2E5AFB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EA505-F510-4D8F-800F-23489357A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CBA5A-7B11-4D3D-B218-9398B312A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4B69A-8214-4F8C-BD93-8E84DE982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F6CB7-77ED-4E87-94A7-7DAA4F07E2AB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990720" y="6248520"/>
            <a:ext cx="76975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&lt;footer&gt;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Parallelizing John the Ripper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        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Spring 2004: GCMPS 240A: Project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50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3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349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34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Parallelizing</a:t>
            </a:r>
            <a:br>
              <a:rPr sz="2800"/>
            </a:b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John the Ripper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By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Andy Pippin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Brendon Hall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Wilson Chen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DE7D0-81F9-4E31-892B-C031857A96E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Result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752480" y="2238480"/>
            <a:ext cx="6248520" cy="4187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980ED-2695-458A-B4BF-6B23A92ED98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Conclusion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Achieved nearly linear speedup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Work sharing provides good trade-off between load balancing and complexity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65922-E490-47D6-80B9-2C0434F6ACC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Introduction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urpose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reate a tool for system administrators so they can quickly scan for weak password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Understand how to parallelize existing serial program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F0445-BB63-4A3F-9F8B-A4EDE33C865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Password Cracking Method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Brute-forc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Infallible, though time consuming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8 character passwords with 95 different characters = 6 trillion unique password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ictionar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uses pre-defined word lists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possible” password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ules can be incorporated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E34DB-09CC-434A-BC71-EF09B3CC4DC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Previous Work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ablecrack (SDSC, 1997) and Teracrack (SDSC, 2000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Ryan Lim (UNL, 2003) parallelized John the Ripper (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JtR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) for brute-force attack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 for cracking single password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3E98D-F379-4BBB-877C-C39E72826B2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Our Approach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arallelize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JtR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for dictionary style attack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Check for weak passwords quickl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Minimize modifications to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JtR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core cod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oncentrate on an efficient parallel implementati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A0914-9DB0-41CD-8102-5E3817A49F8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UNIX Password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972 - NIST wanted a cryptographic algorithm for non-classified informatio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974 - IBM submitted “Lucifer” (128-bit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976 - Data Encryption Standard (56-bit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Widely adopted by industr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un Microsystem’s uses DES in their distributed password scheme: NI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Example of an /etc/passwd entry using DES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user:HFnZbS4XGNtEM:12015:12:John Doe,,,COMS,Graduate:/cs/student/user:/bin/tcsh</a:t>
            </a:r>
            <a:endParaRPr b="0" lang="en-US" sz="11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653A1-0F48-4619-A990-EB403168B0A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Parallelization Scheme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istribute the Dictionar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less memory, but more coordinatio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istribute the password fil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equires more memory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load balancing issue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assumes every password is of the same difficulty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2ADC5-2A25-46F8-BD46-E55906C2B4A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Our Method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e ‘Poker Dealer’ (work sharing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hand out encrypted password as required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equires each process to have complete dictionary in memor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passwords with the same salt are given to one processo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2583E-CFBC-42C1-B0B8-1EBE1444585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Performance Metric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racks/Sec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 reported by </a:t>
            </a:r>
            <a:r>
              <a:rPr b="0" i="1" lang="en-US" sz="1800" spc="-1" strike="noStrike">
                <a:solidFill>
                  <a:srgbClr val="003366"/>
                </a:solidFill>
                <a:latin typeface="Arial"/>
              </a:rPr>
              <a:t>Jt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arallel version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 adds value reported by each worker process, recalculates to account for communication tim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9F245-BDF3-4EB9-BCC3-C962F1D8E03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1T21:57:01Z</dcterms:created>
  <dc:creator/>
  <dc:description/>
  <dc:language>en-US</dc:language>
  <cp:lastModifiedBy>Admin</cp:lastModifiedBy>
  <dcterms:modified xsi:type="dcterms:W3CDTF">2004-06-02T06:57:17Z</dcterms:modified>
  <cp:revision>17</cp:revision>
  <dc:subject/>
  <dc:title>Parallelizing "John the Ripper"Ripper"</dc:title>
</cp:coreProperties>
</file>