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83555"/>
        <c:axId val="41134045"/>
      </c:barChart>
      <c:catAx>
        <c:axId val="83783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34045"/>
        <c:crosses val="autoZero"/>
        <c:auto val="1"/>
        <c:lblAlgn val="ctr"/>
        <c:lblOffset val="100"/>
        <c:noMultiLvlLbl val="0"/>
      </c:catAx>
      <c:valAx>
        <c:axId val="411340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83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055-BC40-4DAE-8E70-620332D5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0DB-0D66-4539-B1E2-A4B113D3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525-7B8A-4843-AE7C-3AF29374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587-1A27-4749-A8F9-761CBD9C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27D-B0D6-4A12-B577-58BB4DD8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AE9E-2DEE-4411-8CFE-7465B921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B16-DB56-4024-8260-6C4774D8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C587-5B39-4F7A-AC52-48BFC6AA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7897-7B1C-42DE-AD63-A8C371D3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AC9-9133-43B3-A145-E53471BD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FF3-C7BF-452E-926D-EC8DC910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5C31-4726-4611-9960-BAC86EC1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67E8E-7632-4A7F-B6C8-B27AAEBA27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