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488AF-601E-4E41-92F3-4A0203178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9F851-D2F6-41A9-BB44-57151C2CB1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3A6B-D388-4B33-87F4-E6553DC704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80DD-0807-4347-8141-8DDFDE37F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A4558-25A9-474E-92DA-68FE6BA833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D805B-27C5-4378-A407-DCD0E70EAF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3EEFD-911E-4C64-A28D-158F14EDB5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A7B6D-E16D-44AB-8D4F-BD81E0AE13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BAFBA-7D4E-4959-82CA-E911426F96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49010-FC88-4699-A327-9613A0E03D4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1525D-7DC2-4D22-9831-360BD5F6A7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52EDB-1E2C-49DA-8F76-EFC73E23EB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196C4-E70A-4008-AC24-DCCB4605C8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1CE6-0743-4E64-8DDA-09068683E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599EF-890B-41C0-A318-FEF0E625C8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8431-B4F0-4CB4-AE4D-B25849D2D16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8ED6-3DFD-41A8-AE97-E8479F5284C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55EB2-F49B-4676-92E7-A5E2D937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D5F69-516E-482D-A11D-343F3D899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539319-1F5F-4FA5-B47C-773028E7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4BBD0-B35F-4C51-B2FD-1E02BAA5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306ED5-D607-43D7-9895-6629151A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67382-F665-4952-8450-2E16C2D1BC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28626-87C8-4050-A3BA-DA03D779E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54B36B-4BCD-41E9-90F4-94AFF796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0601A6-5815-4F86-BFED-A2D0A2EE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7FCEF4-7635-4150-9292-A5F9107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E01A84-4448-400B-B041-3A9FCDF6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DC820-2A8F-4BCB-A4EC-A9B35B800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BB299-D7A2-4D27-8659-634350EAD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76BA9-36A3-431B-85A6-8633F1F2C8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7FF88-8E4F-4733-BAEC-1607BC7293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8F75-F72D-48EA-B293-E4B64005C3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E0FD8-5923-48E7-A657-AAAF7E4180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5D4E-2BC3-403E-A9AE-F88CE2650A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7BC6-13A4-41B1-97AA-BC5C673D19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57120" y="137880"/>
            <a:ext cx="7886520" cy="50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36000" rIns="36000" tIns="36000" bIns="36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4320" y="8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2" marL="1143000" indent="-228600">
              <a:spcBef>
                <a:spcPts val="700"/>
              </a:spcBef>
              <a:buClr>
                <a:srgbClr val="969696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HGP創英角ｺﾞｼｯｸUB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GP創英角ｺﾞｼｯｸUB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62640" y="6500520"/>
            <a:ext cx="9810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160E-7616-4969-B47A-4FECBF2846AB}" type="slidenum">
              <a:rPr b="0" lang="en-US" sz="16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8400" y="6553080"/>
            <a:ext cx="28321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0" tIns="128520" bIns="496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000066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308720" y="60480"/>
            <a:ext cx="183528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68360"/>
            <a:ext cx="7772400" cy="609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GP創英角ｺﾞｼｯｸUB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7009920" y="6552720"/>
            <a:ext cx="2133720" cy="2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0BEB-20F4-4513-92F1-5C439BB9D599}" type="slidenum">
              <a:rPr b="0" lang="en-US" sz="14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27040" y="6642360"/>
            <a:ext cx="2733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Copyright © 2008  NTT DATA Corpo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440" y="732240"/>
            <a:ext cx="1744560" cy="243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秘密（関係者限り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55C33-DB13-4B9F-8DBB-A54841667F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679840" y="3225960"/>
          <a:ext cx="576000" cy="561960"/>
        </p:xfrm>
        <a:graphic>
          <a:graphicData uri="http://schemas.openxmlformats.org/drawingml/2006/table">
            <a:tbl>
              <a:tblPr/>
              <a:tblGrid>
                <a:gridCol w="191880"/>
                <a:gridCol w="192240"/>
                <a:gridCol w="191880"/>
              </a:tblGrid>
              <a:tr h="1375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66ff66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06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586440" y="276228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象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83000" y="342108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7" idx="2"/>
            <a:endCxn id="125" idx="1"/>
          </p:cNvCxnSpPr>
          <p:nvPr/>
        </p:nvCxnSpPr>
        <p:spPr>
          <a:xfrm flipH="1" rot="16200000">
            <a:off x="1673640" y="2548080"/>
            <a:ext cx="387720" cy="143172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2173680" y="371628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ログ表に記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3346560"/>
            <a:ext cx="915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NS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6226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31" name=""/>
          <p:cNvSpPr/>
          <p:nvPr/>
        </p:nvSpPr>
        <p:spPr>
          <a:xfrm>
            <a:off x="2602440" y="276372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作業テーブ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312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54200" y="25002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2" idx="3"/>
            <a:endCxn id="133" idx="1"/>
          </p:cNvCxnSpPr>
          <p:nvPr/>
        </p:nvCxnSpPr>
        <p:spPr>
          <a:xfrm>
            <a:off x="1544760" y="2536560"/>
            <a:ext cx="1009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69320" y="25401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並び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17840" y="250200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930920" y="2502000"/>
            <a:ext cx="712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6" idx="3"/>
            <a:endCxn id="137" idx="1"/>
          </p:cNvCxnSpPr>
          <p:nvPr/>
        </p:nvCxnSpPr>
        <p:spPr>
          <a:xfrm>
            <a:off x="3489480" y="2538360"/>
            <a:ext cx="1441800" cy="36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3325680" y="3421080"/>
            <a:ext cx="7164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9" idx="3"/>
            <a:endCxn id="141" idx="4"/>
          </p:cNvCxnSpPr>
          <p:nvPr/>
        </p:nvCxnSpPr>
        <p:spPr>
          <a:xfrm flipV="1">
            <a:off x="3397320" y="2646360"/>
            <a:ext cx="705240" cy="811440"/>
          </a:xfrm>
          <a:prstGeom prst="curved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3994200" y="2428920"/>
            <a:ext cx="216000" cy="217440"/>
          </a:xfrm>
          <a:prstGeom prst="ellipse">
            <a:avLst/>
          </a:prstGeom>
          <a:solidFill>
            <a:srgbClr val="ffcc99"/>
          </a:solidFill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2560" y="2916360"/>
            <a:ext cx="60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操作反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15456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1080"/>
                <a:gridCol w="174600"/>
                <a:gridCol w="18252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>
            <a:off x="5342760" y="2828880"/>
            <a:ext cx="114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00"/>
                </a:solidFill>
                <a:uFillTx/>
                <a:latin typeface="HGP創英角ｺﾞｼｯｸUB"/>
                <a:ea typeface="HGP創英角ｺﾞｼｯｸUB"/>
              </a:rPr>
              <a:t>テーブルを切り替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 flipH="1">
            <a:off x="7884720" y="2349360"/>
            <a:ext cx="722520" cy="100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5002200" y="2357280"/>
          <a:ext cx="720720" cy="433440"/>
        </p:xfrm>
        <a:graphic>
          <a:graphicData uri="http://schemas.openxmlformats.org/drawingml/2006/table">
            <a:tbl>
              <a:tblPr/>
              <a:tblGrid>
                <a:gridCol w="182520"/>
                <a:gridCol w="180720"/>
                <a:gridCol w="174600"/>
                <a:gridCol w="182880"/>
              </a:tblGrid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44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  <a:tr h="144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0e0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5794200" y="2502000"/>
            <a:ext cx="287640" cy="144360"/>
          </a:xfrm>
          <a:prstGeom prst="leftRightArrow">
            <a:avLst>
              <a:gd name="adj1" fmla="val 50000"/>
              <a:gd name="adj2" fmla="val 39666"/>
            </a:avLst>
          </a:prstGeom>
          <a:solidFill>
            <a:srgbClr val="808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16000" y="2997360"/>
            <a:ext cx="71280" cy="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8000" y="765000"/>
            <a:ext cx="8856720" cy="14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ツールは、テーブルを再編成し、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断片化を解消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しま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の間も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参照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/</a:t>
            </a:r>
            <a:r>
              <a:rPr b="0" lang="ja-JP" sz="2400" spc="-1" strike="noStrike" u="sng">
                <a:solidFill>
                  <a:srgbClr val="0000ff"/>
                </a:solidFill>
                <a:uFillTx/>
                <a:latin typeface="HGP創英角ｺﾞｼｯｸUB"/>
                <a:ea typeface="HGP創英角ｺﾞｼｯｸUB"/>
              </a:rPr>
              <a:t>更新処理をブロックしない</a:t>
            </a: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ことが特徴で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に一度のメンテナンスでも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DB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止めずに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4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時間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365 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運転が可能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22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VACUUM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不足でテーブルが肥大化しても、サービスを止めずに回復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3500280"/>
            <a:ext cx="1440000" cy="865440"/>
          </a:xfrm>
          <a:prstGeom prst="wedgeRoundRectCallout">
            <a:avLst>
              <a:gd name="adj1" fmla="val -50439"/>
              <a:gd name="adj2" fmla="val -79175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差分を反映し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更新結果を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引き継ぎ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516720" y="3500280"/>
            <a:ext cx="1295280" cy="648000"/>
          </a:xfrm>
          <a:prstGeom prst="wedgeRoundRectCallout">
            <a:avLst>
              <a:gd name="adj1" fmla="val -89217"/>
              <a:gd name="adj2" fmla="val -104412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切り替えは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瞬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957320" y="4508640"/>
          <a:ext cx="2685960" cy="1912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7320" y="4508640"/>
                    <a:ext cx="26859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2127960" y="4214880"/>
            <a:ext cx="199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再編成処理時間の比較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G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67440" y="6165720"/>
            <a:ext cx="27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82920" y="4795920"/>
            <a:ext cx="1801800" cy="1225440"/>
          </a:xfrm>
          <a:prstGeom prst="wedgeRoundRectCallout">
            <a:avLst>
              <a:gd name="adj1" fmla="val -80134"/>
              <a:gd name="adj2" fmla="val 18393"/>
              <a:gd name="adj3" fmla="val 16667"/>
            </a:avLst>
          </a:prstGeom>
          <a:solidFill>
            <a:srgbClr val="ffffcc"/>
          </a:solidFill>
          <a:ln w="1260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断片化が進んだ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テーブルに対して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ツールよりも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高速で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06200" y="5013360"/>
          <a:ext cx="2089440" cy="1098360"/>
        </p:xfrm>
        <a:graphic>
          <a:graphicData uri="http://schemas.openxmlformats.org/drawingml/2006/table">
            <a:tbl>
              <a:tblPr/>
              <a:tblGrid>
                <a:gridCol w="417600"/>
                <a:gridCol w="951120"/>
                <a:gridCol w="720720"/>
              </a:tblGrid>
              <a:tr h="54936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d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5050"/>
                          </a:solidFill>
                          <a:latin typeface="Arial"/>
                        </a:rPr>
                        <a:t>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g_reor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36000" rIns="36000" tIns="0" bIns="0" anchor="ctr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6300720" y="4437000"/>
            <a:ext cx="2592360" cy="18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g_reorg 1.0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PostgreSQL 8.3.3</a:t>
            </a: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対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2008-09-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6T11:52:56Z</dcterms:created>
  <dc:creator> </dc:creator>
  <dc:description/>
  <dc:language>en-US</dc:language>
  <cp:lastModifiedBy>itagaki</cp:lastModifiedBy>
  <dcterms:modified xsi:type="dcterms:W3CDTF">2008-11-25T07:01:26Z</dcterms:modified>
  <cp:revision>761</cp:revision>
  <dc:subject/>
  <dc:title>OSS故障解析はここまでできる</dc:title>
</cp:coreProperties>
</file>