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9AF08-5B0D-487F-85B6-ED74F38D7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E8705-06B0-484E-9D7B-8AC42D576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D261E-2F30-4CFB-A6FD-7659DD9A5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2B414-30DC-4382-BC20-F88FE1D34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AF978-8488-426D-9DAF-A02953EF9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7378F-FE5E-4EEA-B629-64F3A0072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E3939-E847-4BC6-84F4-C630CF076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BBF26-2E97-41D4-AB55-494F5B23C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EB94A-5562-49B2-BAA9-1EFB1018B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72428-BA09-4078-951A-37B635E52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F9DF0-5AFE-4F5C-9816-4501354AB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65BC0-60ED-472E-BC12-1D55B4D78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FDB58D-4D72-4238-82F2-8AAFAC7D24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0T22:04:20Z</dcterms:created>
  <dc:creator>Brion </dc:creator>
  <dc:description/>
  <dc:language>en-US</dc:language>
  <cp:lastModifiedBy/>
  <cp:revision>1</cp:revision>
  <dc:subject/>
  <dc:title/>
</cp:coreProperties>
</file>