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F1DEF-F8A6-4796-B6BD-145593141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D1216-0082-4AE9-85ED-DCF2FA7C0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02630-BE4E-4DF0-B535-22B79F0CE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4C1C3-CBB2-40E9-AF94-A65885869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5C179-95C1-4C33-A7BA-071D2F3B2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01825-DE88-4551-817A-BE9F9D482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F8850-56FF-4FE0-81C5-A04497403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F5D06-E991-4FD6-A253-6ABAB2EFE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19E02-DC08-4312-B916-5E672F58C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138BB-0F9E-4AA2-875E-3CC6D6D9C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6FEB9-EDA0-429E-ADCA-C6C4CFC98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E4442-4598-45E8-B7AC-E96EF9621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E867A1-3633-4CC9-8CE1-468244AAB5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0T22:04:20Z</dcterms:created>
  <dc:creator>Brion </dc:creator>
  <dc:description/>
  <dc:language>en-US</dc:language>
  <cp:lastModifiedBy/>
  <cp:revision>1</cp:revision>
  <dc:subject/>
  <dc:title/>
</cp:coreProperties>
</file>