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74448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5"/>
          </p:nvPr>
        </p:nvSpPr>
        <p:spPr>
          <a:xfrm>
            <a:off x="5950080" y="-360"/>
            <a:ext cx="90792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914040" y="4343040"/>
            <a:ext cx="2646360" cy="12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867160"/>
            <a:ext cx="70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6495840" y="8867160"/>
            <a:ext cx="3618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0E761-F015-4AE5-837F-C6EE7ABE2C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429000" y="2400480"/>
            <a:ext cx="0" cy="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52280" y="4202280"/>
            <a:ext cx="6553440" cy="41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efault - For categories where no configuration has been defin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general - For messages still not classifi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atabase- Internal database mess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security - Approval and denial of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onfig - Configuration file parsing and process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resolver - DNS resolution, such as the recursive lookup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in - Zone transfers the server is receiv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xfer-out - Zone transfers the server is send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otify - The NOTIFY protoc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lient - Processing of client request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nmatched - Messages with undetermined class or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network - Network oper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update - Dynamic upda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queries - Query logg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ispatch - Dispatching of incoming packets to modul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dnssec - DNSSEC and TSIG protocol processing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lame-servers - misconfigurations of remote server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93519-3A73-41B2-B7C0-EA6413EA69E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1484D-43A1-4573-8BD5-EDF15D66B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AF779-DCBD-4D43-8946-9F71BCB03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C63BC4-48A3-46C8-82C3-AD9AF162CB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08472-A200-4724-B1E7-DED18E13A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F5843-B234-4BF1-8877-F0A87A6EF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3B2C07-74BF-4328-AE00-3356A40C4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14DD86-09F2-42B3-8925-094077B14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B858E8-116E-44BA-837A-57352335F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907D3D-0FAE-4C5E-AC65-0C4BD80E6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84D1-B3A4-4776-84CD-24AD17B29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7ED1-8EEB-4A75-9DF7-410D7D135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360" y="6553080"/>
            <a:ext cx="10587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A2B8EA4F-7F1F-47E8-ABD0-8FE66900C1EC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Troubleshooting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8760" y="6270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un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the name server is thought to be running, make sure it i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Courier New"/>
              </a:rPr>
              <a:t>dig @127.0.0.1 version.bind chaos tx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makes the name server do the simplest lookup it can - its version str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also confirms which version you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mmon upgrade error: running the old version, forgetting to 'make install'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DAF033-646B-4601-8F64-6B9018E9D03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Data Correc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that the server is the right one (executabl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dig @127.0.0.1 &lt;zone&gt; so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 the serial number to make sure the zone has load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so test changed data in case you forgot to update the serial 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we get to secondary servers, this check is made to see if the zone transferr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FF26E-53F3-498A-8687-E1AEE558193F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Reachable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dig tests fail, its time to test the environment (machine, networ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ping &lt;server machine ip address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tests basic network flow, common erro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etwork interface not U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outing to machine not corr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ing 'locally' is useful, believe it or no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nfirms that the IP address is correct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8AED6-43F3-430B-B29B-D16634AD281A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istening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 server does not respond, but machine responds to p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ok at system log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server 53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 will run even if it can't open the network por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s will show th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elnet opens a TCP connection, tests whether port was opened at al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B40D7-4676-45D4-968F-E0A1C608E82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s the Server Logging the Right Stuff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voking and examining the log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g files only appear when need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or example, dnssec logs will start only if 'trusted-keys' are configured and are 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ach category is triggered different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iggers may not be obviou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42140-3808-4566-8AC4-75B727FBCA4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sing the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itsel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/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st diagnotic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acket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982EA3-5A59-4D87-9933-FAD2A7040C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t in to name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g to retain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g -c &lt;conf file&gt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in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 -d &lt;level&gt;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ts the debug output volu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&lt;level&gt;'s aren't strictly defi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d 3 is popular, -d 99 gives a lot of detai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A749BC-F0D7-46C2-B506-28E11E7E97CA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internet grop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lready used in examp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est tool for tes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query and response syntax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man di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ig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luded in named distribu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E26A8-D832-4285-A1D3-730238008B6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on-BIND 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ols to make sure environment is righ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look at server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test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ols to see what messages are on the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101C19-1B05-4168-A860-E62B72C230C8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fconfi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Face CONFIGur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config -a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hows the status of interfac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perating system uti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arning, during boot up, ifconfig may configure interfaces after named is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can't open delayed address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cument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man ifconfi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3A585-910E-4870-B0C4-601C930A6059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y Troubleshoot?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Can Go Wrong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zo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serv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sconfigured networ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0D0A9-2836-458D-A46B-77EF89A0BAEA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ecks routing, machine health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ost useful if run from another hos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ould be reason "no servers are reached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be useful on local machine - to see if the interface is properly configu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0BDAD-DAAB-476D-9E26-3E07F66C552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racerout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ping fails, traceroute can help pinpoint where trouble l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problem may be rou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f so - it's not named that needs fixing!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is it important to know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C0D2A-67AA-4610-A5B2-7E7569F73975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cpdump and ethere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ce confident in the environment, problems with DNS set ups may ex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what is happening in the protocol, use traffic sniff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se tools can help debug "forwarding"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thereal can be retrived fro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http://www.ethereal.com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72213-57B7-4CFC-99FE-8FEC140D2FBD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o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Logging Facilit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's built-i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ing and tracerout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cpdump and etherea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g and nslooku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9CBA2-E2E2-4916-AA1D-0E707D23117D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Best Way To Handle Mistak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sume You Will Make The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pare The Name Server via Logg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1D95-3B2A-4FC3-B755-1ADD3BD3EC3F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Logg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ich messages to se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tegory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ling named where to send messag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annel specific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ED54B-41D2-45A9-9C26-64DBD0940EE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ategori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has many catego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rt descriptions of each can be found in the Administrator's Reference Manual (ARM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tion 6.2.10.2, page 49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ategory dnssec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dnssec_log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287309-2E23-4F55-B530-7501039CCF0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channel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use syslo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IND can direct output to other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xample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channel dnssec_log {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file "seclog" versions 3 size 10m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time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categor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print-severity yes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severity debug 3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DECCF7-2DC8-47A1-85F4-B7BA0CAC094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So You've Set Up A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testing should be don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Basic livene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(right) server running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s the machine set up correctly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data being serv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s the zone load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ave zone transfers happened?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BD2614-497F-4BCB-89AD-64720EE0E9E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hecking the Configur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o see named start, use the -g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Keeps named process in the foregrou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ints some diagnostic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does not execute logg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n satisfied with named's start, kill the process and start without the fla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-check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hecks syntax on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A33097-B121-42CE-A336-1AF82193A060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2:28:22Z</dcterms:created>
  <dc:creator>Edward Lewis</dc:creator>
  <dc:description/>
  <dc:language>en-US</dc:language>
  <cp:lastModifiedBy>Marmaduke Wildebeeste</cp:lastModifiedBy>
  <cp:lastPrinted>2003-02-20T01:50:27Z</cp:lastPrinted>
  <dcterms:modified xsi:type="dcterms:W3CDTF">2003-06-01T20:48:57Z</dcterms:modified>
  <cp:revision>30</cp:revision>
  <dc:subject/>
  <dc:title>PowerPoint Presentation  -  Table of Contents</dc:title>
</cp:coreProperties>
</file>