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</p:sldIdLst>
  <p:sldSz cx="9902825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954000" y="685440"/>
            <a:ext cx="4950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F3165-F3BB-4B52-897C-692C229F7C11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B445D-BCAF-49DB-B6BA-CCB29EDE59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©  2002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se slides where produced by Bill Manning (ISI), Ed Lewis (NAI labs) and Olaf M. Kolkman (RIPE NCC)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954000" y="685800"/>
            <a:ext cx="4950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 see ‘DNS and BIND’ Chapter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8407F2-43F2-4E88-B983-8829E34A0A4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B6A88-C82A-4E01-99EB-CE88BE3D2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FA3AF-FD30-4B7C-99D3-5C796860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EAD25-7379-4113-898B-E17575C1F0B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406CA1-469F-4A1F-91AE-0E81CE85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02948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903360" y="160020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15560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02948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903360" y="3948480"/>
            <a:ext cx="273672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DD786-C588-4C05-9A68-58226A659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B8BBA-D7BA-4A48-AB10-115C14C9F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08B359-750F-49FD-A04F-5D26B7453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722680" y="228240"/>
            <a:ext cx="660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6858C8-00C4-4228-BEF4-622AE067FE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8F77BC-153D-4397-ACFE-9E38FC85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510880" y="394848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E34E1-90F5-4895-A69A-74F6A100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10880" y="1600200"/>
            <a:ext cx="414756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55600" y="3948480"/>
            <a:ext cx="8499600" cy="214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F8635-E331-468A-B325-E6BD4B32D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33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8153280" y="6499080"/>
            <a:ext cx="12193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ccecff"/>
                </a:solidFill>
                <a:latin typeface="Arial"/>
              </a:rPr>
              <a:t>Jump to first page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9353520" y="6551640"/>
            <a:ext cx="142920" cy="15408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9601200" y="6553080"/>
            <a:ext cx="142920" cy="15408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0240" bIns="3024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50960" y="6400440"/>
            <a:ext cx="115416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50960" y="6553080"/>
            <a:ext cx="91440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&lt;footer&gt;</a:t>
            </a: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 -</a:t>
            </a:r>
            <a:fld id="{4CB29A58-4AC8-4A31-97C6-CF6AC7B8DAC2}" type="slidenum">
              <a:rPr b="0" lang="en-US" sz="9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1155600" y="1523880"/>
            <a:ext cx="874728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20720" y="1676520"/>
            <a:ext cx="828216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3048120" y="6400440"/>
            <a:ext cx="20635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152280" y="6400440"/>
            <a:ext cx="2887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99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999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4519440" cy="112896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95000" y="1604520"/>
            <a:ext cx="89128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336699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804760" y="456840"/>
            <a:ext cx="6767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Introduction to the DNS system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38520" y="1752120"/>
            <a:ext cx="495144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oe Able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jabley@isc.or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slideset 1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Dynamic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can be updated dynamical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/delete/modify of any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dification of the master database triggers replica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master can be dynamically updat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reates a single point of failur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33747-66C2-4A7F-ABEE-4E318AD22996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Concept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xt slides are about concep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fter this set of slides you should underst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w  the DNS is bui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hy it is built the way it i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terminology used throughout the cour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905D5-251E-4678-AFDF-D870A00CCBB1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1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amespace needs to be made hierarchical to be able to sca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idea is to name objects based on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location (within country, set  of organizations, set of companies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unit within that location (company within set of company, etc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bject within unit (name of person in company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85FD72-6F1C-4439-B870-995192C37CA5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2</a:t>
            </a:r>
            <a:br>
              <a:rPr sz="4800"/>
            </a:b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How names appear in the DNS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ully Qualified Domain Name (FQD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Courier New"/>
              </a:rPr>
              <a:t>WWW.RIPE.NE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abels separated by do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NS provides a mapping from FQDN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used as a key when fetching data in the D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400800" y="2817720"/>
            <a:ext cx="3124080" cy="459000"/>
          </a:xfrm>
          <a:prstGeom prst="rect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Note the trailing dot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6781680" y="2514600"/>
            <a:ext cx="53352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5DC43-1A1F-4BF0-A0EE-0E47D3CAFA5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DNS maps names into data using Resource Record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re detail la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66680" y="3200400"/>
            <a:ext cx="7848720" cy="1371600"/>
          </a:xfrm>
          <a:prstGeom prst="ellipse">
            <a:avLst/>
          </a:prstGeom>
          <a:solidFill>
            <a:srgbClr val="99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3581280"/>
            <a:ext cx="3733920" cy="533520"/>
          </a:xfrm>
          <a:prstGeom prst="ellipse">
            <a:avLst/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449720" y="3581280"/>
            <a:ext cx="700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…    A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6" name=""/>
          <p:cNvSpPr/>
          <p:nvPr/>
        </p:nvSpPr>
        <p:spPr>
          <a:xfrm>
            <a:off x="3508920" y="4849920"/>
            <a:ext cx="28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Address Resourc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952880" y="4190760"/>
            <a:ext cx="914400" cy="6858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212920" y="2944800"/>
            <a:ext cx="270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Arial"/>
              </a:rPr>
              <a:t>Resource Record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2DA4BC-C738-42E6-9048-2B90BF4AD64C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Tree" descr=""/>
          <p:cNvPicPr/>
          <p:nvPr/>
        </p:nvPicPr>
        <p:blipFill>
          <a:blip r:embed="rId1"/>
          <a:stretch/>
        </p:blipFill>
        <p:spPr>
          <a:xfrm>
            <a:off x="0" y="1676520"/>
            <a:ext cx="4191120" cy="44352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NS Names 3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0" y="1600200"/>
            <a:ext cx="50832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 names can be mapped to a tre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ew branches at the ‘dot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restriction to the amount of branche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800" y="2239920"/>
            <a:ext cx="4858920" cy="3706200"/>
            <a:chOff x="1800" y="2239920"/>
            <a:chExt cx="4858920" cy="3706200"/>
          </a:xfrm>
        </p:grpSpPr>
        <p:sp>
          <p:nvSpPr>
            <p:cNvPr id="133" name=""/>
            <p:cNvSpPr/>
            <p:nvPr/>
          </p:nvSpPr>
          <p:spPr>
            <a:xfrm>
              <a:off x="11322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net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8004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com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54200" y="39178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rip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00" y="29862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6440" y="28926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ww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886400" y="49435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edu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725840" y="39178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964600" y="3917880"/>
              <a:ext cx="146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tislab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82520" y="54864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025640" y="30798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disi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13220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1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779840" y="22399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ws2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025280" y="44766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101680" y="438480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963880" y="45705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94080" y="335916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93640" y="354492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617480" y="2706840"/>
              <a:ext cx="3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•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483840" y="2674440"/>
              <a:ext cx="2962440" cy="2982600"/>
              <a:chOff x="483840" y="2674440"/>
              <a:chExt cx="2962440" cy="2982600"/>
            </a:xfrm>
          </p:grpSpPr>
          <p:sp>
            <p:nvSpPr>
              <p:cNvPr id="152" name=""/>
              <p:cNvSpPr/>
              <p:nvPr/>
            </p:nvSpPr>
            <p:spPr>
              <a:xfrm flipH="1" flipV="1">
                <a:off x="3338280" y="332712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flipH="1" flipV="1">
                <a:off x="1507680" y="5377680"/>
                <a:ext cx="48456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V="1">
                <a:off x="2099880" y="547092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V="1">
                <a:off x="2207520" y="5377680"/>
                <a:ext cx="32292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 flipH="1" flipV="1">
                <a:off x="1184040" y="481860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flipH="1" flipV="1">
                <a:off x="968400" y="44456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flipV="1">
                <a:off x="752760" y="388620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flipV="1">
                <a:off x="483840" y="3420360"/>
                <a:ext cx="107640" cy="18648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V="1">
                <a:off x="753120" y="3513240"/>
                <a:ext cx="269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V="1">
                <a:off x="1346040" y="3047400"/>
                <a:ext cx="26892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1507320" y="26744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V="1">
                <a:off x="1776600" y="2674440"/>
                <a:ext cx="161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V="1">
                <a:off x="2153880" y="4818240"/>
                <a:ext cx="0" cy="9324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 flipV="1">
                <a:off x="1991880" y="4352040"/>
                <a:ext cx="10764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flipV="1">
                <a:off x="2800080" y="4911480"/>
                <a:ext cx="215280" cy="18612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flipV="1">
                <a:off x="3123360" y="444600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flipV="1">
                <a:off x="3338640" y="3699720"/>
                <a:ext cx="107640" cy="27936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flipV="1">
                <a:off x="699480" y="3140280"/>
                <a:ext cx="0" cy="466200"/>
              </a:xfrm>
              <a:prstGeom prst="line">
                <a:avLst/>
              </a:prstGeom>
              <a:ln w="38160">
                <a:solidFill>
                  <a:srgbClr val="00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540000" y="25192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ftp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276720" y="4724280"/>
              <a:ext cx="533160" cy="763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V="1">
              <a:off x="3352680" y="4495680"/>
              <a:ext cx="30492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 flipV="1">
              <a:off x="2895480" y="4038480"/>
              <a:ext cx="152640" cy="5335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794040" y="4537080"/>
              <a:ext cx="1843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16400" y="350532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582720" y="47242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5720" y="42670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B36C17-96F3-4FCF-A38C-9F07FC75DEB3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Domai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mains are “name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.com is in the com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low ripe.net is in the ripe.net domain and in the net doma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366480" y="3745080"/>
            <a:ext cx="6243840" cy="2765160"/>
            <a:chOff x="366480" y="3745080"/>
            <a:chExt cx="6243840" cy="2765160"/>
          </a:xfrm>
        </p:grpSpPr>
        <p:sp>
          <p:nvSpPr>
            <p:cNvPr id="181" name=""/>
            <p:cNvSpPr/>
            <p:nvPr/>
          </p:nvSpPr>
          <p:spPr>
            <a:xfrm>
              <a:off x="3701880" y="3745080"/>
              <a:ext cx="2908440" cy="2765160"/>
            </a:xfrm>
            <a:custGeom>
              <a:avLst/>
              <a:gdLst/>
              <a:ahLst/>
              <a:rect l="l" t="t" r="r" b="b"/>
              <a:pathLst>
                <a:path w="1832" h="1742">
                  <a:moveTo>
                    <a:pt x="1268" y="50"/>
                  </a:moveTo>
                  <a:cubicBezTo>
                    <a:pt x="1242" y="41"/>
                    <a:pt x="1220" y="22"/>
                    <a:pt x="1193" y="16"/>
                  </a:cubicBezTo>
                  <a:cubicBezTo>
                    <a:pt x="1163" y="9"/>
                    <a:pt x="1132" y="6"/>
                    <a:pt x="1102" y="0"/>
                  </a:cubicBezTo>
                  <a:cubicBezTo>
                    <a:pt x="1038" y="3"/>
                    <a:pt x="974" y="3"/>
                    <a:pt x="910" y="8"/>
                  </a:cubicBezTo>
                  <a:cubicBezTo>
                    <a:pt x="879" y="10"/>
                    <a:pt x="849" y="34"/>
                    <a:pt x="818" y="41"/>
                  </a:cubicBezTo>
                  <a:cubicBezTo>
                    <a:pt x="740" y="81"/>
                    <a:pt x="737" y="134"/>
                    <a:pt x="677" y="175"/>
                  </a:cubicBezTo>
                  <a:cubicBezTo>
                    <a:pt x="654" y="208"/>
                    <a:pt x="641" y="240"/>
                    <a:pt x="618" y="275"/>
                  </a:cubicBezTo>
                  <a:cubicBezTo>
                    <a:pt x="613" y="283"/>
                    <a:pt x="607" y="292"/>
                    <a:pt x="602" y="300"/>
                  </a:cubicBezTo>
                  <a:cubicBezTo>
                    <a:pt x="596" y="308"/>
                    <a:pt x="585" y="325"/>
                    <a:pt x="585" y="325"/>
                  </a:cubicBezTo>
                  <a:cubicBezTo>
                    <a:pt x="572" y="366"/>
                    <a:pt x="553" y="394"/>
                    <a:pt x="518" y="416"/>
                  </a:cubicBezTo>
                  <a:cubicBezTo>
                    <a:pt x="502" y="466"/>
                    <a:pt x="421" y="553"/>
                    <a:pt x="377" y="583"/>
                  </a:cubicBezTo>
                  <a:cubicBezTo>
                    <a:pt x="364" y="620"/>
                    <a:pt x="302" y="675"/>
                    <a:pt x="302" y="675"/>
                  </a:cubicBezTo>
                  <a:cubicBezTo>
                    <a:pt x="278" y="741"/>
                    <a:pt x="226" y="796"/>
                    <a:pt x="177" y="841"/>
                  </a:cubicBezTo>
                  <a:cubicBezTo>
                    <a:pt x="151" y="865"/>
                    <a:pt x="102" y="916"/>
                    <a:pt x="102" y="916"/>
                  </a:cubicBezTo>
                  <a:cubicBezTo>
                    <a:pt x="87" y="958"/>
                    <a:pt x="64" y="983"/>
                    <a:pt x="27" y="1008"/>
                  </a:cubicBezTo>
                  <a:cubicBezTo>
                    <a:pt x="21" y="1026"/>
                    <a:pt x="3" y="1039"/>
                    <a:pt x="2" y="1058"/>
                  </a:cubicBezTo>
                  <a:cubicBezTo>
                    <a:pt x="1" y="1079"/>
                    <a:pt x="0" y="1193"/>
                    <a:pt x="27" y="1233"/>
                  </a:cubicBezTo>
                  <a:cubicBezTo>
                    <a:pt x="55" y="1274"/>
                    <a:pt x="46" y="1244"/>
                    <a:pt x="77" y="1275"/>
                  </a:cubicBezTo>
                  <a:cubicBezTo>
                    <a:pt x="87" y="1285"/>
                    <a:pt x="92" y="1298"/>
                    <a:pt x="102" y="1308"/>
                  </a:cubicBezTo>
                  <a:cubicBezTo>
                    <a:pt x="151" y="1357"/>
                    <a:pt x="259" y="1425"/>
                    <a:pt x="327" y="1441"/>
                  </a:cubicBezTo>
                  <a:cubicBezTo>
                    <a:pt x="388" y="1483"/>
                    <a:pt x="469" y="1491"/>
                    <a:pt x="535" y="1525"/>
                  </a:cubicBezTo>
                  <a:cubicBezTo>
                    <a:pt x="572" y="1544"/>
                    <a:pt x="608" y="1569"/>
                    <a:pt x="643" y="1592"/>
                  </a:cubicBezTo>
                  <a:cubicBezTo>
                    <a:pt x="648" y="1596"/>
                    <a:pt x="703" y="1610"/>
                    <a:pt x="718" y="1617"/>
                  </a:cubicBezTo>
                  <a:cubicBezTo>
                    <a:pt x="766" y="1641"/>
                    <a:pt x="815" y="1654"/>
                    <a:pt x="868" y="1667"/>
                  </a:cubicBezTo>
                  <a:cubicBezTo>
                    <a:pt x="972" y="1693"/>
                    <a:pt x="932" y="1683"/>
                    <a:pt x="1077" y="1700"/>
                  </a:cubicBezTo>
                  <a:cubicBezTo>
                    <a:pt x="1099" y="1703"/>
                    <a:pt x="1143" y="1708"/>
                    <a:pt x="1143" y="1708"/>
                  </a:cubicBezTo>
                  <a:cubicBezTo>
                    <a:pt x="1186" y="1723"/>
                    <a:pt x="1232" y="1732"/>
                    <a:pt x="1277" y="1742"/>
                  </a:cubicBezTo>
                  <a:cubicBezTo>
                    <a:pt x="1319" y="1739"/>
                    <a:pt x="1361" y="1738"/>
                    <a:pt x="1402" y="1733"/>
                  </a:cubicBezTo>
                  <a:cubicBezTo>
                    <a:pt x="1445" y="1727"/>
                    <a:pt x="1477" y="1711"/>
                    <a:pt x="1518" y="1700"/>
                  </a:cubicBezTo>
                  <a:cubicBezTo>
                    <a:pt x="1591" y="1680"/>
                    <a:pt x="1663" y="1659"/>
                    <a:pt x="1735" y="1633"/>
                  </a:cubicBezTo>
                  <a:cubicBezTo>
                    <a:pt x="1759" y="1609"/>
                    <a:pt x="1778" y="1582"/>
                    <a:pt x="1802" y="1558"/>
                  </a:cubicBezTo>
                  <a:cubicBezTo>
                    <a:pt x="1832" y="1463"/>
                    <a:pt x="1821" y="1518"/>
                    <a:pt x="1810" y="1358"/>
                  </a:cubicBezTo>
                  <a:cubicBezTo>
                    <a:pt x="1805" y="1288"/>
                    <a:pt x="1795" y="1232"/>
                    <a:pt x="1735" y="1191"/>
                  </a:cubicBezTo>
                  <a:cubicBezTo>
                    <a:pt x="1714" y="1161"/>
                    <a:pt x="1647" y="1120"/>
                    <a:pt x="1610" y="1108"/>
                  </a:cubicBezTo>
                  <a:cubicBezTo>
                    <a:pt x="1565" y="1074"/>
                    <a:pt x="1519" y="1041"/>
                    <a:pt x="1468" y="1016"/>
                  </a:cubicBezTo>
                  <a:cubicBezTo>
                    <a:pt x="1442" y="976"/>
                    <a:pt x="1410" y="979"/>
                    <a:pt x="1377" y="950"/>
                  </a:cubicBezTo>
                  <a:cubicBezTo>
                    <a:pt x="1308" y="889"/>
                    <a:pt x="1354" y="910"/>
                    <a:pt x="1302" y="891"/>
                  </a:cubicBezTo>
                  <a:cubicBezTo>
                    <a:pt x="1289" y="872"/>
                    <a:pt x="1280" y="855"/>
                    <a:pt x="1260" y="841"/>
                  </a:cubicBezTo>
                  <a:cubicBezTo>
                    <a:pt x="1217" y="810"/>
                    <a:pt x="1238" y="840"/>
                    <a:pt x="1202" y="808"/>
                  </a:cubicBezTo>
                  <a:cubicBezTo>
                    <a:pt x="1184" y="792"/>
                    <a:pt x="1152" y="758"/>
                    <a:pt x="1152" y="758"/>
                  </a:cubicBezTo>
                  <a:cubicBezTo>
                    <a:pt x="1133" y="670"/>
                    <a:pt x="1132" y="536"/>
                    <a:pt x="1202" y="466"/>
                  </a:cubicBezTo>
                  <a:cubicBezTo>
                    <a:pt x="1205" y="458"/>
                    <a:pt x="1206" y="449"/>
                    <a:pt x="1210" y="441"/>
                  </a:cubicBezTo>
                  <a:cubicBezTo>
                    <a:pt x="1215" y="432"/>
                    <a:pt x="1224" y="425"/>
                    <a:pt x="1227" y="416"/>
                  </a:cubicBezTo>
                  <a:cubicBezTo>
                    <a:pt x="1246" y="364"/>
                    <a:pt x="1246" y="321"/>
                    <a:pt x="1277" y="275"/>
                  </a:cubicBezTo>
                  <a:cubicBezTo>
                    <a:pt x="1296" y="217"/>
                    <a:pt x="1287" y="241"/>
                    <a:pt x="1302" y="200"/>
                  </a:cubicBezTo>
                  <a:cubicBezTo>
                    <a:pt x="1298" y="158"/>
                    <a:pt x="1314" y="105"/>
                    <a:pt x="1285" y="75"/>
                  </a:cubicBezTo>
                  <a:cubicBezTo>
                    <a:pt x="1271" y="61"/>
                    <a:pt x="1216" y="36"/>
                    <a:pt x="1235" y="41"/>
                  </a:cubicBezTo>
                  <a:cubicBezTo>
                    <a:pt x="1246" y="44"/>
                    <a:pt x="1257" y="47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V="1">
              <a:off x="2133720" y="5562360"/>
              <a:ext cx="1600200" cy="7596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66480" y="529740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4" name=""/>
          <p:cNvGrpSpPr/>
          <p:nvPr/>
        </p:nvGrpSpPr>
        <p:grpSpPr>
          <a:xfrm>
            <a:off x="6172200" y="3200400"/>
            <a:ext cx="3973320" cy="2808000"/>
            <a:chOff x="6172200" y="3200400"/>
            <a:chExt cx="3973320" cy="2808000"/>
          </a:xfrm>
        </p:grpSpPr>
        <p:sp>
          <p:nvSpPr>
            <p:cNvPr id="185" name=""/>
            <p:cNvSpPr/>
            <p:nvPr/>
          </p:nvSpPr>
          <p:spPr>
            <a:xfrm>
              <a:off x="6172200" y="3589200"/>
              <a:ext cx="2743200" cy="2419200"/>
            </a:xfrm>
            <a:custGeom>
              <a:avLst/>
              <a:gdLst/>
              <a:ahLst/>
              <a:rect l="l" t="t" r="r" b="b"/>
              <a:pathLst>
                <a:path w="1728" h="1524">
                  <a:moveTo>
                    <a:pt x="756" y="79"/>
                  </a:moveTo>
                  <a:cubicBezTo>
                    <a:pt x="667" y="51"/>
                    <a:pt x="583" y="15"/>
                    <a:pt x="490" y="4"/>
                  </a:cubicBezTo>
                  <a:cubicBezTo>
                    <a:pt x="259" y="14"/>
                    <a:pt x="360" y="0"/>
                    <a:pt x="231" y="46"/>
                  </a:cubicBezTo>
                  <a:cubicBezTo>
                    <a:pt x="216" y="92"/>
                    <a:pt x="209" y="140"/>
                    <a:pt x="198" y="187"/>
                  </a:cubicBezTo>
                  <a:cubicBezTo>
                    <a:pt x="204" y="280"/>
                    <a:pt x="201" y="294"/>
                    <a:pt x="223" y="362"/>
                  </a:cubicBezTo>
                  <a:cubicBezTo>
                    <a:pt x="220" y="384"/>
                    <a:pt x="226" y="410"/>
                    <a:pt x="215" y="429"/>
                  </a:cubicBezTo>
                  <a:cubicBezTo>
                    <a:pt x="205" y="446"/>
                    <a:pt x="165" y="462"/>
                    <a:pt x="165" y="462"/>
                  </a:cubicBezTo>
                  <a:cubicBezTo>
                    <a:pt x="159" y="470"/>
                    <a:pt x="156" y="480"/>
                    <a:pt x="148" y="487"/>
                  </a:cubicBezTo>
                  <a:cubicBezTo>
                    <a:pt x="133" y="500"/>
                    <a:pt x="98" y="521"/>
                    <a:pt x="98" y="521"/>
                  </a:cubicBezTo>
                  <a:cubicBezTo>
                    <a:pt x="86" y="539"/>
                    <a:pt x="66" y="552"/>
                    <a:pt x="56" y="571"/>
                  </a:cubicBezTo>
                  <a:cubicBezTo>
                    <a:pt x="50" y="582"/>
                    <a:pt x="36" y="637"/>
                    <a:pt x="31" y="654"/>
                  </a:cubicBezTo>
                  <a:cubicBezTo>
                    <a:pt x="35" y="693"/>
                    <a:pt x="46" y="732"/>
                    <a:pt x="48" y="771"/>
                  </a:cubicBezTo>
                  <a:cubicBezTo>
                    <a:pt x="54" y="874"/>
                    <a:pt x="0" y="1067"/>
                    <a:pt x="140" y="1112"/>
                  </a:cubicBezTo>
                  <a:cubicBezTo>
                    <a:pt x="168" y="1131"/>
                    <a:pt x="233" y="1162"/>
                    <a:pt x="265" y="1171"/>
                  </a:cubicBezTo>
                  <a:cubicBezTo>
                    <a:pt x="291" y="1179"/>
                    <a:pt x="324" y="1182"/>
                    <a:pt x="348" y="1196"/>
                  </a:cubicBezTo>
                  <a:cubicBezTo>
                    <a:pt x="395" y="1222"/>
                    <a:pt x="429" y="1259"/>
                    <a:pt x="473" y="1287"/>
                  </a:cubicBezTo>
                  <a:cubicBezTo>
                    <a:pt x="497" y="1322"/>
                    <a:pt x="486" y="1357"/>
                    <a:pt x="506" y="1387"/>
                  </a:cubicBezTo>
                  <a:cubicBezTo>
                    <a:pt x="526" y="1417"/>
                    <a:pt x="560" y="1429"/>
                    <a:pt x="590" y="1446"/>
                  </a:cubicBezTo>
                  <a:cubicBezTo>
                    <a:pt x="654" y="1482"/>
                    <a:pt x="735" y="1502"/>
                    <a:pt x="806" y="1521"/>
                  </a:cubicBezTo>
                  <a:cubicBezTo>
                    <a:pt x="837" y="1518"/>
                    <a:pt x="870" y="1524"/>
                    <a:pt x="898" y="1512"/>
                  </a:cubicBezTo>
                  <a:cubicBezTo>
                    <a:pt x="929" y="1499"/>
                    <a:pt x="945" y="1464"/>
                    <a:pt x="973" y="1446"/>
                  </a:cubicBezTo>
                  <a:cubicBezTo>
                    <a:pt x="993" y="1417"/>
                    <a:pt x="993" y="1399"/>
                    <a:pt x="1023" y="1379"/>
                  </a:cubicBezTo>
                  <a:cubicBezTo>
                    <a:pt x="1055" y="1318"/>
                    <a:pt x="1078" y="1265"/>
                    <a:pt x="1090" y="1196"/>
                  </a:cubicBezTo>
                  <a:cubicBezTo>
                    <a:pt x="1094" y="1120"/>
                    <a:pt x="1058" y="1022"/>
                    <a:pt x="1140" y="996"/>
                  </a:cubicBezTo>
                  <a:cubicBezTo>
                    <a:pt x="1148" y="990"/>
                    <a:pt x="1156" y="984"/>
                    <a:pt x="1165" y="979"/>
                  </a:cubicBezTo>
                  <a:cubicBezTo>
                    <a:pt x="1173" y="975"/>
                    <a:pt x="1182" y="975"/>
                    <a:pt x="1190" y="971"/>
                  </a:cubicBezTo>
                  <a:cubicBezTo>
                    <a:pt x="1229" y="949"/>
                    <a:pt x="1253" y="919"/>
                    <a:pt x="1290" y="896"/>
                  </a:cubicBezTo>
                  <a:cubicBezTo>
                    <a:pt x="1313" y="861"/>
                    <a:pt x="1332" y="860"/>
                    <a:pt x="1365" y="837"/>
                  </a:cubicBezTo>
                  <a:cubicBezTo>
                    <a:pt x="1394" y="817"/>
                    <a:pt x="1406" y="799"/>
                    <a:pt x="1440" y="787"/>
                  </a:cubicBezTo>
                  <a:cubicBezTo>
                    <a:pt x="1470" y="757"/>
                    <a:pt x="1506" y="730"/>
                    <a:pt x="1540" y="704"/>
                  </a:cubicBezTo>
                  <a:cubicBezTo>
                    <a:pt x="1556" y="692"/>
                    <a:pt x="1573" y="682"/>
                    <a:pt x="1590" y="671"/>
                  </a:cubicBezTo>
                  <a:cubicBezTo>
                    <a:pt x="1598" y="665"/>
                    <a:pt x="1615" y="654"/>
                    <a:pt x="1615" y="654"/>
                  </a:cubicBezTo>
                  <a:cubicBezTo>
                    <a:pt x="1638" y="618"/>
                    <a:pt x="1673" y="598"/>
                    <a:pt x="1698" y="562"/>
                  </a:cubicBezTo>
                  <a:cubicBezTo>
                    <a:pt x="1706" y="537"/>
                    <a:pt x="1715" y="512"/>
                    <a:pt x="1723" y="487"/>
                  </a:cubicBezTo>
                  <a:cubicBezTo>
                    <a:pt x="1712" y="399"/>
                    <a:pt x="1728" y="441"/>
                    <a:pt x="1681" y="371"/>
                  </a:cubicBezTo>
                  <a:cubicBezTo>
                    <a:pt x="1676" y="363"/>
                    <a:pt x="1674" y="349"/>
                    <a:pt x="1665" y="346"/>
                  </a:cubicBezTo>
                  <a:cubicBezTo>
                    <a:pt x="1603" y="324"/>
                    <a:pt x="1542" y="294"/>
                    <a:pt x="1481" y="271"/>
                  </a:cubicBezTo>
                  <a:cubicBezTo>
                    <a:pt x="1425" y="250"/>
                    <a:pt x="1347" y="251"/>
                    <a:pt x="1290" y="246"/>
                  </a:cubicBezTo>
                  <a:cubicBezTo>
                    <a:pt x="1233" y="226"/>
                    <a:pt x="1291" y="244"/>
                    <a:pt x="1181" y="229"/>
                  </a:cubicBezTo>
                  <a:cubicBezTo>
                    <a:pt x="1136" y="223"/>
                    <a:pt x="1091" y="202"/>
                    <a:pt x="1048" y="187"/>
                  </a:cubicBezTo>
                  <a:cubicBezTo>
                    <a:pt x="999" y="170"/>
                    <a:pt x="947" y="163"/>
                    <a:pt x="898" y="146"/>
                  </a:cubicBezTo>
                  <a:cubicBezTo>
                    <a:pt x="851" y="130"/>
                    <a:pt x="785" y="121"/>
                    <a:pt x="756" y="79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flipV="1">
              <a:off x="7497720" y="3541320"/>
              <a:ext cx="609840" cy="22860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8169480" y="3200400"/>
              <a:ext cx="1976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747360" y="4230720"/>
            <a:ext cx="5735880" cy="2081160"/>
            <a:chOff x="747360" y="4230720"/>
            <a:chExt cx="5735880" cy="2081160"/>
          </a:xfrm>
        </p:grpSpPr>
        <p:sp>
          <p:nvSpPr>
            <p:cNvPr id="189" name=""/>
            <p:cNvSpPr/>
            <p:nvPr/>
          </p:nvSpPr>
          <p:spPr>
            <a:xfrm>
              <a:off x="3809880" y="4432320"/>
              <a:ext cx="2673360" cy="1879560"/>
            </a:xfrm>
            <a:custGeom>
              <a:avLst/>
              <a:gdLst/>
              <a:ahLst/>
              <a:rect l="l" t="t" r="r" b="b"/>
              <a:pathLst>
                <a:path w="1684" h="1184">
                  <a:moveTo>
                    <a:pt x="900" y="25"/>
                  </a:moveTo>
                  <a:cubicBezTo>
                    <a:pt x="820" y="0"/>
                    <a:pt x="751" y="11"/>
                    <a:pt x="667" y="17"/>
                  </a:cubicBezTo>
                  <a:cubicBezTo>
                    <a:pt x="627" y="27"/>
                    <a:pt x="597" y="46"/>
                    <a:pt x="559" y="58"/>
                  </a:cubicBezTo>
                  <a:cubicBezTo>
                    <a:pt x="514" y="125"/>
                    <a:pt x="542" y="97"/>
                    <a:pt x="475" y="142"/>
                  </a:cubicBezTo>
                  <a:cubicBezTo>
                    <a:pt x="448" y="160"/>
                    <a:pt x="432" y="194"/>
                    <a:pt x="409" y="217"/>
                  </a:cubicBezTo>
                  <a:cubicBezTo>
                    <a:pt x="403" y="234"/>
                    <a:pt x="404" y="255"/>
                    <a:pt x="392" y="267"/>
                  </a:cubicBezTo>
                  <a:cubicBezTo>
                    <a:pt x="367" y="292"/>
                    <a:pt x="326" y="314"/>
                    <a:pt x="292" y="325"/>
                  </a:cubicBezTo>
                  <a:cubicBezTo>
                    <a:pt x="275" y="336"/>
                    <a:pt x="259" y="347"/>
                    <a:pt x="242" y="358"/>
                  </a:cubicBezTo>
                  <a:cubicBezTo>
                    <a:pt x="234" y="364"/>
                    <a:pt x="232" y="376"/>
                    <a:pt x="225" y="383"/>
                  </a:cubicBezTo>
                  <a:cubicBezTo>
                    <a:pt x="218" y="390"/>
                    <a:pt x="208" y="394"/>
                    <a:pt x="200" y="400"/>
                  </a:cubicBezTo>
                  <a:cubicBezTo>
                    <a:pt x="190" y="416"/>
                    <a:pt x="188" y="437"/>
                    <a:pt x="175" y="450"/>
                  </a:cubicBezTo>
                  <a:cubicBezTo>
                    <a:pt x="161" y="464"/>
                    <a:pt x="125" y="483"/>
                    <a:pt x="125" y="483"/>
                  </a:cubicBezTo>
                  <a:cubicBezTo>
                    <a:pt x="120" y="500"/>
                    <a:pt x="114" y="516"/>
                    <a:pt x="109" y="533"/>
                  </a:cubicBezTo>
                  <a:cubicBezTo>
                    <a:pt x="106" y="541"/>
                    <a:pt x="107" y="553"/>
                    <a:pt x="100" y="558"/>
                  </a:cubicBezTo>
                  <a:cubicBezTo>
                    <a:pt x="81" y="571"/>
                    <a:pt x="56" y="568"/>
                    <a:pt x="34" y="575"/>
                  </a:cubicBezTo>
                  <a:cubicBezTo>
                    <a:pt x="16" y="587"/>
                    <a:pt x="0" y="591"/>
                    <a:pt x="0" y="617"/>
                  </a:cubicBezTo>
                  <a:cubicBezTo>
                    <a:pt x="0" y="659"/>
                    <a:pt x="2" y="701"/>
                    <a:pt x="9" y="742"/>
                  </a:cubicBezTo>
                  <a:cubicBezTo>
                    <a:pt x="13" y="766"/>
                    <a:pt x="63" y="797"/>
                    <a:pt x="75" y="800"/>
                  </a:cubicBezTo>
                  <a:cubicBezTo>
                    <a:pt x="144" y="816"/>
                    <a:pt x="208" y="829"/>
                    <a:pt x="275" y="850"/>
                  </a:cubicBezTo>
                  <a:cubicBezTo>
                    <a:pt x="315" y="908"/>
                    <a:pt x="298" y="883"/>
                    <a:pt x="325" y="925"/>
                  </a:cubicBezTo>
                  <a:cubicBezTo>
                    <a:pt x="326" y="927"/>
                    <a:pt x="393" y="948"/>
                    <a:pt x="400" y="950"/>
                  </a:cubicBezTo>
                  <a:cubicBezTo>
                    <a:pt x="431" y="971"/>
                    <a:pt x="465" y="979"/>
                    <a:pt x="500" y="992"/>
                  </a:cubicBezTo>
                  <a:cubicBezTo>
                    <a:pt x="590" y="986"/>
                    <a:pt x="641" y="985"/>
                    <a:pt x="717" y="958"/>
                  </a:cubicBezTo>
                  <a:cubicBezTo>
                    <a:pt x="737" y="929"/>
                    <a:pt x="751" y="920"/>
                    <a:pt x="784" y="908"/>
                  </a:cubicBezTo>
                  <a:cubicBezTo>
                    <a:pt x="844" y="921"/>
                    <a:pt x="838" y="924"/>
                    <a:pt x="850" y="983"/>
                  </a:cubicBezTo>
                  <a:cubicBezTo>
                    <a:pt x="853" y="1028"/>
                    <a:pt x="849" y="1073"/>
                    <a:pt x="859" y="1117"/>
                  </a:cubicBezTo>
                  <a:cubicBezTo>
                    <a:pt x="861" y="1127"/>
                    <a:pt x="900" y="1141"/>
                    <a:pt x="909" y="1142"/>
                  </a:cubicBezTo>
                  <a:cubicBezTo>
                    <a:pt x="951" y="1146"/>
                    <a:pt x="992" y="1148"/>
                    <a:pt x="1034" y="1150"/>
                  </a:cubicBezTo>
                  <a:cubicBezTo>
                    <a:pt x="1103" y="1154"/>
                    <a:pt x="1173" y="1156"/>
                    <a:pt x="1242" y="1159"/>
                  </a:cubicBezTo>
                  <a:cubicBezTo>
                    <a:pt x="1314" y="1168"/>
                    <a:pt x="1389" y="1165"/>
                    <a:pt x="1459" y="1184"/>
                  </a:cubicBezTo>
                  <a:cubicBezTo>
                    <a:pt x="1501" y="1181"/>
                    <a:pt x="1542" y="1180"/>
                    <a:pt x="1584" y="1175"/>
                  </a:cubicBezTo>
                  <a:cubicBezTo>
                    <a:pt x="1612" y="1172"/>
                    <a:pt x="1659" y="1134"/>
                    <a:pt x="1659" y="1134"/>
                  </a:cubicBezTo>
                  <a:cubicBezTo>
                    <a:pt x="1667" y="1122"/>
                    <a:pt x="1684" y="1099"/>
                    <a:pt x="1684" y="1083"/>
                  </a:cubicBezTo>
                  <a:cubicBezTo>
                    <a:pt x="1684" y="1036"/>
                    <a:pt x="1682" y="989"/>
                    <a:pt x="1675" y="942"/>
                  </a:cubicBezTo>
                  <a:cubicBezTo>
                    <a:pt x="1668" y="895"/>
                    <a:pt x="1548" y="855"/>
                    <a:pt x="1509" y="833"/>
                  </a:cubicBezTo>
                  <a:cubicBezTo>
                    <a:pt x="1470" y="811"/>
                    <a:pt x="1445" y="783"/>
                    <a:pt x="1409" y="758"/>
                  </a:cubicBezTo>
                  <a:cubicBezTo>
                    <a:pt x="1388" y="726"/>
                    <a:pt x="1368" y="717"/>
                    <a:pt x="1334" y="700"/>
                  </a:cubicBezTo>
                  <a:cubicBezTo>
                    <a:pt x="1319" y="678"/>
                    <a:pt x="1315" y="645"/>
                    <a:pt x="1300" y="625"/>
                  </a:cubicBezTo>
                  <a:cubicBezTo>
                    <a:pt x="1276" y="594"/>
                    <a:pt x="1232" y="557"/>
                    <a:pt x="1200" y="533"/>
                  </a:cubicBezTo>
                  <a:cubicBezTo>
                    <a:pt x="1184" y="521"/>
                    <a:pt x="1164" y="514"/>
                    <a:pt x="1150" y="500"/>
                  </a:cubicBezTo>
                  <a:cubicBezTo>
                    <a:pt x="1125" y="475"/>
                    <a:pt x="1108" y="461"/>
                    <a:pt x="1075" y="450"/>
                  </a:cubicBezTo>
                  <a:cubicBezTo>
                    <a:pt x="1038" y="425"/>
                    <a:pt x="1015" y="400"/>
                    <a:pt x="1000" y="358"/>
                  </a:cubicBezTo>
                  <a:cubicBezTo>
                    <a:pt x="998" y="295"/>
                    <a:pt x="1056" y="101"/>
                    <a:pt x="950" y="67"/>
                  </a:cubicBezTo>
                  <a:cubicBezTo>
                    <a:pt x="915" y="43"/>
                    <a:pt x="937" y="54"/>
                    <a:pt x="900" y="42"/>
                  </a:cubicBezTo>
                  <a:cubicBezTo>
                    <a:pt x="892" y="39"/>
                    <a:pt x="875" y="42"/>
                    <a:pt x="875" y="33"/>
                  </a:cubicBezTo>
                  <a:cubicBezTo>
                    <a:pt x="875" y="24"/>
                    <a:pt x="892" y="28"/>
                    <a:pt x="900" y="25"/>
                  </a:cubicBezTo>
                  <a:close/>
                </a:path>
              </a:pathLst>
            </a:custGeom>
            <a:solidFill>
              <a:srgbClr val="99ff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 flipV="1">
              <a:off x="2209320" y="4724280"/>
              <a:ext cx="2057400" cy="6098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47360" y="4230720"/>
              <a:ext cx="245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3809880" y="3197880"/>
            <a:ext cx="5013360" cy="3053160"/>
            <a:chOff x="3809880" y="3197880"/>
            <a:chExt cx="5013360" cy="3053160"/>
          </a:xfrm>
        </p:grpSpPr>
        <p:grpSp>
          <p:nvGrpSpPr>
            <p:cNvPr id="193" name=""/>
            <p:cNvGrpSpPr/>
            <p:nvPr/>
          </p:nvGrpSpPr>
          <p:grpSpPr>
            <a:xfrm>
              <a:off x="3809880" y="3197880"/>
              <a:ext cx="4586040" cy="3053160"/>
              <a:chOff x="3809880" y="3197880"/>
              <a:chExt cx="4586040" cy="3053160"/>
            </a:xfrm>
          </p:grpSpPr>
          <p:sp>
            <p:nvSpPr>
              <p:cNvPr id="194" name=""/>
              <p:cNvSpPr/>
              <p:nvPr/>
            </p:nvSpPr>
            <p:spPr>
              <a:xfrm>
                <a:off x="502884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6476760" y="35816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571640" y="44197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3809880" y="52578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010280" y="54104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790960" y="36576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5562360" y="449604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933960" y="441972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flipV="1">
                <a:off x="5425920" y="5483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800240" y="518184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582120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105160" y="57913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flipV="1">
                <a:off x="4435200" y="4797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flipV="1">
                <a:off x="586872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flipV="1">
                <a:off x="6873840" y="39596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V="1">
                <a:off x="7240320" y="49503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V="1">
                <a:off x="4878360" y="403596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V="1">
                <a:off x="5868720" y="31975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4419000" y="3505320"/>
                <a:ext cx="2971800" cy="2438280"/>
                <a:chOff x="4419000" y="3505320"/>
                <a:chExt cx="2971800" cy="2438280"/>
              </a:xfrm>
            </p:grpSpPr>
            <p:sp>
              <p:nvSpPr>
                <p:cNvPr id="213" name=""/>
                <p:cNvSpPr/>
                <p:nvPr/>
              </p:nvSpPr>
              <p:spPr>
                <a:xfrm flipH="1">
                  <a:off x="7282800" y="52578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 flipH="1">
                  <a:off x="5445720" y="350532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0080" y="35809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6148080" y="350532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>
                  <a:off x="5121360" y="4038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>
                  <a:off x="4905000" y="4343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 flipH="1">
                  <a:off x="4689360" y="480060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H="1">
                  <a:off x="4419000" y="518112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4689360" y="510552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5283720" y="54864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 flipH="1">
                  <a:off x="5445360" y="57913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5716080" y="579132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6094440" y="411444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931720" y="441972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6742800" y="396252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7066800" y="426708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7282800" y="487692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4635360" y="518148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1" name=""/>
              <p:cNvSpPr/>
              <p:nvPr/>
            </p:nvSpPr>
            <p:spPr>
              <a:xfrm>
                <a:off x="42670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32" name=""/>
            <p:cNvSpPr/>
            <p:nvPr/>
          </p:nvSpPr>
          <p:spPr>
            <a:xfrm>
              <a:off x="7086600" y="419112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6705720" y="426708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6858000" y="426708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74000" y="434340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50320" y="480060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545240" y="40384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785B3-25CC-4EED-A6F4-17E71A7AEF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dministrators can create subdomains to group hos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ccording to geography, organizational affiliation or any other criterion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n administrator of a domain can delegate responsibility for managing a subdomain to someone el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But this isn’t required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parent domain retains links to the delegated subdomain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The parent domain “remembers” who it delegated the subdomain to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4A94E-55B1-47F2-92CA-8EB63E903F47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0" name=""/>
          <p:cNvGrpSpPr/>
          <p:nvPr/>
        </p:nvGrpSpPr>
        <p:grpSpPr>
          <a:xfrm>
            <a:off x="1128600" y="4040280"/>
            <a:ext cx="5950080" cy="2817720"/>
            <a:chOff x="1128600" y="4040280"/>
            <a:chExt cx="5950080" cy="2817720"/>
          </a:xfrm>
        </p:grpSpPr>
        <p:sp>
          <p:nvSpPr>
            <p:cNvPr id="241" name=""/>
            <p:cNvSpPr/>
            <p:nvPr/>
          </p:nvSpPr>
          <p:spPr>
            <a:xfrm>
              <a:off x="4259520" y="4040280"/>
              <a:ext cx="2819160" cy="2817720"/>
            </a:xfrm>
            <a:custGeom>
              <a:avLst/>
              <a:gdLst/>
              <a:ahLst/>
              <a:rect l="l" t="t" r="r" b="b"/>
              <a:pathLst>
                <a:path w="1776" h="1775">
                  <a:moveTo>
                    <a:pt x="1268" y="50"/>
                  </a:moveTo>
                  <a:cubicBezTo>
                    <a:pt x="1220" y="35"/>
                    <a:pt x="1176" y="30"/>
                    <a:pt x="1126" y="25"/>
                  </a:cubicBezTo>
                  <a:cubicBezTo>
                    <a:pt x="1101" y="17"/>
                    <a:pt x="1076" y="8"/>
                    <a:pt x="1051" y="0"/>
                  </a:cubicBezTo>
                  <a:cubicBezTo>
                    <a:pt x="979" y="6"/>
                    <a:pt x="958" y="7"/>
                    <a:pt x="901" y="25"/>
                  </a:cubicBezTo>
                  <a:cubicBezTo>
                    <a:pt x="841" y="64"/>
                    <a:pt x="870" y="53"/>
                    <a:pt x="818" y="67"/>
                  </a:cubicBezTo>
                  <a:cubicBezTo>
                    <a:pt x="774" y="95"/>
                    <a:pt x="722" y="94"/>
                    <a:pt x="676" y="117"/>
                  </a:cubicBezTo>
                  <a:cubicBezTo>
                    <a:pt x="646" y="132"/>
                    <a:pt x="601" y="183"/>
                    <a:pt x="601" y="183"/>
                  </a:cubicBezTo>
                  <a:cubicBezTo>
                    <a:pt x="588" y="225"/>
                    <a:pt x="550" y="247"/>
                    <a:pt x="526" y="283"/>
                  </a:cubicBezTo>
                  <a:cubicBezTo>
                    <a:pt x="519" y="306"/>
                    <a:pt x="512" y="342"/>
                    <a:pt x="493" y="358"/>
                  </a:cubicBezTo>
                  <a:cubicBezTo>
                    <a:pt x="486" y="364"/>
                    <a:pt x="476" y="363"/>
                    <a:pt x="468" y="367"/>
                  </a:cubicBezTo>
                  <a:cubicBezTo>
                    <a:pt x="428" y="389"/>
                    <a:pt x="403" y="411"/>
                    <a:pt x="359" y="425"/>
                  </a:cubicBezTo>
                  <a:cubicBezTo>
                    <a:pt x="353" y="458"/>
                    <a:pt x="350" y="491"/>
                    <a:pt x="326" y="517"/>
                  </a:cubicBezTo>
                  <a:cubicBezTo>
                    <a:pt x="302" y="543"/>
                    <a:pt x="251" y="592"/>
                    <a:pt x="251" y="592"/>
                  </a:cubicBezTo>
                  <a:cubicBezTo>
                    <a:pt x="248" y="603"/>
                    <a:pt x="232" y="661"/>
                    <a:pt x="226" y="667"/>
                  </a:cubicBezTo>
                  <a:cubicBezTo>
                    <a:pt x="220" y="673"/>
                    <a:pt x="209" y="672"/>
                    <a:pt x="201" y="675"/>
                  </a:cubicBezTo>
                  <a:cubicBezTo>
                    <a:pt x="186" y="685"/>
                    <a:pt x="166" y="689"/>
                    <a:pt x="151" y="700"/>
                  </a:cubicBezTo>
                  <a:cubicBezTo>
                    <a:pt x="138" y="709"/>
                    <a:pt x="130" y="723"/>
                    <a:pt x="118" y="733"/>
                  </a:cubicBezTo>
                  <a:cubicBezTo>
                    <a:pt x="19" y="813"/>
                    <a:pt x="105" y="730"/>
                    <a:pt x="43" y="792"/>
                  </a:cubicBezTo>
                  <a:cubicBezTo>
                    <a:pt x="2" y="907"/>
                    <a:pt x="25" y="1046"/>
                    <a:pt x="9" y="1167"/>
                  </a:cubicBezTo>
                  <a:cubicBezTo>
                    <a:pt x="13" y="1225"/>
                    <a:pt x="0" y="1289"/>
                    <a:pt x="26" y="1342"/>
                  </a:cubicBezTo>
                  <a:cubicBezTo>
                    <a:pt x="43" y="1377"/>
                    <a:pt x="126" y="1493"/>
                    <a:pt x="159" y="1517"/>
                  </a:cubicBezTo>
                  <a:cubicBezTo>
                    <a:pt x="183" y="1534"/>
                    <a:pt x="198" y="1535"/>
                    <a:pt x="226" y="1542"/>
                  </a:cubicBezTo>
                  <a:cubicBezTo>
                    <a:pt x="256" y="1563"/>
                    <a:pt x="387" y="1614"/>
                    <a:pt x="426" y="1617"/>
                  </a:cubicBezTo>
                  <a:cubicBezTo>
                    <a:pt x="479" y="1622"/>
                    <a:pt x="531" y="1622"/>
                    <a:pt x="584" y="1625"/>
                  </a:cubicBezTo>
                  <a:cubicBezTo>
                    <a:pt x="637" y="1639"/>
                    <a:pt x="608" y="1628"/>
                    <a:pt x="668" y="1667"/>
                  </a:cubicBezTo>
                  <a:cubicBezTo>
                    <a:pt x="688" y="1680"/>
                    <a:pt x="728" y="1686"/>
                    <a:pt x="751" y="1692"/>
                  </a:cubicBezTo>
                  <a:cubicBezTo>
                    <a:pt x="847" y="1758"/>
                    <a:pt x="974" y="1730"/>
                    <a:pt x="1084" y="1734"/>
                  </a:cubicBezTo>
                  <a:cubicBezTo>
                    <a:pt x="1168" y="1741"/>
                    <a:pt x="1244" y="1762"/>
                    <a:pt x="1326" y="1775"/>
                  </a:cubicBezTo>
                  <a:cubicBezTo>
                    <a:pt x="1426" y="1767"/>
                    <a:pt x="1492" y="1747"/>
                    <a:pt x="1584" y="1717"/>
                  </a:cubicBezTo>
                  <a:cubicBezTo>
                    <a:pt x="1617" y="1695"/>
                    <a:pt x="1655" y="1679"/>
                    <a:pt x="1693" y="1667"/>
                  </a:cubicBezTo>
                  <a:cubicBezTo>
                    <a:pt x="1717" y="1630"/>
                    <a:pt x="1714" y="1600"/>
                    <a:pt x="1751" y="1575"/>
                  </a:cubicBezTo>
                  <a:cubicBezTo>
                    <a:pt x="1760" y="1562"/>
                    <a:pt x="1776" y="1543"/>
                    <a:pt x="1776" y="1525"/>
                  </a:cubicBezTo>
                  <a:cubicBezTo>
                    <a:pt x="1776" y="1494"/>
                    <a:pt x="1772" y="1463"/>
                    <a:pt x="1768" y="1433"/>
                  </a:cubicBezTo>
                  <a:cubicBezTo>
                    <a:pt x="1763" y="1400"/>
                    <a:pt x="1738" y="1382"/>
                    <a:pt x="1718" y="1358"/>
                  </a:cubicBezTo>
                  <a:cubicBezTo>
                    <a:pt x="1675" y="1307"/>
                    <a:pt x="1624" y="1289"/>
                    <a:pt x="1568" y="1258"/>
                  </a:cubicBezTo>
                  <a:cubicBezTo>
                    <a:pt x="1487" y="1213"/>
                    <a:pt x="1547" y="1234"/>
                    <a:pt x="1493" y="1217"/>
                  </a:cubicBezTo>
                  <a:cubicBezTo>
                    <a:pt x="1423" y="1169"/>
                    <a:pt x="1374" y="1087"/>
                    <a:pt x="1293" y="1058"/>
                  </a:cubicBezTo>
                  <a:cubicBezTo>
                    <a:pt x="1254" y="1029"/>
                    <a:pt x="1223" y="996"/>
                    <a:pt x="1193" y="958"/>
                  </a:cubicBezTo>
                  <a:cubicBezTo>
                    <a:pt x="1181" y="942"/>
                    <a:pt x="1170" y="925"/>
                    <a:pt x="1159" y="908"/>
                  </a:cubicBezTo>
                  <a:cubicBezTo>
                    <a:pt x="1154" y="900"/>
                    <a:pt x="1143" y="883"/>
                    <a:pt x="1143" y="883"/>
                  </a:cubicBezTo>
                  <a:cubicBezTo>
                    <a:pt x="1134" y="843"/>
                    <a:pt x="1123" y="805"/>
                    <a:pt x="1109" y="767"/>
                  </a:cubicBezTo>
                  <a:cubicBezTo>
                    <a:pt x="1115" y="637"/>
                    <a:pt x="1068" y="517"/>
                    <a:pt x="1201" y="475"/>
                  </a:cubicBezTo>
                  <a:cubicBezTo>
                    <a:pt x="1209" y="469"/>
                    <a:pt x="1217" y="463"/>
                    <a:pt x="1226" y="458"/>
                  </a:cubicBezTo>
                  <a:cubicBezTo>
                    <a:pt x="1234" y="454"/>
                    <a:pt x="1244" y="455"/>
                    <a:pt x="1251" y="450"/>
                  </a:cubicBezTo>
                  <a:cubicBezTo>
                    <a:pt x="1294" y="422"/>
                    <a:pt x="1311" y="371"/>
                    <a:pt x="1326" y="325"/>
                  </a:cubicBezTo>
                  <a:cubicBezTo>
                    <a:pt x="1334" y="265"/>
                    <a:pt x="1341" y="189"/>
                    <a:pt x="1309" y="133"/>
                  </a:cubicBezTo>
                  <a:cubicBezTo>
                    <a:pt x="1265" y="55"/>
                    <a:pt x="1283" y="113"/>
                    <a:pt x="1268" y="50"/>
                  </a:cubicBezTo>
                  <a:close/>
                </a:path>
              </a:pathLst>
            </a:custGeom>
            <a:solidFill>
              <a:srgbClr val="ccecff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2819520" y="4394160"/>
              <a:ext cx="2362320" cy="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128600" y="4205160"/>
              <a:ext cx="1806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domai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Zones and Delegatio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s are “administrative spaces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administrators are responsible for portion of a domain’s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uthority is delegated from a parent and to a chil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763200" y="4595760"/>
            <a:ext cx="5164560" cy="1919160"/>
            <a:chOff x="763200" y="4595760"/>
            <a:chExt cx="5164560" cy="1919160"/>
          </a:xfrm>
        </p:grpSpPr>
        <p:sp>
          <p:nvSpPr>
            <p:cNvPr id="247" name=""/>
            <p:cNvSpPr/>
            <p:nvPr/>
          </p:nvSpPr>
          <p:spPr>
            <a:xfrm>
              <a:off x="4380120" y="4595760"/>
              <a:ext cx="1547640" cy="1919160"/>
            </a:xfrm>
            <a:custGeom>
              <a:avLst/>
              <a:gdLst/>
              <a:ahLst/>
              <a:rect l="l" t="t" r="r" b="b"/>
              <a:pathLst>
                <a:path w="975" h="1209">
                  <a:moveTo>
                    <a:pt x="908" y="92"/>
                  </a:moveTo>
                  <a:cubicBezTo>
                    <a:pt x="905" y="81"/>
                    <a:pt x="908" y="67"/>
                    <a:pt x="900" y="58"/>
                  </a:cubicBezTo>
                  <a:cubicBezTo>
                    <a:pt x="853" y="4"/>
                    <a:pt x="755" y="9"/>
                    <a:pt x="692" y="0"/>
                  </a:cubicBezTo>
                  <a:cubicBezTo>
                    <a:pt x="663" y="7"/>
                    <a:pt x="636" y="16"/>
                    <a:pt x="608" y="25"/>
                  </a:cubicBezTo>
                  <a:cubicBezTo>
                    <a:pt x="589" y="54"/>
                    <a:pt x="593" y="90"/>
                    <a:pt x="575" y="117"/>
                  </a:cubicBezTo>
                  <a:cubicBezTo>
                    <a:pt x="559" y="141"/>
                    <a:pt x="520" y="162"/>
                    <a:pt x="500" y="175"/>
                  </a:cubicBezTo>
                  <a:cubicBezTo>
                    <a:pt x="480" y="188"/>
                    <a:pt x="467" y="208"/>
                    <a:pt x="450" y="225"/>
                  </a:cubicBezTo>
                  <a:cubicBezTo>
                    <a:pt x="436" y="239"/>
                    <a:pt x="417" y="275"/>
                    <a:pt x="417" y="275"/>
                  </a:cubicBezTo>
                  <a:cubicBezTo>
                    <a:pt x="405" y="320"/>
                    <a:pt x="388" y="351"/>
                    <a:pt x="342" y="367"/>
                  </a:cubicBezTo>
                  <a:cubicBezTo>
                    <a:pt x="334" y="375"/>
                    <a:pt x="327" y="386"/>
                    <a:pt x="317" y="392"/>
                  </a:cubicBezTo>
                  <a:cubicBezTo>
                    <a:pt x="310" y="397"/>
                    <a:pt x="299" y="395"/>
                    <a:pt x="292" y="400"/>
                  </a:cubicBezTo>
                  <a:cubicBezTo>
                    <a:pt x="284" y="406"/>
                    <a:pt x="281" y="417"/>
                    <a:pt x="275" y="425"/>
                  </a:cubicBezTo>
                  <a:cubicBezTo>
                    <a:pt x="267" y="434"/>
                    <a:pt x="259" y="443"/>
                    <a:pt x="250" y="450"/>
                  </a:cubicBezTo>
                  <a:cubicBezTo>
                    <a:pt x="226" y="468"/>
                    <a:pt x="200" y="483"/>
                    <a:pt x="175" y="500"/>
                  </a:cubicBezTo>
                  <a:cubicBezTo>
                    <a:pt x="131" y="530"/>
                    <a:pt x="120" y="587"/>
                    <a:pt x="75" y="617"/>
                  </a:cubicBezTo>
                  <a:cubicBezTo>
                    <a:pt x="53" y="650"/>
                    <a:pt x="59" y="683"/>
                    <a:pt x="42" y="717"/>
                  </a:cubicBezTo>
                  <a:cubicBezTo>
                    <a:pt x="31" y="739"/>
                    <a:pt x="17" y="750"/>
                    <a:pt x="0" y="767"/>
                  </a:cubicBezTo>
                  <a:cubicBezTo>
                    <a:pt x="3" y="834"/>
                    <a:pt x="1" y="901"/>
                    <a:pt x="8" y="967"/>
                  </a:cubicBezTo>
                  <a:cubicBezTo>
                    <a:pt x="11" y="993"/>
                    <a:pt x="75" y="1008"/>
                    <a:pt x="75" y="1008"/>
                  </a:cubicBezTo>
                  <a:cubicBezTo>
                    <a:pt x="106" y="1029"/>
                    <a:pt x="139" y="1039"/>
                    <a:pt x="175" y="1050"/>
                  </a:cubicBezTo>
                  <a:cubicBezTo>
                    <a:pt x="211" y="1074"/>
                    <a:pt x="224" y="1111"/>
                    <a:pt x="267" y="1125"/>
                  </a:cubicBezTo>
                  <a:cubicBezTo>
                    <a:pt x="324" y="1164"/>
                    <a:pt x="298" y="1153"/>
                    <a:pt x="342" y="1167"/>
                  </a:cubicBezTo>
                  <a:cubicBezTo>
                    <a:pt x="394" y="1202"/>
                    <a:pt x="455" y="1203"/>
                    <a:pt x="517" y="1209"/>
                  </a:cubicBezTo>
                  <a:cubicBezTo>
                    <a:pt x="553" y="1206"/>
                    <a:pt x="590" y="1209"/>
                    <a:pt x="625" y="1200"/>
                  </a:cubicBezTo>
                  <a:cubicBezTo>
                    <a:pt x="644" y="1195"/>
                    <a:pt x="675" y="1167"/>
                    <a:pt x="675" y="1167"/>
                  </a:cubicBezTo>
                  <a:cubicBezTo>
                    <a:pt x="684" y="1140"/>
                    <a:pt x="717" y="1092"/>
                    <a:pt x="717" y="1092"/>
                  </a:cubicBezTo>
                  <a:cubicBezTo>
                    <a:pt x="740" y="1020"/>
                    <a:pt x="749" y="940"/>
                    <a:pt x="692" y="883"/>
                  </a:cubicBezTo>
                  <a:cubicBezTo>
                    <a:pt x="668" y="816"/>
                    <a:pt x="660" y="854"/>
                    <a:pt x="675" y="758"/>
                  </a:cubicBezTo>
                  <a:cubicBezTo>
                    <a:pt x="676" y="749"/>
                    <a:pt x="678" y="740"/>
                    <a:pt x="683" y="733"/>
                  </a:cubicBezTo>
                  <a:cubicBezTo>
                    <a:pt x="700" y="712"/>
                    <a:pt x="737" y="709"/>
                    <a:pt x="758" y="692"/>
                  </a:cubicBezTo>
                  <a:cubicBezTo>
                    <a:pt x="785" y="670"/>
                    <a:pt x="796" y="645"/>
                    <a:pt x="825" y="625"/>
                  </a:cubicBezTo>
                  <a:cubicBezTo>
                    <a:pt x="843" y="598"/>
                    <a:pt x="865" y="577"/>
                    <a:pt x="883" y="550"/>
                  </a:cubicBezTo>
                  <a:cubicBezTo>
                    <a:pt x="883" y="548"/>
                    <a:pt x="895" y="477"/>
                    <a:pt x="900" y="467"/>
                  </a:cubicBezTo>
                  <a:cubicBezTo>
                    <a:pt x="909" y="449"/>
                    <a:pt x="922" y="434"/>
                    <a:pt x="933" y="417"/>
                  </a:cubicBezTo>
                  <a:cubicBezTo>
                    <a:pt x="939" y="409"/>
                    <a:pt x="950" y="392"/>
                    <a:pt x="950" y="392"/>
                  </a:cubicBezTo>
                  <a:cubicBezTo>
                    <a:pt x="975" y="315"/>
                    <a:pt x="971" y="236"/>
                    <a:pt x="950" y="158"/>
                  </a:cubicBezTo>
                  <a:cubicBezTo>
                    <a:pt x="945" y="138"/>
                    <a:pt x="940" y="123"/>
                    <a:pt x="925" y="108"/>
                  </a:cubicBezTo>
                  <a:cubicBezTo>
                    <a:pt x="907" y="91"/>
                    <a:pt x="888" y="92"/>
                    <a:pt x="908" y="92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286000" y="5232240"/>
              <a:ext cx="2286000" cy="3808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763200" y="48495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3735720" y="3632040"/>
            <a:ext cx="2501640" cy="990720"/>
            <a:chOff x="3735720" y="3632040"/>
            <a:chExt cx="2501640" cy="990720"/>
          </a:xfrm>
        </p:grpSpPr>
        <p:sp>
          <p:nvSpPr>
            <p:cNvPr id="251" name=""/>
            <p:cNvSpPr/>
            <p:nvPr/>
          </p:nvSpPr>
          <p:spPr>
            <a:xfrm>
              <a:off x="4968720" y="3971880"/>
              <a:ext cx="609840" cy="30492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735720" y="3632040"/>
              <a:ext cx="1416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497560" y="4060800"/>
              <a:ext cx="739800" cy="561960"/>
            </a:xfrm>
            <a:custGeom>
              <a:avLst/>
              <a:gdLst/>
              <a:ahLst/>
              <a:rect l="l" t="t" r="r" b="b"/>
              <a:pathLst>
                <a:path w="466" h="354">
                  <a:moveTo>
                    <a:pt x="425" y="84"/>
                  </a:moveTo>
                  <a:cubicBezTo>
                    <a:pt x="405" y="55"/>
                    <a:pt x="391" y="45"/>
                    <a:pt x="358" y="34"/>
                  </a:cubicBezTo>
                  <a:cubicBezTo>
                    <a:pt x="311" y="2"/>
                    <a:pt x="288" y="7"/>
                    <a:pt x="225" y="1"/>
                  </a:cubicBezTo>
                  <a:cubicBezTo>
                    <a:pt x="189" y="4"/>
                    <a:pt x="151" y="0"/>
                    <a:pt x="116" y="9"/>
                  </a:cubicBezTo>
                  <a:cubicBezTo>
                    <a:pt x="88" y="16"/>
                    <a:pt x="68" y="41"/>
                    <a:pt x="41" y="51"/>
                  </a:cubicBezTo>
                  <a:cubicBezTo>
                    <a:pt x="22" y="109"/>
                    <a:pt x="31" y="85"/>
                    <a:pt x="16" y="126"/>
                  </a:cubicBezTo>
                  <a:cubicBezTo>
                    <a:pt x="9" y="193"/>
                    <a:pt x="0" y="202"/>
                    <a:pt x="33" y="251"/>
                  </a:cubicBezTo>
                  <a:cubicBezTo>
                    <a:pt x="60" y="336"/>
                    <a:pt x="209" y="337"/>
                    <a:pt x="275" y="342"/>
                  </a:cubicBezTo>
                  <a:cubicBezTo>
                    <a:pt x="345" y="337"/>
                    <a:pt x="389" y="354"/>
                    <a:pt x="425" y="301"/>
                  </a:cubicBezTo>
                  <a:cubicBezTo>
                    <a:pt x="430" y="284"/>
                    <a:pt x="435" y="267"/>
                    <a:pt x="441" y="251"/>
                  </a:cubicBezTo>
                  <a:cubicBezTo>
                    <a:pt x="444" y="243"/>
                    <a:pt x="447" y="234"/>
                    <a:pt x="450" y="226"/>
                  </a:cubicBezTo>
                  <a:cubicBezTo>
                    <a:pt x="456" y="209"/>
                    <a:pt x="466" y="176"/>
                    <a:pt x="466" y="176"/>
                  </a:cubicBezTo>
                  <a:cubicBezTo>
                    <a:pt x="462" y="150"/>
                    <a:pt x="464" y="120"/>
                    <a:pt x="441" y="101"/>
                  </a:cubicBezTo>
                  <a:cubicBezTo>
                    <a:pt x="420" y="84"/>
                    <a:pt x="406" y="101"/>
                    <a:pt x="425" y="84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4" name=""/>
          <p:cNvGrpSpPr/>
          <p:nvPr/>
        </p:nvGrpSpPr>
        <p:grpSpPr>
          <a:xfrm>
            <a:off x="610560" y="5583240"/>
            <a:ext cx="6539400" cy="1182600"/>
            <a:chOff x="610560" y="5583240"/>
            <a:chExt cx="6539400" cy="1182600"/>
          </a:xfrm>
        </p:grpSpPr>
        <p:sp>
          <p:nvSpPr>
            <p:cNvPr id="255" name=""/>
            <p:cNvSpPr/>
            <p:nvPr/>
          </p:nvSpPr>
          <p:spPr>
            <a:xfrm>
              <a:off x="5380200" y="558324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743200" y="622296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10560" y="584028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4343400" y="3637800"/>
            <a:ext cx="4922280" cy="3014280"/>
            <a:chOff x="4343400" y="3637800"/>
            <a:chExt cx="4922280" cy="3014280"/>
          </a:xfrm>
        </p:grpSpPr>
        <p:grpSp>
          <p:nvGrpSpPr>
            <p:cNvPr id="259" name=""/>
            <p:cNvGrpSpPr/>
            <p:nvPr/>
          </p:nvGrpSpPr>
          <p:grpSpPr>
            <a:xfrm>
              <a:off x="4343400" y="3637800"/>
              <a:ext cx="4586040" cy="3014280"/>
              <a:chOff x="4343400" y="3637800"/>
              <a:chExt cx="4586040" cy="3014280"/>
            </a:xfrm>
          </p:grpSpPr>
          <p:sp>
            <p:nvSpPr>
              <p:cNvPr id="260" name=""/>
              <p:cNvSpPr/>
              <p:nvPr/>
            </p:nvSpPr>
            <p:spPr>
              <a:xfrm>
                <a:off x="556236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10280" y="40132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5105160" y="485136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343400" y="56894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7543800" y="58420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324480" y="40892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6095880" y="492768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7467480" y="4851360"/>
                <a:ext cx="146196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flipV="1">
                <a:off x="5974200" y="5923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333760" y="5613480"/>
                <a:ext cx="91440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635472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638680" y="622296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flipV="1">
                <a:off x="4983480" y="52380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flipV="1">
                <a:off x="641700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flipV="1">
                <a:off x="7422120" y="439992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flipV="1">
                <a:off x="7788600" y="53906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flipV="1">
                <a:off x="5426640" y="447624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flipV="1">
                <a:off x="6417000" y="3637800"/>
                <a:ext cx="3484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4952520" y="3936960"/>
                <a:ext cx="2971800" cy="2438280"/>
                <a:chOff x="4952520" y="3936960"/>
                <a:chExt cx="2971800" cy="2438280"/>
              </a:xfrm>
            </p:grpSpPr>
            <p:sp>
              <p:nvSpPr>
                <p:cNvPr id="279" name=""/>
                <p:cNvSpPr/>
                <p:nvPr/>
              </p:nvSpPr>
              <p:spPr>
                <a:xfrm flipH="1">
                  <a:off x="7816320" y="56894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flipH="1">
                  <a:off x="5979240" y="393696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573600" y="401256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6681600" y="393696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3" name=""/>
                <p:cNvSpPr/>
                <p:nvPr/>
              </p:nvSpPr>
              <p:spPr>
                <a:xfrm flipH="1">
                  <a:off x="5654880" y="4469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 flipH="1">
                  <a:off x="5438520" y="477504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 flipH="1">
                  <a:off x="5222880" y="523224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 flipH="1">
                  <a:off x="4952520" y="561276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5222880" y="553716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817240" y="591804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 flipH="1">
                  <a:off x="5978880" y="62229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6249600" y="622296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6627960" y="454608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 flipH="1">
                  <a:off x="6465240" y="485136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7276320" y="439416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7600320" y="469872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5" name=""/>
                <p:cNvSpPr/>
                <p:nvPr/>
              </p:nvSpPr>
              <p:spPr>
                <a:xfrm>
                  <a:off x="7816320" y="530856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5168880" y="561312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7" name=""/>
              <p:cNvSpPr/>
              <p:nvPr/>
            </p:nvSpPr>
            <p:spPr>
              <a:xfrm>
                <a:off x="4800600" y="5918040"/>
                <a:ext cx="7318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2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298" name=""/>
            <p:cNvSpPr/>
            <p:nvPr/>
          </p:nvSpPr>
          <p:spPr>
            <a:xfrm>
              <a:off x="7620120" y="4622760"/>
              <a:ext cx="53352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7239240" y="4698720"/>
              <a:ext cx="30456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7391520" y="4698720"/>
              <a:ext cx="15228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707520" y="4797360"/>
              <a:ext cx="68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783120" y="5254560"/>
              <a:ext cx="851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8079120" y="4492440"/>
              <a:ext cx="11865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2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D528CF-F421-4281-BD06-B215DB6A8567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 servers answer ‘DNS’ question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ral types of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master (prim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slave (secondary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Caching) recursive serv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also caching forwarder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ixture of functionalit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E0E14-9042-40C5-9DF7-492DAA83377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urpose of nam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resses are used to locate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ames are easier to remember than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would like to get to the address or other objects using a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NS provides a mapping from names to resources of several typ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17EA27-64DC-4257-8D5D-BA5240D60A0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am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ive authoritative answers for one or more zon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master server normally loads the data from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lave server normally replicates the data from the master via a zone transf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71600" y="4876920"/>
            <a:ext cx="457200" cy="7617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81080" y="5257800"/>
            <a:ext cx="38124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2438280" y="4648320"/>
            <a:ext cx="609480" cy="1371600"/>
            <a:chOff x="2438280" y="4648320"/>
            <a:chExt cx="609480" cy="1371600"/>
          </a:xfrm>
        </p:grpSpPr>
        <p:sp>
          <p:nvSpPr>
            <p:cNvPr id="311" name=""/>
            <p:cNvSpPr/>
            <p:nvPr/>
          </p:nvSpPr>
          <p:spPr>
            <a:xfrm>
              <a:off x="2438280" y="46483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514240" y="50292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2742840" y="51814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6934320" y="4114800"/>
            <a:ext cx="609480" cy="1371600"/>
            <a:chOff x="6934320" y="4114800"/>
            <a:chExt cx="609480" cy="1371600"/>
          </a:xfrm>
        </p:grpSpPr>
        <p:sp>
          <p:nvSpPr>
            <p:cNvPr id="315" name=""/>
            <p:cNvSpPr/>
            <p:nvPr/>
          </p:nvSpPr>
          <p:spPr>
            <a:xfrm>
              <a:off x="6934320" y="41148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10280" y="44956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238880" y="46479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3809880" y="4648320"/>
            <a:ext cx="1981440" cy="1295280"/>
          </a:xfrm>
          <a:custGeom>
            <a:avLst/>
            <a:gdLst/>
            <a:ahLst/>
            <a:rect l="l" t="t" r="r" b="b"/>
            <a:pathLst>
              <a:path w="1581" h="1169">
                <a:moveTo>
                  <a:pt x="623" y="152"/>
                </a:moveTo>
                <a:cubicBezTo>
                  <a:pt x="587" y="133"/>
                  <a:pt x="549" y="124"/>
                  <a:pt x="515" y="102"/>
                </a:cubicBezTo>
                <a:cubicBezTo>
                  <a:pt x="380" y="113"/>
                  <a:pt x="444" y="98"/>
                  <a:pt x="365" y="152"/>
                </a:cubicBezTo>
                <a:cubicBezTo>
                  <a:pt x="330" y="203"/>
                  <a:pt x="291" y="188"/>
                  <a:pt x="223" y="193"/>
                </a:cubicBezTo>
                <a:cubicBezTo>
                  <a:pt x="155" y="217"/>
                  <a:pt x="173" y="221"/>
                  <a:pt x="165" y="310"/>
                </a:cubicBezTo>
                <a:cubicBezTo>
                  <a:pt x="134" y="303"/>
                  <a:pt x="123" y="295"/>
                  <a:pt x="90" y="310"/>
                </a:cubicBezTo>
                <a:cubicBezTo>
                  <a:pt x="72" y="318"/>
                  <a:pt x="40" y="343"/>
                  <a:pt x="40" y="343"/>
                </a:cubicBezTo>
                <a:cubicBezTo>
                  <a:pt x="28" y="376"/>
                  <a:pt x="18" y="410"/>
                  <a:pt x="6" y="443"/>
                </a:cubicBezTo>
                <a:cubicBezTo>
                  <a:pt x="15" y="540"/>
                  <a:pt x="0" y="559"/>
                  <a:pt x="81" y="585"/>
                </a:cubicBezTo>
                <a:cubicBezTo>
                  <a:pt x="106" y="582"/>
                  <a:pt x="131" y="581"/>
                  <a:pt x="156" y="577"/>
                </a:cubicBezTo>
                <a:cubicBezTo>
                  <a:pt x="165" y="576"/>
                  <a:pt x="179" y="559"/>
                  <a:pt x="181" y="568"/>
                </a:cubicBezTo>
                <a:cubicBezTo>
                  <a:pt x="191" y="612"/>
                  <a:pt x="126" y="664"/>
                  <a:pt x="106" y="693"/>
                </a:cubicBezTo>
                <a:cubicBezTo>
                  <a:pt x="77" y="784"/>
                  <a:pt x="80" y="880"/>
                  <a:pt x="173" y="910"/>
                </a:cubicBezTo>
                <a:cubicBezTo>
                  <a:pt x="181" y="916"/>
                  <a:pt x="189" y="923"/>
                  <a:pt x="198" y="927"/>
                </a:cubicBezTo>
                <a:cubicBezTo>
                  <a:pt x="214" y="934"/>
                  <a:pt x="248" y="943"/>
                  <a:pt x="248" y="943"/>
                </a:cubicBezTo>
                <a:cubicBezTo>
                  <a:pt x="306" y="924"/>
                  <a:pt x="282" y="933"/>
                  <a:pt x="323" y="918"/>
                </a:cubicBezTo>
                <a:cubicBezTo>
                  <a:pt x="390" y="964"/>
                  <a:pt x="332" y="1021"/>
                  <a:pt x="365" y="1060"/>
                </a:cubicBezTo>
                <a:cubicBezTo>
                  <a:pt x="376" y="1074"/>
                  <a:pt x="398" y="1071"/>
                  <a:pt x="415" y="1077"/>
                </a:cubicBezTo>
                <a:cubicBezTo>
                  <a:pt x="462" y="1074"/>
                  <a:pt x="510" y="1057"/>
                  <a:pt x="556" y="1068"/>
                </a:cubicBezTo>
                <a:cubicBezTo>
                  <a:pt x="576" y="1073"/>
                  <a:pt x="579" y="1102"/>
                  <a:pt x="590" y="1119"/>
                </a:cubicBezTo>
                <a:cubicBezTo>
                  <a:pt x="609" y="1148"/>
                  <a:pt x="659" y="1158"/>
                  <a:pt x="690" y="1169"/>
                </a:cubicBezTo>
                <a:cubicBezTo>
                  <a:pt x="743" y="1163"/>
                  <a:pt x="783" y="1160"/>
                  <a:pt x="831" y="1144"/>
                </a:cubicBezTo>
                <a:cubicBezTo>
                  <a:pt x="848" y="1133"/>
                  <a:pt x="874" y="1129"/>
                  <a:pt x="881" y="1110"/>
                </a:cubicBezTo>
                <a:cubicBezTo>
                  <a:pt x="891" y="1083"/>
                  <a:pt x="906" y="1062"/>
                  <a:pt x="915" y="1035"/>
                </a:cubicBezTo>
                <a:cubicBezTo>
                  <a:pt x="918" y="1027"/>
                  <a:pt x="917" y="1016"/>
                  <a:pt x="923" y="1010"/>
                </a:cubicBezTo>
                <a:cubicBezTo>
                  <a:pt x="929" y="1004"/>
                  <a:pt x="940" y="1005"/>
                  <a:pt x="948" y="1002"/>
                </a:cubicBezTo>
                <a:cubicBezTo>
                  <a:pt x="1062" y="1012"/>
                  <a:pt x="1050" y="1019"/>
                  <a:pt x="1140" y="1052"/>
                </a:cubicBezTo>
                <a:cubicBezTo>
                  <a:pt x="1170" y="1098"/>
                  <a:pt x="1221" y="1150"/>
                  <a:pt x="1273" y="1169"/>
                </a:cubicBezTo>
                <a:cubicBezTo>
                  <a:pt x="1282" y="1167"/>
                  <a:pt x="1332" y="1161"/>
                  <a:pt x="1348" y="1152"/>
                </a:cubicBezTo>
                <a:cubicBezTo>
                  <a:pt x="1366" y="1142"/>
                  <a:pt x="1398" y="1119"/>
                  <a:pt x="1398" y="1119"/>
                </a:cubicBezTo>
                <a:cubicBezTo>
                  <a:pt x="1430" y="1069"/>
                  <a:pt x="1427" y="1083"/>
                  <a:pt x="1440" y="1043"/>
                </a:cubicBezTo>
                <a:cubicBezTo>
                  <a:pt x="1446" y="1026"/>
                  <a:pt x="1456" y="993"/>
                  <a:pt x="1456" y="993"/>
                </a:cubicBezTo>
                <a:cubicBezTo>
                  <a:pt x="1453" y="951"/>
                  <a:pt x="1455" y="909"/>
                  <a:pt x="1448" y="868"/>
                </a:cubicBezTo>
                <a:cubicBezTo>
                  <a:pt x="1446" y="858"/>
                  <a:pt x="1429" y="853"/>
                  <a:pt x="1431" y="843"/>
                </a:cubicBezTo>
                <a:cubicBezTo>
                  <a:pt x="1433" y="833"/>
                  <a:pt x="1474" y="820"/>
                  <a:pt x="1481" y="818"/>
                </a:cubicBezTo>
                <a:cubicBezTo>
                  <a:pt x="1498" y="812"/>
                  <a:pt x="1531" y="802"/>
                  <a:pt x="1531" y="802"/>
                </a:cubicBezTo>
                <a:cubicBezTo>
                  <a:pt x="1563" y="755"/>
                  <a:pt x="1581" y="632"/>
                  <a:pt x="1531" y="610"/>
                </a:cubicBezTo>
                <a:cubicBezTo>
                  <a:pt x="1513" y="602"/>
                  <a:pt x="1492" y="605"/>
                  <a:pt x="1473" y="602"/>
                </a:cubicBezTo>
                <a:cubicBezTo>
                  <a:pt x="1434" y="545"/>
                  <a:pt x="1477" y="482"/>
                  <a:pt x="1456" y="418"/>
                </a:cubicBezTo>
                <a:cubicBezTo>
                  <a:pt x="1448" y="393"/>
                  <a:pt x="1390" y="377"/>
                  <a:pt x="1390" y="377"/>
                </a:cubicBezTo>
                <a:cubicBezTo>
                  <a:pt x="1359" y="380"/>
                  <a:pt x="1328" y="390"/>
                  <a:pt x="1298" y="385"/>
                </a:cubicBezTo>
                <a:cubicBezTo>
                  <a:pt x="1289" y="384"/>
                  <a:pt x="1290" y="369"/>
                  <a:pt x="1290" y="360"/>
                </a:cubicBezTo>
                <a:cubicBezTo>
                  <a:pt x="1290" y="316"/>
                  <a:pt x="1288" y="270"/>
                  <a:pt x="1298" y="227"/>
                </a:cubicBezTo>
                <a:cubicBezTo>
                  <a:pt x="1302" y="208"/>
                  <a:pt x="1331" y="177"/>
                  <a:pt x="1331" y="177"/>
                </a:cubicBezTo>
                <a:cubicBezTo>
                  <a:pt x="1313" y="122"/>
                  <a:pt x="1282" y="111"/>
                  <a:pt x="1231" y="93"/>
                </a:cubicBezTo>
                <a:cubicBezTo>
                  <a:pt x="1185" y="106"/>
                  <a:pt x="1162" y="131"/>
                  <a:pt x="1131" y="85"/>
                </a:cubicBezTo>
                <a:cubicBezTo>
                  <a:pt x="1128" y="77"/>
                  <a:pt x="1129" y="66"/>
                  <a:pt x="1123" y="60"/>
                </a:cubicBezTo>
                <a:cubicBezTo>
                  <a:pt x="1109" y="46"/>
                  <a:pt x="1073" y="27"/>
                  <a:pt x="1073" y="27"/>
                </a:cubicBezTo>
                <a:cubicBezTo>
                  <a:pt x="1011" y="33"/>
                  <a:pt x="980" y="21"/>
                  <a:pt x="948" y="68"/>
                </a:cubicBezTo>
                <a:cubicBezTo>
                  <a:pt x="945" y="76"/>
                  <a:pt x="949" y="93"/>
                  <a:pt x="940" y="93"/>
                </a:cubicBezTo>
                <a:cubicBezTo>
                  <a:pt x="931" y="93"/>
                  <a:pt x="935" y="76"/>
                  <a:pt x="931" y="68"/>
                </a:cubicBezTo>
                <a:cubicBezTo>
                  <a:pt x="916" y="37"/>
                  <a:pt x="920" y="44"/>
                  <a:pt x="890" y="35"/>
                </a:cubicBezTo>
                <a:cubicBezTo>
                  <a:pt x="839" y="0"/>
                  <a:pt x="780" y="17"/>
                  <a:pt x="723" y="35"/>
                </a:cubicBezTo>
                <a:cubicBezTo>
                  <a:pt x="693" y="56"/>
                  <a:pt x="696" y="73"/>
                  <a:pt x="665" y="93"/>
                </a:cubicBezTo>
                <a:cubicBezTo>
                  <a:pt x="629" y="146"/>
                  <a:pt x="644" y="128"/>
                  <a:pt x="623" y="15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0099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200400" y="5181480"/>
            <a:ext cx="838080" cy="763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5410080" y="4572000"/>
            <a:ext cx="1524240" cy="3808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6172200" y="5486400"/>
            <a:ext cx="609480" cy="1371600"/>
            <a:chOff x="6172200" y="5486400"/>
            <a:chExt cx="609480" cy="1371600"/>
          </a:xfrm>
        </p:grpSpPr>
        <p:sp>
          <p:nvSpPr>
            <p:cNvPr id="322" name=""/>
            <p:cNvSpPr/>
            <p:nvPr/>
          </p:nvSpPr>
          <p:spPr>
            <a:xfrm>
              <a:off x="6172200" y="548640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248160" y="586728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476760" y="601956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5562720" y="5791320"/>
            <a:ext cx="533160" cy="304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041920" y="6060960"/>
            <a:ext cx="99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mast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754488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783120" y="64008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slave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FD2AD-ADD6-4BAC-8353-91489EAF49F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Name Server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cursive server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cursive servers do the actual lookups; they ask questions to the DNS on behalf of the clients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obtained from authoritative servers but the answers forwarded to the clients are marked as not authoritativ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swers are stored for future reference in the cach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9645D8-0AAC-4207-9319-4C561005B5C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ask the questions to the DNS system on behalf of the application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rmally implemented in a system library (e.g, libc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name(char *nam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10000"/>
                </a:solidFill>
                <a:latin typeface="Courier New"/>
              </a:rPr>
              <a:t>gethostbyaddr(char *addr, int len, type);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874E4-F3B5-469B-98F8-BB8D534AFD7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lving process &amp; Cach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34" name=""/>
          <p:cNvSpPr/>
          <p:nvPr/>
        </p:nvSpPr>
        <p:spPr>
          <a:xfrm>
            <a:off x="152280" y="2895480"/>
            <a:ext cx="121932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ol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1371600" y="297180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990720" y="16765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stion: www.ripe.net A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1434960" y="266688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19520" y="2743200"/>
            <a:ext cx="1752480" cy="12952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ching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ward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recursive)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400800" y="190512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oot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767120" y="20574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4572000" y="2057040"/>
            <a:ext cx="1752480" cy="10666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4572000" y="2209680"/>
            <a:ext cx="1752480" cy="106704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664600" y="2590920"/>
            <a:ext cx="302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net server @ X.gtld-servers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400800" y="3429000"/>
            <a:ext cx="2666880" cy="45720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ld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40200" y="33066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572000" y="3581280"/>
            <a:ext cx="160020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892760" y="3962520"/>
            <a:ext cx="26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sk ripe server @ ns.ripe.net (+ glue)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4648320" y="3733920"/>
            <a:ext cx="175248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248520" y="5334120"/>
            <a:ext cx="2666880" cy="53316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-server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4419720" y="4114800"/>
            <a:ext cx="1752480" cy="12952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H="1" flipV="1">
            <a:off x="4267080" y="4114800"/>
            <a:ext cx="1905120" cy="1447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297400" y="457200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ww.ripe.net A ?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421160" y="487692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525320" y="3200400"/>
            <a:ext cx="98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192.168.5.10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 flipH="1">
            <a:off x="1371600" y="3124080"/>
            <a:ext cx="1447920" cy="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111480" y="4038480"/>
            <a:ext cx="622440" cy="470160"/>
          </a:xfrm>
          <a:custGeom>
            <a:avLst/>
            <a:gdLst/>
            <a:ahLst/>
            <a:rect l="l" t="t" r="r" b="b"/>
            <a:pathLst>
              <a:path w="392" h="296">
                <a:moveTo>
                  <a:pt x="56" y="0"/>
                </a:moveTo>
                <a:cubicBezTo>
                  <a:pt x="28" y="140"/>
                  <a:pt x="0" y="280"/>
                  <a:pt x="56" y="288"/>
                </a:cubicBezTo>
                <a:cubicBezTo>
                  <a:pt x="112" y="296"/>
                  <a:pt x="252" y="172"/>
                  <a:pt x="392" y="48"/>
                </a:cubicBezTo>
              </a:path>
            </a:pathLst>
          </a:custGeom>
          <a:noFill/>
          <a:ln w="38160">
            <a:solidFill>
              <a:srgbClr val="009999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573640" y="4495680"/>
            <a:ext cx="102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dd to cach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694A-E197-41D2-94BF-B958D51D0F71}" type="slidenum">
              <a:t>2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urce records consist of it’s name, it’s TTL, it’s class, it’s type and it’s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ing parame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class is widest u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ultiple types of RR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verything behind the type identifier is called r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Resource Records (more detail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0" name=""/>
          <p:cNvSpPr/>
          <p:nvPr/>
        </p:nvSpPr>
        <p:spPr>
          <a:xfrm>
            <a:off x="5257800" y="4952880"/>
            <a:ext cx="73836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172200" y="4952880"/>
            <a:ext cx="3808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7074000" y="4952880"/>
            <a:ext cx="222228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114800" y="4952880"/>
            <a:ext cx="843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47800" y="4952880"/>
            <a:ext cx="2886120" cy="532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1373760" y="5791320"/>
            <a:ext cx="70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be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1828800" y="5486040"/>
            <a:ext cx="492120" cy="3049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3581280" y="5715000"/>
            <a:ext cx="654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183280" y="601992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479280" y="579132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9211680" y="561672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data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 flipV="1">
            <a:off x="4114800" y="5486400"/>
            <a:ext cx="316080" cy="2649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V="1">
            <a:off x="5562720" y="5410080"/>
            <a:ext cx="0" cy="53208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6324480" y="5409720"/>
            <a:ext cx="31752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8445600" y="5351040"/>
            <a:ext cx="738000" cy="39852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840240" y="4952880"/>
            <a:ext cx="850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Courier New"/>
              </a:rPr>
              <a:t>www.ripe.net.  3600  IN  A   10.10.10.2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113EF4-8309-423D-9E28-DDBCA03B4C95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6" name=""/>
          <p:cNvGrpSpPr/>
          <p:nvPr/>
        </p:nvGrpSpPr>
        <p:grpSpPr>
          <a:xfrm>
            <a:off x="611640" y="5486400"/>
            <a:ext cx="6924600" cy="718200"/>
            <a:chOff x="611640" y="5486400"/>
            <a:chExt cx="6924600" cy="718200"/>
          </a:xfrm>
        </p:grpSpPr>
        <p:sp>
          <p:nvSpPr>
            <p:cNvPr id="377" name=""/>
            <p:cNvSpPr/>
            <p:nvPr/>
          </p:nvSpPr>
          <p:spPr>
            <a:xfrm>
              <a:off x="37335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419360" y="5486400"/>
              <a:ext cx="53352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410080" y="5486400"/>
              <a:ext cx="17524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047760" y="5486400"/>
              <a:ext cx="60984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14400" y="5486400"/>
              <a:ext cx="1981080" cy="30492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611640" y="5867280"/>
              <a:ext cx="70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Labe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838080" y="5714640"/>
              <a:ext cx="6858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2743200" y="5867280"/>
              <a:ext cx="473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tl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583080" y="5867280"/>
              <a:ext cx="688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class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650480" y="5867280"/>
              <a:ext cx="59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ype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60160" y="5867280"/>
              <a:ext cx="67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rdata</a:t>
              </a:r>
              <a:endParaRPr b="0" lang="en-US" sz="16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V="1">
              <a:off x="3047760" y="5714640"/>
              <a:ext cx="228600" cy="1522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V="1">
              <a:off x="3962160" y="5638320"/>
              <a:ext cx="0" cy="3049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 flipV="1">
              <a:off x="4647600" y="5714640"/>
              <a:ext cx="22860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 flipV="1">
              <a:off x="6400440" y="5714640"/>
              <a:ext cx="533160" cy="22860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837720" y="1523520"/>
            <a:ext cx="855036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IN      SOA     ns.ripe.net.    olaf.ripe.net. (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2001061501     ; Serial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43200  ; Refresh 1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14400  ; Retry 4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345600 ; Expire 4 day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7200 ; Negative cache 2 hour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)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pinkje.ripe.net. 3600  IN    A       193.0.1.162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host25.ripe.net. 2600  IN    A       193.0.3.25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Example: RRs in a zone fil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14DDB-BDFC-458F-A434-40B98742A6A7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 and 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and NS records are used to provide information about the DNS itself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NS indicates where information about a given zone can be foun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SOA record provides information about the start of authority, i.e. the top of the zone, also called the APEX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02360" y="3505320"/>
            <a:ext cx="7861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ripe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ripe.net. 7200  IN    NS      ns.eu.net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3D427-56A2-4B76-A430-D70458F70EE6}" type="slidenum">
              <a:t>2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Resource Record: SO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398" name=""/>
          <p:cNvGrpSpPr/>
          <p:nvPr/>
        </p:nvGrpSpPr>
        <p:grpSpPr>
          <a:xfrm>
            <a:off x="4724280" y="3657600"/>
            <a:ext cx="4020120" cy="2482200"/>
            <a:chOff x="4724280" y="3657600"/>
            <a:chExt cx="4020120" cy="2482200"/>
          </a:xfrm>
        </p:grpSpPr>
        <p:sp>
          <p:nvSpPr>
            <p:cNvPr id="399" name=""/>
            <p:cNvSpPr/>
            <p:nvPr/>
          </p:nvSpPr>
          <p:spPr>
            <a:xfrm>
              <a:off x="4724280" y="3657600"/>
              <a:ext cx="3810240" cy="114300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 flipV="1">
              <a:off x="6476760" y="4571640"/>
              <a:ext cx="228600" cy="10666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004800" y="5680080"/>
              <a:ext cx="273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Timing paramet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2" name=""/>
          <p:cNvGrpSpPr/>
          <p:nvPr/>
        </p:nvGrpSpPr>
        <p:grpSpPr>
          <a:xfrm>
            <a:off x="2666880" y="1868400"/>
            <a:ext cx="3139920" cy="1484280"/>
            <a:chOff x="2666880" y="1868400"/>
            <a:chExt cx="3139920" cy="1484280"/>
          </a:xfrm>
        </p:grpSpPr>
        <p:sp>
          <p:nvSpPr>
            <p:cNvPr id="403" name=""/>
            <p:cNvSpPr/>
            <p:nvPr/>
          </p:nvSpPr>
          <p:spPr>
            <a:xfrm>
              <a:off x="2666880" y="3048120"/>
              <a:ext cx="2819520" cy="30456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643200" y="1868400"/>
              <a:ext cx="216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Master serv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90760" y="2438280"/>
              <a:ext cx="7596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5486400" y="1944720"/>
            <a:ext cx="3696480" cy="1407960"/>
            <a:chOff x="5486400" y="1944720"/>
            <a:chExt cx="3696480" cy="1407960"/>
          </a:xfrm>
        </p:grpSpPr>
        <p:sp>
          <p:nvSpPr>
            <p:cNvPr id="407" name=""/>
            <p:cNvSpPr/>
            <p:nvPr/>
          </p:nvSpPr>
          <p:spPr>
            <a:xfrm>
              <a:off x="5486400" y="3048120"/>
              <a:ext cx="3276720" cy="304560"/>
            </a:xfrm>
            <a:prstGeom prst="rect">
              <a:avLst/>
            </a:prstGeom>
            <a:solidFill>
              <a:srgbClr val="ff9966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615720" y="1944720"/>
              <a:ext cx="2567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ntact addres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7010280" y="2438280"/>
              <a:ext cx="533520" cy="60984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824760" y="3352680"/>
            <a:ext cx="7709760" cy="1337760"/>
            <a:chOff x="824760" y="3352680"/>
            <a:chExt cx="7709760" cy="1337760"/>
          </a:xfrm>
        </p:grpSpPr>
        <p:sp>
          <p:nvSpPr>
            <p:cNvPr id="411" name=""/>
            <p:cNvSpPr/>
            <p:nvPr/>
          </p:nvSpPr>
          <p:spPr>
            <a:xfrm>
              <a:off x="4724280" y="3352680"/>
              <a:ext cx="3810240" cy="304920"/>
            </a:xfrm>
            <a:prstGeom prst="rect">
              <a:avLst/>
            </a:prstGeom>
            <a:solidFill>
              <a:srgbClr val="99ff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824760" y="4230720"/>
              <a:ext cx="250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Version number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V="1">
              <a:off x="3429000" y="3505320"/>
              <a:ext cx="1447920" cy="838080"/>
            </a:xfrm>
            <a:prstGeom prst="line">
              <a:avLst/>
            </a:prstGeom>
            <a:ln w="572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14" name=""/>
          <p:cNvSpPr/>
          <p:nvPr/>
        </p:nvSpPr>
        <p:spPr>
          <a:xfrm>
            <a:off x="305640" y="3048120"/>
            <a:ext cx="88218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et. 3600 IN SOA  A.GTLD-SERVERS.net. nstld.verisign-grs.com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5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D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8290080" y="1870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53F10B-A854-49B1-BFCD-754D8DAF14BE}" type="slidenum">
              <a:t>2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TTL and other Timer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TL is a timer used in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n indication for how long the data may be reu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ata that is expected to be ‘stable’ can have high TTL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re used for maintaining consistency between primary and secondary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BC1007-C799-4C31-8282-2A3239C74B5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7543800" y="4419720"/>
            <a:ext cx="0" cy="53316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8001000" y="5257800"/>
            <a:ext cx="68580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Places where DNS data live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1905120" y="3733920"/>
            <a:ext cx="609480" cy="1371600"/>
            <a:chOff x="1905120" y="3733920"/>
            <a:chExt cx="609480" cy="1371600"/>
          </a:xfrm>
        </p:grpSpPr>
        <p:sp>
          <p:nvSpPr>
            <p:cNvPr id="422" name=""/>
            <p:cNvSpPr/>
            <p:nvPr/>
          </p:nvSpPr>
          <p:spPr>
            <a:xfrm>
              <a:off x="1905120" y="3733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981080" y="4114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2209680" y="4267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5" name=""/>
          <p:cNvGrpSpPr/>
          <p:nvPr/>
        </p:nvGrpSpPr>
        <p:grpSpPr>
          <a:xfrm>
            <a:off x="3657600" y="6019560"/>
            <a:ext cx="1371600" cy="228600"/>
            <a:chOff x="3657600" y="6019560"/>
            <a:chExt cx="1371600" cy="228600"/>
          </a:xfrm>
        </p:grpSpPr>
        <p:sp>
          <p:nvSpPr>
            <p:cNvPr id="426" name=""/>
            <p:cNvSpPr/>
            <p:nvPr/>
          </p:nvSpPr>
          <p:spPr>
            <a:xfrm rot="16200000">
              <a:off x="4228920" y="54478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rot="16200000">
              <a:off x="4019400" y="61243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 rot="16200000">
              <a:off x="4443120" y="58528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29" name=""/>
          <p:cNvGrpSpPr/>
          <p:nvPr/>
        </p:nvGrpSpPr>
        <p:grpSpPr>
          <a:xfrm>
            <a:off x="6781680" y="4190760"/>
            <a:ext cx="1371600" cy="228600"/>
            <a:chOff x="6781680" y="4190760"/>
            <a:chExt cx="1371600" cy="228600"/>
          </a:xfrm>
        </p:grpSpPr>
        <p:sp>
          <p:nvSpPr>
            <p:cNvPr id="430" name=""/>
            <p:cNvSpPr/>
            <p:nvPr/>
          </p:nvSpPr>
          <p:spPr>
            <a:xfrm rot="16200000">
              <a:off x="7353000" y="3619080"/>
              <a:ext cx="22860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rot="16200000">
              <a:off x="7143480" y="4295520"/>
              <a:ext cx="11448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rot="16200000">
              <a:off x="7567200" y="4024080"/>
              <a:ext cx="2844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33" name=""/>
          <p:cNvSpPr/>
          <p:nvPr/>
        </p:nvSpPr>
        <p:spPr>
          <a:xfrm>
            <a:off x="457200" y="4724280"/>
            <a:ext cx="609480" cy="838440"/>
          </a:xfrm>
          <a:prstGeom prst="can">
            <a:avLst>
              <a:gd name="adj" fmla="val 25000"/>
            </a:avLst>
          </a:prstGeom>
          <a:solidFill>
            <a:srgbClr val="ffffcc"/>
          </a:solidFill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54080" y="5562720"/>
            <a:ext cx="152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Registry DB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982880" y="5029200"/>
            <a:ext cx="91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Mast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126240" y="61722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183280" y="22860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Sla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859800" y="3657600"/>
            <a:ext cx="164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10000"/>
                </a:solidFill>
                <a:latin typeface="Courier New"/>
              </a:rPr>
              <a:t>Cache server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368720" y="1600200"/>
            <a:ext cx="71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hanges in DNS do not propagate instantly!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2514600" y="4495680"/>
            <a:ext cx="838080" cy="7632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 flipV="1">
            <a:off x="4572000" y="35809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3809880" y="5562720"/>
            <a:ext cx="381240" cy="4572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V="1">
            <a:off x="6172200" y="4266720"/>
            <a:ext cx="609480" cy="228600"/>
          </a:xfrm>
          <a:prstGeom prst="line">
            <a:avLst/>
          </a:prstGeom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48120" y="3733920"/>
            <a:ext cx="3151080" cy="2184120"/>
          </a:xfrm>
          <a:custGeom>
            <a:avLst/>
            <a:gdLst/>
            <a:ahLst/>
            <a:rect l="l" t="t" r="r" b="b"/>
            <a:pathLst>
              <a:path w="1985" h="1376">
                <a:moveTo>
                  <a:pt x="621" y="92"/>
                </a:moveTo>
                <a:cubicBezTo>
                  <a:pt x="544" y="79"/>
                  <a:pt x="516" y="79"/>
                  <a:pt x="491" y="154"/>
                </a:cubicBezTo>
                <a:cubicBezTo>
                  <a:pt x="448" y="124"/>
                  <a:pt x="438" y="134"/>
                  <a:pt x="375" y="140"/>
                </a:cubicBezTo>
                <a:cubicBezTo>
                  <a:pt x="347" y="150"/>
                  <a:pt x="338" y="171"/>
                  <a:pt x="314" y="188"/>
                </a:cubicBezTo>
                <a:cubicBezTo>
                  <a:pt x="297" y="238"/>
                  <a:pt x="304" y="215"/>
                  <a:pt x="293" y="256"/>
                </a:cubicBezTo>
                <a:cubicBezTo>
                  <a:pt x="295" y="272"/>
                  <a:pt x="304" y="288"/>
                  <a:pt x="300" y="304"/>
                </a:cubicBezTo>
                <a:cubicBezTo>
                  <a:pt x="298" y="312"/>
                  <a:pt x="292" y="288"/>
                  <a:pt x="286" y="283"/>
                </a:cubicBezTo>
                <a:cubicBezTo>
                  <a:pt x="273" y="272"/>
                  <a:pt x="241" y="268"/>
                  <a:pt x="225" y="263"/>
                </a:cubicBezTo>
                <a:cubicBezTo>
                  <a:pt x="163" y="271"/>
                  <a:pt x="131" y="277"/>
                  <a:pt x="96" y="331"/>
                </a:cubicBezTo>
                <a:cubicBezTo>
                  <a:pt x="87" y="366"/>
                  <a:pt x="70" y="397"/>
                  <a:pt x="61" y="433"/>
                </a:cubicBezTo>
                <a:cubicBezTo>
                  <a:pt x="64" y="461"/>
                  <a:pt x="58" y="493"/>
                  <a:pt x="75" y="515"/>
                </a:cubicBezTo>
                <a:cubicBezTo>
                  <a:pt x="99" y="546"/>
                  <a:pt x="125" y="563"/>
                  <a:pt x="157" y="583"/>
                </a:cubicBezTo>
                <a:cubicBezTo>
                  <a:pt x="166" y="581"/>
                  <a:pt x="180" y="584"/>
                  <a:pt x="184" y="576"/>
                </a:cubicBezTo>
                <a:cubicBezTo>
                  <a:pt x="187" y="570"/>
                  <a:pt x="171" y="570"/>
                  <a:pt x="164" y="570"/>
                </a:cubicBezTo>
                <a:cubicBezTo>
                  <a:pt x="146" y="570"/>
                  <a:pt x="127" y="574"/>
                  <a:pt x="109" y="576"/>
                </a:cubicBezTo>
                <a:cubicBezTo>
                  <a:pt x="36" y="602"/>
                  <a:pt x="12" y="686"/>
                  <a:pt x="0" y="754"/>
                </a:cubicBezTo>
                <a:cubicBezTo>
                  <a:pt x="3" y="781"/>
                  <a:pt x="1" y="815"/>
                  <a:pt x="14" y="842"/>
                </a:cubicBezTo>
                <a:cubicBezTo>
                  <a:pt x="39" y="893"/>
                  <a:pt x="106" y="911"/>
                  <a:pt x="157" y="924"/>
                </a:cubicBezTo>
                <a:cubicBezTo>
                  <a:pt x="182" y="919"/>
                  <a:pt x="209" y="920"/>
                  <a:pt x="232" y="910"/>
                </a:cubicBezTo>
                <a:cubicBezTo>
                  <a:pt x="242" y="906"/>
                  <a:pt x="248" y="872"/>
                  <a:pt x="252" y="883"/>
                </a:cubicBezTo>
                <a:cubicBezTo>
                  <a:pt x="264" y="915"/>
                  <a:pt x="255" y="951"/>
                  <a:pt x="259" y="985"/>
                </a:cubicBezTo>
                <a:cubicBezTo>
                  <a:pt x="268" y="1063"/>
                  <a:pt x="384" y="1087"/>
                  <a:pt x="443" y="1108"/>
                </a:cubicBezTo>
                <a:cubicBezTo>
                  <a:pt x="464" y="1106"/>
                  <a:pt x="487" y="1111"/>
                  <a:pt x="505" y="1101"/>
                </a:cubicBezTo>
                <a:cubicBezTo>
                  <a:pt x="519" y="1093"/>
                  <a:pt x="532" y="1060"/>
                  <a:pt x="532" y="1060"/>
                </a:cubicBezTo>
                <a:cubicBezTo>
                  <a:pt x="558" y="1137"/>
                  <a:pt x="612" y="1184"/>
                  <a:pt x="682" y="1224"/>
                </a:cubicBezTo>
                <a:cubicBezTo>
                  <a:pt x="702" y="1235"/>
                  <a:pt x="728" y="1237"/>
                  <a:pt x="750" y="1245"/>
                </a:cubicBezTo>
                <a:cubicBezTo>
                  <a:pt x="779" y="1243"/>
                  <a:pt x="852" y="1253"/>
                  <a:pt x="887" y="1224"/>
                </a:cubicBezTo>
                <a:cubicBezTo>
                  <a:pt x="904" y="1210"/>
                  <a:pt x="934" y="1176"/>
                  <a:pt x="934" y="1176"/>
                </a:cubicBezTo>
                <a:cubicBezTo>
                  <a:pt x="939" y="1162"/>
                  <a:pt x="943" y="1149"/>
                  <a:pt x="948" y="1135"/>
                </a:cubicBezTo>
                <a:cubicBezTo>
                  <a:pt x="950" y="1128"/>
                  <a:pt x="955" y="1115"/>
                  <a:pt x="955" y="1115"/>
                </a:cubicBezTo>
                <a:cubicBezTo>
                  <a:pt x="975" y="1171"/>
                  <a:pt x="957" y="1130"/>
                  <a:pt x="1043" y="1217"/>
                </a:cubicBezTo>
                <a:cubicBezTo>
                  <a:pt x="1094" y="1268"/>
                  <a:pt x="1113" y="1279"/>
                  <a:pt x="1180" y="1320"/>
                </a:cubicBezTo>
                <a:cubicBezTo>
                  <a:pt x="1194" y="1329"/>
                  <a:pt x="1206" y="1342"/>
                  <a:pt x="1221" y="1347"/>
                </a:cubicBezTo>
                <a:cubicBezTo>
                  <a:pt x="1259" y="1360"/>
                  <a:pt x="1337" y="1374"/>
                  <a:pt x="1337" y="1374"/>
                </a:cubicBezTo>
                <a:cubicBezTo>
                  <a:pt x="1443" y="1364"/>
                  <a:pt x="1487" y="1376"/>
                  <a:pt x="1562" y="1326"/>
                </a:cubicBezTo>
                <a:cubicBezTo>
                  <a:pt x="1573" y="1288"/>
                  <a:pt x="1593" y="1257"/>
                  <a:pt x="1602" y="1217"/>
                </a:cubicBezTo>
                <a:cubicBezTo>
                  <a:pt x="1592" y="1055"/>
                  <a:pt x="1573" y="1097"/>
                  <a:pt x="1773" y="1081"/>
                </a:cubicBezTo>
                <a:cubicBezTo>
                  <a:pt x="1787" y="1076"/>
                  <a:pt x="1800" y="1071"/>
                  <a:pt x="1814" y="1067"/>
                </a:cubicBezTo>
                <a:cubicBezTo>
                  <a:pt x="1834" y="1062"/>
                  <a:pt x="1875" y="1054"/>
                  <a:pt x="1875" y="1054"/>
                </a:cubicBezTo>
                <a:cubicBezTo>
                  <a:pt x="1901" y="1028"/>
                  <a:pt x="1906" y="1001"/>
                  <a:pt x="1916" y="965"/>
                </a:cubicBezTo>
                <a:cubicBezTo>
                  <a:pt x="1941" y="875"/>
                  <a:pt x="1966" y="784"/>
                  <a:pt x="1984" y="692"/>
                </a:cubicBezTo>
                <a:cubicBezTo>
                  <a:pt x="1983" y="678"/>
                  <a:pt x="1985" y="611"/>
                  <a:pt x="1964" y="590"/>
                </a:cubicBezTo>
                <a:cubicBezTo>
                  <a:pt x="1953" y="579"/>
                  <a:pt x="1936" y="578"/>
                  <a:pt x="1923" y="570"/>
                </a:cubicBezTo>
                <a:cubicBezTo>
                  <a:pt x="1932" y="543"/>
                  <a:pt x="1951" y="533"/>
                  <a:pt x="1964" y="508"/>
                </a:cubicBezTo>
                <a:cubicBezTo>
                  <a:pt x="1968" y="500"/>
                  <a:pt x="1975" y="475"/>
                  <a:pt x="1977" y="467"/>
                </a:cubicBezTo>
                <a:cubicBezTo>
                  <a:pt x="1967" y="378"/>
                  <a:pt x="1948" y="354"/>
                  <a:pt x="1875" y="297"/>
                </a:cubicBezTo>
                <a:cubicBezTo>
                  <a:pt x="1856" y="282"/>
                  <a:pt x="1807" y="270"/>
                  <a:pt x="1807" y="270"/>
                </a:cubicBezTo>
                <a:cubicBezTo>
                  <a:pt x="1764" y="272"/>
                  <a:pt x="1719" y="264"/>
                  <a:pt x="1677" y="276"/>
                </a:cubicBezTo>
                <a:cubicBezTo>
                  <a:pt x="1651" y="283"/>
                  <a:pt x="1639" y="316"/>
                  <a:pt x="1616" y="331"/>
                </a:cubicBezTo>
                <a:cubicBezTo>
                  <a:pt x="1607" y="306"/>
                  <a:pt x="1611" y="313"/>
                  <a:pt x="1596" y="290"/>
                </a:cubicBezTo>
                <a:cubicBezTo>
                  <a:pt x="1515" y="167"/>
                  <a:pt x="1485" y="195"/>
                  <a:pt x="1323" y="188"/>
                </a:cubicBezTo>
                <a:cubicBezTo>
                  <a:pt x="1226" y="198"/>
                  <a:pt x="1257" y="195"/>
                  <a:pt x="1200" y="249"/>
                </a:cubicBezTo>
                <a:cubicBezTo>
                  <a:pt x="1198" y="256"/>
                  <a:pt x="1200" y="270"/>
                  <a:pt x="1193" y="270"/>
                </a:cubicBezTo>
                <a:cubicBezTo>
                  <a:pt x="1172" y="270"/>
                  <a:pt x="1170" y="232"/>
                  <a:pt x="1166" y="222"/>
                </a:cubicBezTo>
                <a:cubicBezTo>
                  <a:pt x="1156" y="199"/>
                  <a:pt x="1140" y="178"/>
                  <a:pt x="1132" y="154"/>
                </a:cubicBezTo>
                <a:cubicBezTo>
                  <a:pt x="1110" y="89"/>
                  <a:pt x="1049" y="59"/>
                  <a:pt x="989" y="38"/>
                </a:cubicBezTo>
                <a:cubicBezTo>
                  <a:pt x="904" y="43"/>
                  <a:pt x="868" y="22"/>
                  <a:pt x="818" y="72"/>
                </a:cubicBezTo>
                <a:cubicBezTo>
                  <a:pt x="765" y="53"/>
                  <a:pt x="827" y="81"/>
                  <a:pt x="791" y="45"/>
                </a:cubicBezTo>
                <a:cubicBezTo>
                  <a:pt x="764" y="18"/>
                  <a:pt x="742" y="15"/>
                  <a:pt x="709" y="4"/>
                </a:cubicBezTo>
                <a:cubicBezTo>
                  <a:pt x="680" y="6"/>
                  <a:pt x="648" y="0"/>
                  <a:pt x="621" y="11"/>
                </a:cubicBezTo>
                <a:cubicBezTo>
                  <a:pt x="606" y="17"/>
                  <a:pt x="593" y="51"/>
                  <a:pt x="593" y="51"/>
                </a:cubicBezTo>
                <a:cubicBezTo>
                  <a:pt x="582" y="85"/>
                  <a:pt x="580" y="68"/>
                  <a:pt x="621" y="92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8839080" y="5257800"/>
            <a:ext cx="685440" cy="609480"/>
            <a:chOff x="8839080" y="5257800"/>
            <a:chExt cx="685440" cy="609480"/>
          </a:xfrm>
        </p:grpSpPr>
        <p:sp>
          <p:nvSpPr>
            <p:cNvPr id="446" name=""/>
            <p:cNvSpPr/>
            <p:nvPr/>
          </p:nvSpPr>
          <p:spPr>
            <a:xfrm>
              <a:off x="8839080" y="5664240"/>
              <a:ext cx="579960" cy="12168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839080" y="5257800"/>
              <a:ext cx="579960" cy="36576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997120" y="5826600"/>
              <a:ext cx="527400" cy="4068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891640" y="5298480"/>
              <a:ext cx="474480" cy="284040"/>
            </a:xfrm>
            <a:prstGeom prst="rect">
              <a:avLst/>
            </a:prstGeom>
            <a:solidFill>
              <a:srgbClr val="cce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6397560" y="4879800"/>
            <a:ext cx="1893960" cy="1489320"/>
          </a:xfrm>
          <a:custGeom>
            <a:avLst/>
            <a:gdLst/>
            <a:ahLst/>
            <a:rect l="l" t="t" r="r" b="b"/>
            <a:pathLst>
              <a:path w="1193" h="938">
                <a:moveTo>
                  <a:pt x="504" y="307"/>
                </a:moveTo>
                <a:cubicBezTo>
                  <a:pt x="453" y="310"/>
                  <a:pt x="279" y="271"/>
                  <a:pt x="225" y="348"/>
                </a:cubicBezTo>
                <a:cubicBezTo>
                  <a:pt x="225" y="351"/>
                  <a:pt x="234" y="409"/>
                  <a:pt x="239" y="417"/>
                </a:cubicBezTo>
                <a:cubicBezTo>
                  <a:pt x="244" y="425"/>
                  <a:pt x="268" y="436"/>
                  <a:pt x="259" y="437"/>
                </a:cubicBezTo>
                <a:cubicBezTo>
                  <a:pt x="222" y="439"/>
                  <a:pt x="186" y="428"/>
                  <a:pt x="150" y="423"/>
                </a:cubicBezTo>
                <a:cubicBezTo>
                  <a:pt x="61" y="432"/>
                  <a:pt x="65" y="427"/>
                  <a:pt x="48" y="505"/>
                </a:cubicBezTo>
                <a:cubicBezTo>
                  <a:pt x="54" y="540"/>
                  <a:pt x="54" y="555"/>
                  <a:pt x="89" y="567"/>
                </a:cubicBezTo>
                <a:cubicBezTo>
                  <a:pt x="87" y="574"/>
                  <a:pt x="85" y="581"/>
                  <a:pt x="82" y="587"/>
                </a:cubicBezTo>
                <a:cubicBezTo>
                  <a:pt x="78" y="594"/>
                  <a:pt x="71" y="599"/>
                  <a:pt x="68" y="607"/>
                </a:cubicBezTo>
                <a:cubicBezTo>
                  <a:pt x="52" y="646"/>
                  <a:pt x="48" y="690"/>
                  <a:pt x="34" y="730"/>
                </a:cubicBezTo>
                <a:cubicBezTo>
                  <a:pt x="41" y="781"/>
                  <a:pt x="59" y="814"/>
                  <a:pt x="102" y="846"/>
                </a:cubicBezTo>
                <a:cubicBezTo>
                  <a:pt x="128" y="866"/>
                  <a:pt x="184" y="901"/>
                  <a:pt x="184" y="901"/>
                </a:cubicBezTo>
                <a:cubicBezTo>
                  <a:pt x="359" y="891"/>
                  <a:pt x="397" y="929"/>
                  <a:pt x="491" y="832"/>
                </a:cubicBezTo>
                <a:cubicBezTo>
                  <a:pt x="513" y="898"/>
                  <a:pt x="512" y="903"/>
                  <a:pt x="586" y="928"/>
                </a:cubicBezTo>
                <a:cubicBezTo>
                  <a:pt x="777" y="920"/>
                  <a:pt x="886" y="938"/>
                  <a:pt x="1043" y="873"/>
                </a:cubicBezTo>
                <a:cubicBezTo>
                  <a:pt x="1083" y="833"/>
                  <a:pt x="1143" y="804"/>
                  <a:pt x="1166" y="751"/>
                </a:cubicBezTo>
                <a:cubicBezTo>
                  <a:pt x="1178" y="725"/>
                  <a:pt x="1193" y="669"/>
                  <a:pt x="1193" y="669"/>
                </a:cubicBezTo>
                <a:cubicBezTo>
                  <a:pt x="1191" y="635"/>
                  <a:pt x="1191" y="601"/>
                  <a:pt x="1186" y="567"/>
                </a:cubicBezTo>
                <a:cubicBezTo>
                  <a:pt x="1183" y="551"/>
                  <a:pt x="1152" y="527"/>
                  <a:pt x="1145" y="519"/>
                </a:cubicBezTo>
                <a:cubicBezTo>
                  <a:pt x="1118" y="487"/>
                  <a:pt x="1099" y="459"/>
                  <a:pt x="1057" y="444"/>
                </a:cubicBezTo>
                <a:cubicBezTo>
                  <a:pt x="1083" y="435"/>
                  <a:pt x="1107" y="429"/>
                  <a:pt x="1132" y="417"/>
                </a:cubicBezTo>
                <a:cubicBezTo>
                  <a:pt x="1141" y="408"/>
                  <a:pt x="1152" y="400"/>
                  <a:pt x="1159" y="389"/>
                </a:cubicBezTo>
                <a:cubicBezTo>
                  <a:pt x="1170" y="372"/>
                  <a:pt x="1186" y="335"/>
                  <a:pt x="1186" y="335"/>
                </a:cubicBezTo>
                <a:cubicBezTo>
                  <a:pt x="1174" y="253"/>
                  <a:pt x="1102" y="191"/>
                  <a:pt x="1023" y="178"/>
                </a:cubicBezTo>
                <a:cubicBezTo>
                  <a:pt x="998" y="182"/>
                  <a:pt x="973" y="192"/>
                  <a:pt x="948" y="192"/>
                </a:cubicBezTo>
                <a:cubicBezTo>
                  <a:pt x="941" y="192"/>
                  <a:pt x="961" y="187"/>
                  <a:pt x="968" y="185"/>
                </a:cubicBezTo>
                <a:cubicBezTo>
                  <a:pt x="957" y="96"/>
                  <a:pt x="925" y="50"/>
                  <a:pt x="839" y="28"/>
                </a:cubicBezTo>
                <a:cubicBezTo>
                  <a:pt x="780" y="35"/>
                  <a:pt x="718" y="32"/>
                  <a:pt x="661" y="48"/>
                </a:cubicBezTo>
                <a:cubicBezTo>
                  <a:pt x="643" y="88"/>
                  <a:pt x="641" y="101"/>
                  <a:pt x="689" y="89"/>
                </a:cubicBezTo>
                <a:cubicBezTo>
                  <a:pt x="738" y="13"/>
                  <a:pt x="618" y="34"/>
                  <a:pt x="566" y="28"/>
                </a:cubicBezTo>
                <a:cubicBezTo>
                  <a:pt x="516" y="22"/>
                  <a:pt x="440" y="9"/>
                  <a:pt x="389" y="1"/>
                </a:cubicBezTo>
                <a:cubicBezTo>
                  <a:pt x="357" y="3"/>
                  <a:pt x="324" y="0"/>
                  <a:pt x="293" y="7"/>
                </a:cubicBezTo>
                <a:cubicBezTo>
                  <a:pt x="259" y="15"/>
                  <a:pt x="231" y="38"/>
                  <a:pt x="198" y="48"/>
                </a:cubicBezTo>
                <a:cubicBezTo>
                  <a:pt x="167" y="79"/>
                  <a:pt x="133" y="99"/>
                  <a:pt x="102" y="130"/>
                </a:cubicBezTo>
                <a:cubicBezTo>
                  <a:pt x="86" y="182"/>
                  <a:pt x="101" y="194"/>
                  <a:pt x="48" y="205"/>
                </a:cubicBezTo>
                <a:cubicBezTo>
                  <a:pt x="39" y="210"/>
                  <a:pt x="28" y="212"/>
                  <a:pt x="20" y="219"/>
                </a:cubicBezTo>
                <a:cubicBezTo>
                  <a:pt x="0" y="235"/>
                  <a:pt x="6" y="274"/>
                  <a:pt x="27" y="287"/>
                </a:cubicBezTo>
                <a:cubicBezTo>
                  <a:pt x="35" y="292"/>
                  <a:pt x="74" y="303"/>
                  <a:pt x="89" y="307"/>
                </a:cubicBezTo>
                <a:cubicBezTo>
                  <a:pt x="154" y="301"/>
                  <a:pt x="215" y="284"/>
                  <a:pt x="279" y="273"/>
                </a:cubicBezTo>
                <a:cubicBezTo>
                  <a:pt x="297" y="275"/>
                  <a:pt x="317" y="273"/>
                  <a:pt x="334" y="280"/>
                </a:cubicBezTo>
                <a:cubicBezTo>
                  <a:pt x="342" y="283"/>
                  <a:pt x="341" y="296"/>
                  <a:pt x="348" y="301"/>
                </a:cubicBezTo>
                <a:cubicBezTo>
                  <a:pt x="353" y="305"/>
                  <a:pt x="368" y="307"/>
                  <a:pt x="368" y="307"/>
                </a:cubicBezTo>
                <a:lnTo>
                  <a:pt x="386" y="382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248520" y="4800600"/>
            <a:ext cx="1903320" cy="1407960"/>
          </a:xfrm>
          <a:custGeom>
            <a:avLst/>
            <a:gdLst/>
            <a:ahLst/>
            <a:rect l="l" t="t" r="r" b="b"/>
            <a:pathLst>
              <a:path w="1199" h="887">
                <a:moveTo>
                  <a:pt x="530" y="198"/>
                </a:moveTo>
                <a:cubicBezTo>
                  <a:pt x="475" y="160"/>
                  <a:pt x="486" y="171"/>
                  <a:pt x="394" y="178"/>
                </a:cubicBezTo>
                <a:cubicBezTo>
                  <a:pt x="378" y="194"/>
                  <a:pt x="370" y="199"/>
                  <a:pt x="360" y="219"/>
                </a:cubicBezTo>
                <a:cubicBezTo>
                  <a:pt x="357" y="225"/>
                  <a:pt x="358" y="234"/>
                  <a:pt x="353" y="239"/>
                </a:cubicBezTo>
                <a:cubicBezTo>
                  <a:pt x="351" y="241"/>
                  <a:pt x="348" y="234"/>
                  <a:pt x="346" y="232"/>
                </a:cubicBezTo>
                <a:cubicBezTo>
                  <a:pt x="311" y="169"/>
                  <a:pt x="318" y="196"/>
                  <a:pt x="244" y="205"/>
                </a:cubicBezTo>
                <a:cubicBezTo>
                  <a:pt x="180" y="222"/>
                  <a:pt x="136" y="255"/>
                  <a:pt x="114" y="321"/>
                </a:cubicBezTo>
                <a:cubicBezTo>
                  <a:pt x="122" y="414"/>
                  <a:pt x="108" y="392"/>
                  <a:pt x="162" y="430"/>
                </a:cubicBezTo>
                <a:cubicBezTo>
                  <a:pt x="148" y="432"/>
                  <a:pt x="111" y="434"/>
                  <a:pt x="94" y="444"/>
                </a:cubicBezTo>
                <a:cubicBezTo>
                  <a:pt x="80" y="452"/>
                  <a:pt x="53" y="471"/>
                  <a:pt x="53" y="471"/>
                </a:cubicBezTo>
                <a:cubicBezTo>
                  <a:pt x="0" y="574"/>
                  <a:pt x="62" y="662"/>
                  <a:pt x="149" y="716"/>
                </a:cubicBezTo>
                <a:cubicBezTo>
                  <a:pt x="167" y="714"/>
                  <a:pt x="186" y="704"/>
                  <a:pt x="203" y="709"/>
                </a:cubicBezTo>
                <a:cubicBezTo>
                  <a:pt x="210" y="711"/>
                  <a:pt x="196" y="723"/>
                  <a:pt x="196" y="730"/>
                </a:cubicBezTo>
                <a:cubicBezTo>
                  <a:pt x="196" y="762"/>
                  <a:pt x="194" y="795"/>
                  <a:pt x="203" y="825"/>
                </a:cubicBezTo>
                <a:cubicBezTo>
                  <a:pt x="214" y="862"/>
                  <a:pt x="253" y="879"/>
                  <a:pt x="285" y="887"/>
                </a:cubicBezTo>
                <a:cubicBezTo>
                  <a:pt x="359" y="878"/>
                  <a:pt x="420" y="869"/>
                  <a:pt x="489" y="846"/>
                </a:cubicBezTo>
                <a:cubicBezTo>
                  <a:pt x="533" y="816"/>
                  <a:pt x="575" y="794"/>
                  <a:pt x="626" y="778"/>
                </a:cubicBezTo>
                <a:cubicBezTo>
                  <a:pt x="695" y="707"/>
                  <a:pt x="606" y="790"/>
                  <a:pt x="694" y="737"/>
                </a:cubicBezTo>
                <a:cubicBezTo>
                  <a:pt x="732" y="714"/>
                  <a:pt x="761" y="649"/>
                  <a:pt x="783" y="614"/>
                </a:cubicBezTo>
                <a:cubicBezTo>
                  <a:pt x="781" y="600"/>
                  <a:pt x="767" y="562"/>
                  <a:pt x="776" y="573"/>
                </a:cubicBezTo>
                <a:cubicBezTo>
                  <a:pt x="843" y="651"/>
                  <a:pt x="724" y="597"/>
                  <a:pt x="830" y="655"/>
                </a:cubicBezTo>
                <a:cubicBezTo>
                  <a:pt x="840" y="661"/>
                  <a:pt x="853" y="660"/>
                  <a:pt x="864" y="662"/>
                </a:cubicBezTo>
                <a:cubicBezTo>
                  <a:pt x="935" y="657"/>
                  <a:pt x="969" y="656"/>
                  <a:pt x="1028" y="628"/>
                </a:cubicBezTo>
                <a:cubicBezTo>
                  <a:pt x="1070" y="586"/>
                  <a:pt x="1085" y="550"/>
                  <a:pt x="1096" y="491"/>
                </a:cubicBezTo>
                <a:cubicBezTo>
                  <a:pt x="1099" y="473"/>
                  <a:pt x="1089" y="449"/>
                  <a:pt x="1103" y="437"/>
                </a:cubicBezTo>
                <a:cubicBezTo>
                  <a:pt x="1119" y="423"/>
                  <a:pt x="1144" y="432"/>
                  <a:pt x="1165" y="430"/>
                </a:cubicBezTo>
                <a:cubicBezTo>
                  <a:pt x="1191" y="412"/>
                  <a:pt x="1191" y="400"/>
                  <a:pt x="1199" y="369"/>
                </a:cubicBezTo>
                <a:cubicBezTo>
                  <a:pt x="1197" y="339"/>
                  <a:pt x="1198" y="309"/>
                  <a:pt x="1192" y="280"/>
                </a:cubicBezTo>
                <a:cubicBezTo>
                  <a:pt x="1184" y="240"/>
                  <a:pt x="1124" y="214"/>
                  <a:pt x="1096" y="191"/>
                </a:cubicBezTo>
                <a:cubicBezTo>
                  <a:pt x="1052" y="155"/>
                  <a:pt x="1064" y="133"/>
                  <a:pt x="987" y="109"/>
                </a:cubicBezTo>
                <a:cubicBezTo>
                  <a:pt x="918" y="87"/>
                  <a:pt x="853" y="66"/>
                  <a:pt x="783" y="48"/>
                </a:cubicBezTo>
                <a:cubicBezTo>
                  <a:pt x="798" y="0"/>
                  <a:pt x="810" y="12"/>
                  <a:pt x="776" y="0"/>
                </a:cubicBezTo>
                <a:cubicBezTo>
                  <a:pt x="744" y="2"/>
                  <a:pt x="712" y="2"/>
                  <a:pt x="680" y="7"/>
                </a:cubicBezTo>
                <a:cubicBezTo>
                  <a:pt x="666" y="9"/>
                  <a:pt x="639" y="21"/>
                  <a:pt x="639" y="21"/>
                </a:cubicBezTo>
                <a:cubicBezTo>
                  <a:pt x="627" y="40"/>
                  <a:pt x="627" y="45"/>
                  <a:pt x="605" y="55"/>
                </a:cubicBezTo>
                <a:cubicBezTo>
                  <a:pt x="592" y="61"/>
                  <a:pt x="564" y="69"/>
                  <a:pt x="564" y="69"/>
                </a:cubicBezTo>
                <a:cubicBezTo>
                  <a:pt x="543" y="90"/>
                  <a:pt x="526" y="92"/>
                  <a:pt x="510" y="116"/>
                </a:cubicBezTo>
                <a:cubicBezTo>
                  <a:pt x="515" y="149"/>
                  <a:pt x="518" y="169"/>
                  <a:pt x="530" y="198"/>
                </a:cubicBezTo>
                <a:close/>
              </a:path>
            </a:pathLst>
          </a:custGeom>
          <a:solidFill>
            <a:srgbClr val="ccecff"/>
          </a:solidFill>
          <a:ln w="9360">
            <a:solidFill>
              <a:srgbClr val="33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629400" y="3276720"/>
            <a:ext cx="298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Not going to net if TTL&gt;0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09320" y="2438280"/>
            <a:ext cx="292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Might take up to refresh 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o get data from master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-1080" y="3962520"/>
            <a:ext cx="2247120" cy="1142640"/>
            <a:chOff x="-1080" y="3962520"/>
            <a:chExt cx="2247120" cy="1142640"/>
          </a:xfrm>
        </p:grpSpPr>
        <p:sp>
          <p:nvSpPr>
            <p:cNvPr id="455" name=""/>
            <p:cNvSpPr/>
            <p:nvPr/>
          </p:nvSpPr>
          <p:spPr>
            <a:xfrm flipV="1">
              <a:off x="1066680" y="4723920"/>
              <a:ext cx="685800" cy="381240"/>
            </a:xfrm>
            <a:prstGeom prst="line">
              <a:avLst/>
            </a:prstGeom>
            <a:ln w="19080">
              <a:solidFill>
                <a:srgbClr val="3366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-1080" y="3962520"/>
              <a:ext cx="22471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Upload of zone </a:t>
              </a:r>
              <a:br>
                <a:rPr sz="2000"/>
              </a:br>
              <a:r>
                <a:rPr b="0" lang="en-US" sz="2000" spc="-1" strike="noStrike">
                  <a:solidFill>
                    <a:srgbClr val="010000"/>
                  </a:solidFill>
                  <a:latin typeface="Arial"/>
                </a:rPr>
                <a:t>data is local policy</a:t>
              </a:r>
              <a:endParaRPr b="0" lang="en-US" sz="20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57" name=""/>
          <p:cNvSpPr/>
          <p:nvPr/>
        </p:nvSpPr>
        <p:spPr>
          <a:xfrm flipH="1" flipV="1">
            <a:off x="8229240" y="441972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flipV="1">
            <a:off x="8077320" y="45720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7924320" y="457200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>
            <a:off x="2514240" y="3352680"/>
            <a:ext cx="2438280" cy="5335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8305920" y="4343400"/>
            <a:ext cx="76176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flipV="1">
            <a:off x="8152920" y="4495680"/>
            <a:ext cx="762120" cy="45720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463" name=""/>
          <p:cNvGrpSpPr/>
          <p:nvPr/>
        </p:nvGrpSpPr>
        <p:grpSpPr>
          <a:xfrm>
            <a:off x="5029200" y="2590920"/>
            <a:ext cx="609480" cy="1371600"/>
            <a:chOff x="5029200" y="2590920"/>
            <a:chExt cx="609480" cy="1371600"/>
          </a:xfrm>
        </p:grpSpPr>
        <p:sp>
          <p:nvSpPr>
            <p:cNvPr id="464" name=""/>
            <p:cNvSpPr/>
            <p:nvPr/>
          </p:nvSpPr>
          <p:spPr>
            <a:xfrm>
              <a:off x="5029200" y="2590920"/>
              <a:ext cx="609480" cy="1371600"/>
            </a:xfrm>
            <a:prstGeom prst="cube">
              <a:avLst>
                <a:gd name="adj" fmla="val 25000"/>
              </a:avLst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5105160" y="2971800"/>
              <a:ext cx="304920" cy="763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333760" y="3124080"/>
              <a:ext cx="76320" cy="533520"/>
            </a:xfrm>
            <a:prstGeom prst="rect">
              <a:avLst/>
            </a:prstGeom>
            <a:solidFill>
              <a:srgbClr val="ccecff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67" name=""/>
          <p:cNvSpPr/>
          <p:nvPr/>
        </p:nvSpPr>
        <p:spPr>
          <a:xfrm flipH="1" flipV="1">
            <a:off x="5714640" y="3352320"/>
            <a:ext cx="1219320" cy="76212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H="1" flipV="1">
            <a:off x="5791320" y="3276720"/>
            <a:ext cx="1218960" cy="761760"/>
          </a:xfrm>
          <a:prstGeom prst="line">
            <a:avLst/>
          </a:prstGeom>
          <a:ln w="28440">
            <a:solidFill>
              <a:srgbClr val="ff99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83B2D-A62A-4C37-B7F7-C74C1EA1BE05}" type="slidenum">
              <a:t>2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es and addresses 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 address is how you get to an endpoi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hierarchical (for scaling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950 Charter Street, Redwood City CA, 9406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204.152.187.11, +1-650-381-6003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” is how an endpoint is referenc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ically, no structurally significant hierarch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336699"/>
              </a:buClr>
              <a:buSzPct val="65000"/>
              <a:buFont typeface="Monotype Sort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vid”, “Tokyo”, “itu.int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F5C7EA-9411-4990-8C75-E88189FD8AB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o remember..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1143000" y="1523520"/>
            <a:ext cx="849960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ultiple authoritative servers to distribute load and risk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-26856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t your name servers apart from each othe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984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ches to reduce load to authoritative servers and reduce response tim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A timers and TTL need to be tuned to needs of zone. Stable data: higher numb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4B4DA-685B-4539-AC0A-FB203AEE8904}" type="slidenum">
              <a:t>3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have we learne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hat are we about to learn</a:t>
            </a: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	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learned about the architecture: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resol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ching forward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horitative servers,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iming parameter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 continue writing a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EF72B-6657-4023-8E08-018692DE6FC7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Writing a zone file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written by the zone administrato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Zone file is read by the master server and it’s content is replicated to slav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hat is in the zone file will end up in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ecause of timing issues it might take some time before the data is actually visible at the client side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0F9AD-B251-4E66-9F38-6BD95EF5A9D9}" type="slidenum">
              <a:t>3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First attemp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‘header’ of the zone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tart with a SOA recor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Include authoritative name servers and, if needed, glu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dd other informa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other R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to other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F8F3E8-8160-4622-B3C4-41B8E04BAA18}" type="slidenum">
              <a:t>3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The SOA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78" name=""/>
          <p:cNvSpPr/>
          <p:nvPr/>
        </p:nvSpPr>
        <p:spPr>
          <a:xfrm>
            <a:off x="764280" y="1981080"/>
            <a:ext cx="8776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SOA bert.secret-wg.org.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914400" y="3962520"/>
            <a:ext cx="849960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laf.Kolkman@ripe.net </a:t>
            </a:r>
            <a:r>
              <a:rPr b="0" lang="en-US" sz="2800" spc="-1" strike="noStrike">
                <a:solidFill>
                  <a:srgbClr val="010000"/>
                </a:solidFill>
                <a:latin typeface="Monotype Sorts"/>
                <a:ea typeface="Monotype Sorts"/>
              </a:rPr>
              <a:t>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laf\.kolkman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ial number: 32bit circular arithmeti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eople often use dat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646200" indent="-24840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o be increased after edit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298440" indent="-29844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timers above qualify as reason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7467480" y="878040"/>
            <a:ext cx="1893600" cy="1788840"/>
            <a:chOff x="7467480" y="878040"/>
            <a:chExt cx="1893600" cy="1788840"/>
          </a:xfrm>
        </p:grpSpPr>
        <p:sp>
          <p:nvSpPr>
            <p:cNvPr id="481" name=""/>
            <p:cNvSpPr/>
            <p:nvPr/>
          </p:nvSpPr>
          <p:spPr>
            <a:xfrm>
              <a:off x="7606080" y="878040"/>
              <a:ext cx="1755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Comments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 flipH="1">
              <a:off x="7467480" y="1447920"/>
              <a:ext cx="457200" cy="1218960"/>
            </a:xfrm>
            <a:prstGeom prst="line">
              <a:avLst/>
            </a:prstGeom>
            <a:ln w="28440">
              <a:solidFill>
                <a:srgbClr val="01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483" name=""/>
          <p:cNvGrpSpPr/>
          <p:nvPr/>
        </p:nvGrpSpPr>
        <p:grpSpPr>
          <a:xfrm>
            <a:off x="4038480" y="1066680"/>
            <a:ext cx="3200400" cy="1067040"/>
            <a:chOff x="4038480" y="1066680"/>
            <a:chExt cx="3200400" cy="1067040"/>
          </a:xfrm>
        </p:grpSpPr>
        <p:sp>
          <p:nvSpPr>
            <p:cNvPr id="484" name=""/>
            <p:cNvSpPr/>
            <p:nvPr/>
          </p:nvSpPr>
          <p:spPr>
            <a:xfrm>
              <a:off x="4038480" y="1066680"/>
              <a:ext cx="1708200" cy="386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Line break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5943600" y="1371600"/>
              <a:ext cx="1295280" cy="762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673BD-7181-4590-8131-8E8767820895}" type="slidenum">
              <a:t>3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Authoritative NS records and related A record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990720" y="3581280"/>
            <a:ext cx="8686800" cy="2819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S record for all the authoritativ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y need to carry the zone at the moment you publis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records only for “in-zone” name serve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legating NS records might have glue associated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219320" y="2133720"/>
            <a:ext cx="80740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NS  NS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3600 IN A  193.0.0.202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1878D-59AD-4625-A5B7-7F8C27222D28}" type="slidenum">
              <a:t>3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‘APEX’ data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55240" y="3886200"/>
            <a:ext cx="4178520" cy="220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s for mai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ee next slid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Location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4640" y="1676520"/>
            <a:ext cx="89589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50 mailhos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MX  150 mailhost2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LOC (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                   </a:t>
            </a: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52 21 23.0 N 04 57 05.5 E 0m 100m 100m 100m )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secret-wg.org. 3600 IN TXT  “Demonstration and test zone”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257800" y="3733920"/>
            <a:ext cx="417816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TXT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A records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Times New Roman"/>
              </a:rPr>
              <a:t>KEY records for dnssec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5E249-6032-46A9-885F-DE7089484FAE}" type="slidenum">
              <a:t>3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termezzo: MX record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MTP (simple mail transfer protocol) uses MX records to find the destination mail serve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a mail is sent to olaf@ripe.net the sending mail agent looks up ‘ripe.net MX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X record contains mail relays with priority.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e lower the number the higher the priority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add MX records without having a mail relay configur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A432D-FB0C-489A-A6F5-E1AF45C8D063}" type="slidenum">
              <a:t>3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Other data in the zon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838080" y="3581280"/>
            <a:ext cx="8499600" cy="228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the other data to your zon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ome notes on nota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he fully qualified domain name including trailing dot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05600" indent="-2714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Note TTL and CLA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1066680" y="2057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localhost.secret-wg.org. 3600 IN A 127.0.0.1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bert.secret-wg.org.  4500 IN A 193.0.0.4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Courier New"/>
              </a:rPr>
              <a:t>www.secret-wg.org.   3600 IN CNAME bert.secret-wg.org.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3A223-B8EE-461A-B0F5-5BCEFD930EE4}" type="slidenum">
              <a:t>3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762120" y="1657440"/>
            <a:ext cx="8540640" cy="41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36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ice formatting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0C233F-D6DC-4150-B4FF-26E9FCD96AA7}" type="slidenum">
              <a:t>3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Naming Histor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70’s ARPA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Host.txt maintained by the SRI-NIC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ulled from a single mach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roblem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raffic and loa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ame collis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onsistenc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reated in 1983 by Paul Mockapetris (RFCs 1034 and 1035), modified, updated, and enhanced by a myriad of subsequent RFC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ABA5-0AB1-4418-8936-CF0AFD6A97A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"/>
          <p:cNvSpPr/>
          <p:nvPr/>
        </p:nvSpPr>
        <p:spPr>
          <a:xfrm>
            <a:off x="914400" y="1646280"/>
            <a:ext cx="8540640" cy="4370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 4500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3600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repeating last nam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28158E-530E-4127-BC11-080945B2A4A9}" type="slidenum">
              <a:t>4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14400" y="1603440"/>
            <a:ext cx="8540640" cy="456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secret-wg.org.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SOA bert.secret-wg.org.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.secret-wg.org.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.secret-wg.org.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.secret-wg.org. 4500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.secret-wg.org.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.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default TT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00212-4035-48D0-BE23-85F77C503515}" type="slidenum">
              <a:t>4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914400" y="1603440"/>
            <a:ext cx="8540640" cy="475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TTL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; Default TTL directiv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$ORIGIN secret-wg.org.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@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SOA bert (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olaf\.kolkman.ripe.net.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2002021301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seri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h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fresh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0M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ret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1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expir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3600 )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; neg. answ. Tt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      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NS   NS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50 mailhos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MX   150 mailhost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LOC  ( 52 21 23.0 N 04 57 05.5 E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0m 100m 100m 100m 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IN TXT  “Demonstration and test zone”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NS2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193.0.0.202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localhost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127.0.0.1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bert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  4500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A     193.0.0.4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www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Courier New"/>
              </a:rPr>
              <a:t> IN CNAME bert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Zone file format short cuts: ORIGI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985680-0CBD-4AF8-AEE9-88E77C2BDAAB}" type="slidenum">
              <a:t>4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991800" y="4113360"/>
            <a:ext cx="6270840" cy="1925640"/>
            <a:chOff x="991800" y="4113360"/>
            <a:chExt cx="6270840" cy="1925640"/>
          </a:xfrm>
        </p:grpSpPr>
        <p:sp>
          <p:nvSpPr>
            <p:cNvPr id="507" name=""/>
            <p:cNvSpPr/>
            <p:nvPr/>
          </p:nvSpPr>
          <p:spPr>
            <a:xfrm>
              <a:off x="2514600" y="4495680"/>
              <a:ext cx="2286000" cy="38124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991800" y="4113360"/>
              <a:ext cx="2061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568760" y="4556160"/>
              <a:ext cx="2693880" cy="1482840"/>
            </a:xfrm>
            <a:custGeom>
              <a:avLst/>
              <a:gdLst/>
              <a:ahLst/>
              <a:rect l="l" t="t" r="r" b="b"/>
              <a:pathLst>
                <a:path w="1697" h="934">
                  <a:moveTo>
                    <a:pt x="757" y="75"/>
                  </a:moveTo>
                  <a:cubicBezTo>
                    <a:pt x="704" y="57"/>
                    <a:pt x="649" y="49"/>
                    <a:pt x="594" y="41"/>
                  </a:cubicBezTo>
                  <a:cubicBezTo>
                    <a:pt x="548" y="25"/>
                    <a:pt x="504" y="10"/>
                    <a:pt x="457" y="0"/>
                  </a:cubicBezTo>
                  <a:cubicBezTo>
                    <a:pt x="351" y="6"/>
                    <a:pt x="252" y="6"/>
                    <a:pt x="164" y="68"/>
                  </a:cubicBezTo>
                  <a:cubicBezTo>
                    <a:pt x="144" y="96"/>
                    <a:pt x="117" y="116"/>
                    <a:pt x="96" y="143"/>
                  </a:cubicBezTo>
                  <a:cubicBezTo>
                    <a:pt x="86" y="156"/>
                    <a:pt x="68" y="184"/>
                    <a:pt x="68" y="184"/>
                  </a:cubicBezTo>
                  <a:cubicBezTo>
                    <a:pt x="58" y="217"/>
                    <a:pt x="52" y="239"/>
                    <a:pt x="34" y="266"/>
                  </a:cubicBezTo>
                  <a:cubicBezTo>
                    <a:pt x="32" y="273"/>
                    <a:pt x="31" y="280"/>
                    <a:pt x="28" y="286"/>
                  </a:cubicBezTo>
                  <a:cubicBezTo>
                    <a:pt x="24" y="294"/>
                    <a:pt x="17" y="299"/>
                    <a:pt x="14" y="307"/>
                  </a:cubicBezTo>
                  <a:cubicBezTo>
                    <a:pt x="7" y="329"/>
                    <a:pt x="0" y="375"/>
                    <a:pt x="0" y="375"/>
                  </a:cubicBezTo>
                  <a:cubicBezTo>
                    <a:pt x="6" y="440"/>
                    <a:pt x="1" y="525"/>
                    <a:pt x="62" y="566"/>
                  </a:cubicBezTo>
                  <a:cubicBezTo>
                    <a:pt x="94" y="613"/>
                    <a:pt x="76" y="597"/>
                    <a:pt x="109" y="620"/>
                  </a:cubicBezTo>
                  <a:cubicBezTo>
                    <a:pt x="142" y="669"/>
                    <a:pt x="203" y="679"/>
                    <a:pt x="259" y="695"/>
                  </a:cubicBezTo>
                  <a:cubicBezTo>
                    <a:pt x="318" y="712"/>
                    <a:pt x="376" y="739"/>
                    <a:pt x="437" y="750"/>
                  </a:cubicBezTo>
                  <a:cubicBezTo>
                    <a:pt x="518" y="765"/>
                    <a:pt x="600" y="772"/>
                    <a:pt x="682" y="777"/>
                  </a:cubicBezTo>
                  <a:cubicBezTo>
                    <a:pt x="739" y="780"/>
                    <a:pt x="796" y="782"/>
                    <a:pt x="853" y="784"/>
                  </a:cubicBezTo>
                  <a:cubicBezTo>
                    <a:pt x="879" y="789"/>
                    <a:pt x="903" y="796"/>
                    <a:pt x="928" y="804"/>
                  </a:cubicBezTo>
                  <a:cubicBezTo>
                    <a:pt x="966" y="830"/>
                    <a:pt x="1012" y="838"/>
                    <a:pt x="1057" y="845"/>
                  </a:cubicBezTo>
                  <a:cubicBezTo>
                    <a:pt x="1102" y="860"/>
                    <a:pt x="1139" y="867"/>
                    <a:pt x="1187" y="872"/>
                  </a:cubicBezTo>
                  <a:cubicBezTo>
                    <a:pt x="1254" y="871"/>
                    <a:pt x="1537" y="934"/>
                    <a:pt x="1664" y="845"/>
                  </a:cubicBezTo>
                  <a:cubicBezTo>
                    <a:pt x="1697" y="797"/>
                    <a:pt x="1688" y="701"/>
                    <a:pt x="1637" y="668"/>
                  </a:cubicBezTo>
                  <a:cubicBezTo>
                    <a:pt x="1595" y="606"/>
                    <a:pt x="1651" y="679"/>
                    <a:pt x="1603" y="641"/>
                  </a:cubicBezTo>
                  <a:cubicBezTo>
                    <a:pt x="1596" y="636"/>
                    <a:pt x="1595" y="626"/>
                    <a:pt x="1589" y="620"/>
                  </a:cubicBezTo>
                  <a:cubicBezTo>
                    <a:pt x="1568" y="598"/>
                    <a:pt x="1532" y="583"/>
                    <a:pt x="1507" y="566"/>
                  </a:cubicBezTo>
                  <a:cubicBezTo>
                    <a:pt x="1493" y="557"/>
                    <a:pt x="1478" y="550"/>
                    <a:pt x="1466" y="538"/>
                  </a:cubicBezTo>
                  <a:cubicBezTo>
                    <a:pt x="1459" y="531"/>
                    <a:pt x="1453" y="524"/>
                    <a:pt x="1446" y="518"/>
                  </a:cubicBezTo>
                  <a:cubicBezTo>
                    <a:pt x="1418" y="496"/>
                    <a:pt x="1392" y="489"/>
                    <a:pt x="1364" y="470"/>
                  </a:cubicBezTo>
                  <a:cubicBezTo>
                    <a:pt x="1331" y="423"/>
                    <a:pt x="1243" y="358"/>
                    <a:pt x="1187" y="341"/>
                  </a:cubicBezTo>
                  <a:cubicBezTo>
                    <a:pt x="1073" y="263"/>
                    <a:pt x="1020" y="243"/>
                    <a:pt x="880" y="232"/>
                  </a:cubicBezTo>
                  <a:cubicBezTo>
                    <a:pt x="804" y="216"/>
                    <a:pt x="831" y="231"/>
                    <a:pt x="791" y="204"/>
                  </a:cubicBezTo>
                  <a:cubicBezTo>
                    <a:pt x="781" y="177"/>
                    <a:pt x="773" y="149"/>
                    <a:pt x="764" y="122"/>
                  </a:cubicBezTo>
                  <a:cubicBezTo>
                    <a:pt x="761" y="114"/>
                    <a:pt x="745" y="117"/>
                    <a:pt x="744" y="109"/>
                  </a:cubicBezTo>
                  <a:cubicBezTo>
                    <a:pt x="742" y="97"/>
                    <a:pt x="753" y="86"/>
                    <a:pt x="757" y="75"/>
                  </a:cubicBezTo>
                  <a:close/>
                </a:path>
              </a:pathLst>
            </a:custGeom>
            <a:solidFill>
              <a:srgbClr val="ffffcc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a zone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(becoming a parent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e authority for a sub domain to another party (splitting of disi.ripe.net from ripe.net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839160" y="4876920"/>
            <a:ext cx="6539400" cy="1182600"/>
            <a:chOff x="839160" y="4876920"/>
            <a:chExt cx="6539400" cy="1182600"/>
          </a:xfrm>
        </p:grpSpPr>
        <p:sp>
          <p:nvSpPr>
            <p:cNvPr id="513" name=""/>
            <p:cNvSpPr/>
            <p:nvPr/>
          </p:nvSpPr>
          <p:spPr>
            <a:xfrm>
              <a:off x="5608800" y="4876920"/>
              <a:ext cx="1769760" cy="1182600"/>
            </a:xfrm>
            <a:custGeom>
              <a:avLst/>
              <a:gdLst/>
              <a:ahLst/>
              <a:rect l="l" t="t" r="r" b="b"/>
              <a:pathLst>
                <a:path w="1115" h="745">
                  <a:moveTo>
                    <a:pt x="445" y="53"/>
                  </a:moveTo>
                  <a:cubicBezTo>
                    <a:pt x="366" y="0"/>
                    <a:pt x="132" y="34"/>
                    <a:pt x="70" y="36"/>
                  </a:cubicBezTo>
                  <a:cubicBezTo>
                    <a:pt x="37" y="48"/>
                    <a:pt x="23" y="61"/>
                    <a:pt x="12" y="95"/>
                  </a:cubicBezTo>
                  <a:cubicBezTo>
                    <a:pt x="0" y="196"/>
                    <a:pt x="17" y="281"/>
                    <a:pt x="37" y="378"/>
                  </a:cubicBezTo>
                  <a:cubicBezTo>
                    <a:pt x="40" y="390"/>
                    <a:pt x="43" y="436"/>
                    <a:pt x="53" y="453"/>
                  </a:cubicBezTo>
                  <a:cubicBezTo>
                    <a:pt x="68" y="479"/>
                    <a:pt x="86" y="503"/>
                    <a:pt x="103" y="528"/>
                  </a:cubicBezTo>
                  <a:cubicBezTo>
                    <a:pt x="134" y="575"/>
                    <a:pt x="174" y="606"/>
                    <a:pt x="220" y="637"/>
                  </a:cubicBezTo>
                  <a:cubicBezTo>
                    <a:pt x="234" y="647"/>
                    <a:pt x="270" y="653"/>
                    <a:pt x="270" y="653"/>
                  </a:cubicBezTo>
                  <a:cubicBezTo>
                    <a:pt x="278" y="659"/>
                    <a:pt x="289" y="662"/>
                    <a:pt x="295" y="670"/>
                  </a:cubicBezTo>
                  <a:cubicBezTo>
                    <a:pt x="300" y="677"/>
                    <a:pt x="295" y="691"/>
                    <a:pt x="303" y="695"/>
                  </a:cubicBezTo>
                  <a:cubicBezTo>
                    <a:pt x="321" y="704"/>
                    <a:pt x="342" y="700"/>
                    <a:pt x="362" y="703"/>
                  </a:cubicBezTo>
                  <a:cubicBezTo>
                    <a:pt x="461" y="738"/>
                    <a:pt x="574" y="731"/>
                    <a:pt x="678" y="745"/>
                  </a:cubicBezTo>
                  <a:cubicBezTo>
                    <a:pt x="736" y="742"/>
                    <a:pt x="795" y="742"/>
                    <a:pt x="853" y="737"/>
                  </a:cubicBezTo>
                  <a:cubicBezTo>
                    <a:pt x="881" y="735"/>
                    <a:pt x="961" y="698"/>
                    <a:pt x="995" y="687"/>
                  </a:cubicBezTo>
                  <a:cubicBezTo>
                    <a:pt x="1115" y="605"/>
                    <a:pt x="1044" y="458"/>
                    <a:pt x="970" y="370"/>
                  </a:cubicBezTo>
                  <a:cubicBezTo>
                    <a:pt x="941" y="336"/>
                    <a:pt x="915" y="303"/>
                    <a:pt x="878" y="278"/>
                  </a:cubicBezTo>
                  <a:cubicBezTo>
                    <a:pt x="841" y="220"/>
                    <a:pt x="768" y="185"/>
                    <a:pt x="703" y="170"/>
                  </a:cubicBezTo>
                  <a:cubicBezTo>
                    <a:pt x="672" y="149"/>
                    <a:pt x="639" y="139"/>
                    <a:pt x="603" y="128"/>
                  </a:cubicBezTo>
                  <a:cubicBezTo>
                    <a:pt x="576" y="110"/>
                    <a:pt x="551" y="105"/>
                    <a:pt x="520" y="95"/>
                  </a:cubicBezTo>
                  <a:cubicBezTo>
                    <a:pt x="495" y="78"/>
                    <a:pt x="473" y="71"/>
                    <a:pt x="445" y="61"/>
                  </a:cubicBezTo>
                  <a:cubicBezTo>
                    <a:pt x="437" y="58"/>
                    <a:pt x="420" y="62"/>
                    <a:pt x="420" y="53"/>
                  </a:cubicBezTo>
                  <a:cubicBezTo>
                    <a:pt x="420" y="45"/>
                    <a:pt x="437" y="53"/>
                    <a:pt x="445" y="53"/>
                  </a:cubicBezTo>
                  <a:close/>
                </a:path>
              </a:pathLst>
            </a:custGeom>
            <a:solidFill>
              <a:srgbClr val="ff9966"/>
            </a:solidFill>
            <a:ln w="93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971800" y="5516640"/>
              <a:ext cx="2743200" cy="152280"/>
            </a:xfrm>
            <a:prstGeom prst="line">
              <a:avLst/>
            </a:prstGeom>
            <a:ln w="28440">
              <a:solidFill>
                <a:srgbClr val="0099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839160" y="5133960"/>
              <a:ext cx="2672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disi.ripe.net zon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grpSp>
        <p:nvGrpSpPr>
          <p:cNvPr id="516" name=""/>
          <p:cNvGrpSpPr/>
          <p:nvPr/>
        </p:nvGrpSpPr>
        <p:grpSpPr>
          <a:xfrm>
            <a:off x="4572000" y="2892960"/>
            <a:ext cx="5013000" cy="3053160"/>
            <a:chOff x="4572000" y="2892960"/>
            <a:chExt cx="5013000" cy="3053160"/>
          </a:xfrm>
        </p:grpSpPr>
        <p:grpSp>
          <p:nvGrpSpPr>
            <p:cNvPr id="517" name=""/>
            <p:cNvGrpSpPr/>
            <p:nvPr/>
          </p:nvGrpSpPr>
          <p:grpSpPr>
            <a:xfrm>
              <a:off x="4572000" y="2892960"/>
              <a:ext cx="4586040" cy="3053160"/>
              <a:chOff x="4572000" y="2892960"/>
              <a:chExt cx="4586040" cy="3053160"/>
            </a:xfrm>
          </p:grpSpPr>
          <p:sp>
            <p:nvSpPr>
              <p:cNvPr id="518" name=""/>
              <p:cNvSpPr/>
              <p:nvPr/>
            </p:nvSpPr>
            <p:spPr>
              <a:xfrm>
                <a:off x="579096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net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238880" y="32767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com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333760" y="411480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ripe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572000" y="49528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772400" y="51055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ww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553080" y="33526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edu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6324480" y="419112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7696080" y="4114800"/>
                <a:ext cx="14619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tislabs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 flipV="1">
                <a:off x="6188040" y="5178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562360" y="4876920"/>
                <a:ext cx="914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disi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58332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1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5867280" y="548640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ws2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 flipV="1">
                <a:off x="5197320" y="44928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 flipV="1">
                <a:off x="663084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 flipV="1">
                <a:off x="7635960" y="365472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 flipV="1">
                <a:off x="8002440" y="46454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 flipV="1">
                <a:off x="5640480" y="373104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 flipV="1">
                <a:off x="6630840" y="2892600"/>
                <a:ext cx="3636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•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536" name=""/>
              <p:cNvGrpSpPr/>
              <p:nvPr/>
            </p:nvGrpSpPr>
            <p:grpSpPr>
              <a:xfrm>
                <a:off x="5181120" y="3200400"/>
                <a:ext cx="2971800" cy="2438280"/>
                <a:chOff x="5181120" y="3200400"/>
                <a:chExt cx="2971800" cy="2438280"/>
              </a:xfrm>
            </p:grpSpPr>
            <p:sp>
              <p:nvSpPr>
                <p:cNvPr id="537" name=""/>
                <p:cNvSpPr/>
                <p:nvPr/>
              </p:nvSpPr>
              <p:spPr>
                <a:xfrm flipH="1">
                  <a:off x="8044920" y="49528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 flipH="1">
                  <a:off x="6207840" y="3200400"/>
                  <a:ext cx="486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6802200" y="327600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6910200" y="3200400"/>
                  <a:ext cx="324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 flipH="1">
                  <a:off x="5883480" y="3733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 flipH="1">
                  <a:off x="5667120" y="403848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3" name=""/>
                <p:cNvSpPr/>
                <p:nvPr/>
              </p:nvSpPr>
              <p:spPr>
                <a:xfrm flipH="1">
                  <a:off x="5451480" y="4495680"/>
                  <a:ext cx="108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4" name=""/>
                <p:cNvSpPr/>
                <p:nvPr/>
              </p:nvSpPr>
              <p:spPr>
                <a:xfrm flipH="1">
                  <a:off x="5181120" y="4876200"/>
                  <a:ext cx="107640" cy="1526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5" name=""/>
                <p:cNvSpPr/>
                <p:nvPr/>
              </p:nvSpPr>
              <p:spPr>
                <a:xfrm>
                  <a:off x="5451480" y="480060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6" name=""/>
                <p:cNvSpPr/>
                <p:nvPr/>
              </p:nvSpPr>
              <p:spPr>
                <a:xfrm>
                  <a:off x="6045840" y="5181480"/>
                  <a:ext cx="270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 flipH="1">
                  <a:off x="6207480" y="54864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6478200" y="5486400"/>
                  <a:ext cx="16200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6856560" y="3809520"/>
                  <a:ext cx="0" cy="7632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 flipH="1">
                  <a:off x="6693840" y="4114800"/>
                  <a:ext cx="107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7504920" y="3657600"/>
                  <a:ext cx="215640" cy="15228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7828920" y="3962160"/>
                  <a:ext cx="10764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8044920" y="4572000"/>
                  <a:ext cx="108000" cy="22860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554" name=""/>
                <p:cNvSpPr/>
                <p:nvPr/>
              </p:nvSpPr>
              <p:spPr>
                <a:xfrm>
                  <a:off x="5397480" y="4876560"/>
                  <a:ext cx="0" cy="381240"/>
                </a:xfrm>
                <a:prstGeom prst="line">
                  <a:avLst/>
                </a:prstGeom>
                <a:ln w="3816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55" name=""/>
              <p:cNvSpPr/>
              <p:nvPr/>
            </p:nvSpPr>
            <p:spPr>
              <a:xfrm>
                <a:off x="5029200" y="5181480"/>
                <a:ext cx="731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400" spc="-1" strike="noStrike">
                    <a:solidFill>
                      <a:srgbClr val="003399"/>
                    </a:solidFill>
                    <a:latin typeface="Courier New"/>
                  </a:rPr>
                  <a:t>ftp</a:t>
                </a:r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sp>
          <p:nvSpPr>
            <p:cNvPr id="556" name=""/>
            <p:cNvSpPr/>
            <p:nvPr/>
          </p:nvSpPr>
          <p:spPr>
            <a:xfrm>
              <a:off x="7848360" y="3886200"/>
              <a:ext cx="533160" cy="7596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7467480" y="3962160"/>
              <a:ext cx="304200" cy="1526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V="1">
              <a:off x="7619760" y="3962160"/>
              <a:ext cx="151920" cy="60984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935760" y="4038480"/>
              <a:ext cx="729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su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011720" y="4495680"/>
              <a:ext cx="91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moon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8307000" y="37335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Courier New"/>
                </a:rPr>
                <a:t>googl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C0E22-4B49-4B4B-84EA-C21F65A95986}" type="slidenum">
              <a:t>4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elegation is done by adding NS record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disi.ripe.net.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How to get to ns1 and ns2… We need the address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glue records to so that resolvers can reach ns1 and ns2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1.disi.ripe.net. A 10.0.0.1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ns2.disi.ripe.net. A 10.0.0.2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D2303-FBAE-4975-9E23-F1F3030ECB3A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"/>
          <p:cNvGrpSpPr/>
          <p:nvPr/>
        </p:nvGrpSpPr>
        <p:grpSpPr>
          <a:xfrm>
            <a:off x="2271240" y="3124080"/>
            <a:ext cx="6415560" cy="2861640"/>
            <a:chOff x="2271240" y="3124080"/>
            <a:chExt cx="6415560" cy="2861640"/>
          </a:xfrm>
        </p:grpSpPr>
        <p:sp>
          <p:nvSpPr>
            <p:cNvPr id="565" name=""/>
            <p:cNvSpPr/>
            <p:nvPr/>
          </p:nvSpPr>
          <p:spPr>
            <a:xfrm>
              <a:off x="5105520" y="3124080"/>
              <a:ext cx="3581280" cy="609840"/>
            </a:xfrm>
            <a:prstGeom prst="ellips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 flipH="1">
              <a:off x="3200040" y="3581280"/>
              <a:ext cx="2133720" cy="190512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71240" y="5526000"/>
              <a:ext cx="4196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99"/>
                  </a:solidFill>
                  <a:latin typeface="Arial"/>
                </a:rPr>
                <a:t>Only this record needs glue</a:t>
              </a:r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oncept: Glue (continued)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lue is ‘non-authoritative’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n’t include glue for servers that are not in sub zon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992160" y="3276720"/>
            <a:ext cx="7983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.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2.ripe.net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disi.ripe.net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.bert.secret-wg.org.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992520" y="4343400"/>
            <a:ext cx="56365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ns1.disi.ripe.net. A 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	</a:t>
            </a:r>
            <a:r>
              <a:rPr b="1" lang="en-US" sz="2200" spc="-1" strike="noStrike">
                <a:solidFill>
                  <a:srgbClr val="003399"/>
                </a:solidFill>
                <a:latin typeface="Courier New"/>
              </a:rPr>
              <a:t>10.0.0.1</a:t>
            </a: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44017E-566C-4039-A42A-4FE974FA3B31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elegating disi.ripe.net. from ripe.net.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123624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i.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up minimum two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reate zone file with NS recor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all disi.ripe.net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5409720" y="1676520"/>
            <a:ext cx="417348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ipe.ne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dd NS records and glu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ke sure there is no other data from the disi.ripe.net. zone in the zone file.`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A6A658-DC3A-4C5E-BEA4-F46813FCD6C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Becoming a child</a:t>
            </a:r>
            <a:br>
              <a:rPr sz="4800"/>
            </a:b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In general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y your domain at favorite regis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t up your name serv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er the name servers: your registry will communicate the name servers to the registrar who will make sure the name servers are publish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This process might take hours-day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gistrars may require a sensible setup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E5CC09-8816-4151-A512-796F810001DE}" type="slidenum">
              <a:t>4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722680" y="228240"/>
            <a:ext cx="660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lookup mechanism for translating objects into other objec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globally distributed, loosely coherent, scalable, reliable, dynamic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prised of three component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“name space”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rvers making that name space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Resolvers (clients) which query the servers about the name sp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38E8E3-C8D0-4FE4-BDEC-6563A6F49F76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Global Distribution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maintained locally, but retrievable globall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No single computer has all DNS data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lookups can be performed by any devi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Remote DNS data is locally cachable to improve performanc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6EEA4C-338F-4597-A758-72FBCA5A51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Loose Coherenc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e database is always internally consisten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Each version of a subset of the database (a zone) has a serial numb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The serial number is incremented on each database chang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hanges to the master copy of the database are replicated according to timing set by the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ached data expires according to timeout set by zone administrator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62EA92-EDA5-4AE5-9B7B-75B9915387D3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Scal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size of the 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server has over 20,000,000 nam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336699"/>
              </a:buClr>
              <a:buSzPct val="65000"/>
              <a:buFont typeface="Monotype Sorts" charset="2"/>
              <a:buChar char="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Not a particularly good idea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 limit to the number of que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24,000 queries per second handled easil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Queries distributed among masters, slaves, and cach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08FFF-423F-4928-9230-4447AC8AE619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722680" y="763200"/>
            <a:ext cx="660240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DNS Features: Reliability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55600" y="1600200"/>
            <a:ext cx="849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ata is replicat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Data from master is copied to multiple slave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can que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Master server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Any of the copies at slave server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ents will typically query local cach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DNS protocols can use either UDP or TC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If UDP, DNS protocol handles retransmission, sequencing, etc.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FDC634-B9FD-4169-932D-94432A4A5AAE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February 2003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5T10:35:10Z</dcterms:created>
  <dc:creator>Olaf M. Kolkman</dc:creator>
  <dc:description/>
  <dc:language>en-US</dc:language>
  <cp:lastModifiedBy>Marmaduke Wildebeeste</cp:lastModifiedBy>
  <cp:lastPrinted>2003-02-19T04:33:52Z</cp:lastPrinted>
  <dcterms:modified xsi:type="dcterms:W3CDTF">2003-06-01T20:44:05Z</dcterms:modified>
  <cp:revision>38</cp:revision>
  <dc:subject/>
  <dc:title>PowerPoint Presentation  -  Introduction to the DNS syst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6777215</vt:r8>
  </property>
  <property fmtid="{D5CDD505-2E9C-101B-9397-08002B2CF9AE}" pid="3" name="ButtonType">
    <vt:r8>1</vt:r8>
  </property>
  <property fmtid="{D5CDD505-2E9C-101B-9397-08002B2CF9AE}" pid="4" name="Compression">
    <vt:r8>75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2</vt:r8>
  </property>
  <property fmtid="{D5CDD505-2E9C-101B-9397-08002B2CF9AE}" pid="8" name="HomePage">
    <vt:lpwstr>http://www.ripe.net/disi</vt:lpwstr>
  </property>
  <property fmtid="{D5CDD505-2E9C-101B-9397-08002B2CF9AE}" pid="9" name="LinkColor">
    <vt:r8>16711782</vt:r8>
  </property>
  <property fmtid="{D5CDD505-2E9C-101B-9397-08002B2CF9AE}" pid="10" name="MailAddress">
    <vt:lpwstr>OKolkman@ripe.net</vt:lpwstr>
  </property>
  <property fmtid="{D5CDD505-2E9C-101B-9397-08002B2CF9AE}" pid="11" name="NavBtnPos">
    <vt:r8>1</vt:r8>
  </property>
  <property fmtid="{D5CDD505-2E9C-101B-9397-08002B2CF9AE}" pid="12" name="Other">
    <vt:lpwstr>DNSSEC tutorial Prague</vt:lpwstr>
  </property>
  <property fmtid="{D5CDD505-2E9C-101B-9397-08002B2CF9AE}" pid="13" name="OutputDir">
    <vt:lpwstr>H:\DISI\PRESENTATION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0</vt:bool>
  </property>
  <property fmtid="{D5CDD505-2E9C-101B-9397-08002B2CF9AE}" pid="21" name="VisitedColor">
    <vt:r8>10040268</vt:r8>
  </property>
</Properties>
</file>