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2C2D23-4379-4C37-A594-C8C503F5E8A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62F9A-5E44-4966-9D02-B466BEC92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5626CE-7C66-4695-B258-D95A9313B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D3605-DB88-4E21-85B2-00DF2739300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0692D-857A-4CBD-8E59-C6991B514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2060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4520" y="160020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6668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2060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4520" y="3948480"/>
            <a:ext cx="25272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7EF892-DD1E-4FD0-ACD9-7616109B2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7621F2-AA77-4EF4-9760-56DC2D6F9F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0AD9DC-2ECD-4B7C-86CC-7B5B40BC2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514240" y="22824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55F58-4A16-4272-920E-C019B3891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1B2B7-D700-4312-974B-5444B51E3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88600" y="394848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68C9ED-9FC4-43F2-A1AF-89C6CBBE4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88600" y="1600200"/>
            <a:ext cx="383004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66680" y="3948480"/>
            <a:ext cx="7848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D057F-EE19-4A48-BB2F-162845738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527960" y="6499080"/>
            <a:ext cx="112716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637480" y="6551640"/>
            <a:ext cx="13176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866080" y="6553080"/>
            <a:ext cx="13176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93360" y="6400440"/>
            <a:ext cx="106524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93720" y="6553080"/>
            <a:ext cx="84456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</a:t>
            </a:r>
            <a:fld id="{7F6FD28D-DC3D-462F-B0B1-C65CB64E8E00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066680" y="1523880"/>
            <a:ext cx="80773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496880" y="1676520"/>
            <a:ext cx="764712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590920" y="456840"/>
            <a:ext cx="6248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81448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41120" y="6400440"/>
            <a:ext cx="26654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267080" y="4952880"/>
            <a:ext cx="451980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" TargetMode="External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isc.org/products/BIND/bind9.html" TargetMode="External"/><Relationship Id="rId2" Type="http://schemas.openxmlformats.org/officeDocument/2006/relationships/hyperlink" Target="http://www.isc.org/products/BIND/bind9-beta.html" TargetMode="External"/><Relationship Id="rId3" Type="http://schemas.openxmlformats.org/officeDocument/2006/relationships/hyperlink" Target="ftp://ftp.isc.org/" TargetMode="External"/><Relationship Id="rId4" Type="http://schemas.openxmlformats.org/officeDocument/2006/relationships/hyperlink" Target="http://www.isc.org/services/public/lists/bind-lists.html" TargetMode="External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90920" y="999720"/>
            <a:ext cx="624816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stalling BIND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uild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/configu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udo make instal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ABD8FB-6169-4C4F-ADD7-E47F8D7F145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ppe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Executabl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s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nssec-keygen, dnssec-makekeyset, dnssec-signkey, dnssec-sign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lwresd, named-checkconf, named-checkzon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ndc, rndc-confge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amed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/usr/local/bi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di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host, isc-config.sh, nslookup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supdat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d libraries "happen"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C7EBB-8D93-42D9-8701-A1CF342825E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es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right version is now install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amed -v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351BD9-EF47-4EEF-967C-9D51B37ECCDF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6AB2E-76FD-479B-9990-73A4A00434C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 9 Mailing Lis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oining mail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services/public/lists/bind-lists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9-users, bind-annou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bind-users is for bind8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rchi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ttp://www.isc.org/ml-archives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6C724-0D88-45E3-8411-70A4DFFB311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01E9A7-A698-4F3E-BE87-BAC01480A72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trieving 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ternet Software Consortiu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packages we'll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825C-B63E-4475-993D-6D4FB823E7B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net Software Consortium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urce for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Software: DHCP, NNT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der Development: OpenReg (EPP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6FCC9-290B-4C2F-B9FA-0F92B609A5C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IN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8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n use, available, obsolete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on't start to use it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igrate to Version 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(Okay, BIND 8 is faster than BIND 9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Version 9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urrent vers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Release Candidate (Bet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napshots (Alphas)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ever Use Snapshots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781233-E2BC-4DDA-818F-1C123705E4E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Getting BIND 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HT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1"/>
              </a:rPr>
              <a:t>http://www.isc.org/products/BIND/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2"/>
              </a:rPr>
              <a:t>http://www.isc.org/products/BIND/bind9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3"/>
              </a:rPr>
              <a:t>http://www.isc.org/products/BIND/bind9-beta.html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BIND 9.2.2.rc1 toda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FT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99"/>
                </a:solidFill>
                <a:uFillTx/>
                <a:latin typeface="Arial"/>
                <a:hlinkClick r:id="rId4"/>
              </a:rPr>
              <a:t>ftp.isc.org</a:t>
            </a: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 - anonymou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Change Directory to /isc/bind9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cd 9.2.2rc1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tp://ftp.isc.org/isc/bind9/9.2.2rc1/bind-9.2.2rc1.tar.gz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210D3A-2249-4F1E-BA25-623B7A86196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Packag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SS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ill be needed for DNSSE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et's wait on that..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4E9FC-90FF-4F96-BBA8-03A1E1410A6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514240" y="771120"/>
            <a:ext cx="6095880" cy="600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verview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triev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ilding, Installing BI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iling Lis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E9C01-4FAA-4171-991F-562A5010DB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14240" y="22824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Unpacking BIND9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680" y="1600200"/>
            <a:ext cx="78487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ar -xzf bind-9.2.2rc1.tar.gz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compresses and creates direct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bind-9.2.2rc1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's in there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 lot of stu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configure (scri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/doc/arm/Bv9ARM.htm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's Reference Manua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ood source!!!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D4F9D-5668-4A0A-8D4F-B441C59A0D4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19T01:37:02Z</dcterms:created>
  <dc:creator>ARIN Net</dc:creator>
  <dc:description/>
  <dc:language>en-US</dc:language>
  <cp:lastModifiedBy>Marmaduke Wildebeeste</cp:lastModifiedBy>
  <cp:lastPrinted>2009-04-22T19:24:48Z</cp:lastPrinted>
  <dcterms:modified xsi:type="dcterms:W3CDTF">2003-06-01T20:46:17Z</dcterms:modified>
  <cp:revision>11</cp:revision>
  <dc:subject/>
  <dc:title>Getting and Installing BIND</dc:title>
</cp:coreProperties>
</file>