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EC933-A99C-4295-A2F7-8CB25BABA47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BF9F-B9BA-49B1-B12D-32AADC1AED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E9C099-1160-4A5C-AF5F-B61F2A96382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BAC023-062B-44C3-AC0F-E217C1607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C8E4-1883-4BD7-9635-0902ED32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B089F-6BF8-4B83-8417-33DEF721C3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A63EE-EF60-4E9D-BC16-9EED231D0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0E3AB-2F09-4992-BC53-33BB4F1A9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82279-54C6-492E-BBA3-4460FCC59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195479-A1BC-4278-8A3B-837B15EA4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7C6B5-A9D1-4DD3-8677-4BE054A7A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F6226-3E70-42D2-B082-BB6EB1B2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D2235-7105-45ED-AF9A-0D3A2F9CB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53442-4D2B-4698-9860-CC8D5D41C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E40F5BA0-F916-42DA-8F8F-5712223CAA2A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952880" y="5029200"/>
            <a:ext cx="4519800" cy="11286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6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0.0.127.in-addr.arpa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91216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0.0.127.in-addr.arpa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             PTR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3A30B-B37A-4FF4-B505-1FF20D0C347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ssembling the fil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ere's my directory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[~/DNS/apricot2003/recursive] edlewis% l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460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10000"/>
                </a:solidFill>
                <a:latin typeface="Courier New"/>
              </a:rPr>
              <a:t>0.0.127.in-addr.arpa.   localhost.              named.roo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irectory name and file names will be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w I create a named.conf file in the same directory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1A68D-3DA6-4B8F-8BFC-5756F0104C4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d.conf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560" y="1600200"/>
            <a:ext cx="9372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options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directory "/Users/edlewis/DNS/apricot2003/recursive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pid-file "/Users/edlewis/DNS/apricot2003/recursive/n.pid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recursion yes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hint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named.root"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localhost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localhost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zone "0.0.127.in-addr.arpa." {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type master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file "0.0.127.in-addr.arpa.";    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10000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1E7B9-8A90-456F-B86C-2DCB613EC3B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unn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rom the directo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Courier New"/>
              </a:rPr>
              <a:t>sudo named -c named.con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45EC5-4FBA-4460-B703-69677E675AA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 th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91980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to show it is al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g @127.0.0.1 </a:t>
            </a:r>
            <a:r>
              <a:rPr b="0" lang="en-US" sz="2400" spc="-1" strike="noStrike" u="sng">
                <a:solidFill>
                  <a:srgbClr val="000099"/>
                </a:solidFill>
                <a:uFillTx/>
                <a:latin typeface="Courier New"/>
              </a:rPr>
              <a:t>www.arin.ne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 &lt;&lt;&gt;&gt; DiG 9.2.2rc1 &lt;&lt;&gt;&gt; @127.0.0.1 www.arin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lobal options:  printcmd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Got answer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-&gt;&gt;HEADER&lt;&lt;- opcode: QUERY, status: NOERROR, id: 1658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flags: qr rd ra; QUERY: 1, ANSWER: 2, AUTHORITY: 10, ADDITIONAL: 0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STION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www.arin.net.                  IN      A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NSWER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7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www.arin.net.           10800   IN      A       192.149.252.16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AUTHORITY SECTION: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arin.net.               10800   IN      NS      arrowroot.arin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(and so on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Query time: 3066 msec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SERVER: 127.0.0.1#53(127.0.0.1)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WHEN: Wed Feb 19 11:07:05 200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urier New"/>
              </a:rPr>
              <a:t>;; MSG SIZE  rcvd: 25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A44DFF-284C-464F-8668-F9A9377A5B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gratulations - Your First Server!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's just the beginning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26825D-420F-493E-AF04-CBBE3AE6D31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i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oot server 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lhos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0.0.127.in-addr.arpa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206853-F73E-40F2-A172-50D172CB9B2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Used to lookup data by applica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eeds to know how to reach top of D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should stop some queri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, 127.0.0.1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i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amed.conf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root.hint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localhost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0.0.127.in-addr.arpa zon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We'll do named.conf las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D4D5E-8D51-4DDC-A0D2-A09FEA5254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oot Server Li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ist of the 13 root serve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ere to get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ftp rs.internic.ne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onymous log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d domai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et one of these files (they are [nearly] the sam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b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roo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d.cach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76B695-62E0-4EDD-AB78-2EDDE90D9E7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it looks lik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holds the information on root name servers needed to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initialize cache of Internet domain name server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(e.g. reference this file in the "cache  .  &lt;file&gt;"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configuration file of BIND domain name servers)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This file is made available by InterNIC 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under anonymous FTP as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file                /domain/named.cach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    on server           FTP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last update:    Nov 5, 2002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      related version of root zone:   2002110501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formerly NS.INTERNIC.NET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IN  NS    A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A.ROOT-SERVERS.NET.      3600000      A     198.41.0.4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...............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housed in Japan, operated by WID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.                        3600000      NS    M.ROOT-SERVERS.NET.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M.ROOT-SERVERS.NET.      3600000      A     202.12.27.33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  <a:p>
            <a:pPr marL="312120" indent="0">
              <a:lnSpc>
                <a:spcPct val="7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Arial"/>
              </a:rPr>
              <a:t>; End of File</a:t>
            </a:r>
            <a:endParaRPr b="0" lang="en-US" sz="1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6BD16-3496-40A9-8C6F-F5F74530E14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You Do To This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ill include it in named.conf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real networks, don't change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ut for learning, we will change i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0AA1BF-3729-44D8-A955-33875261CA1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opback name in operating syste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eans 127.0.0.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for this shouldn't use recurs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 we will configure a file to define the localhost. zo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"."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BB5B6-92D0-463B-A611-F05BAEE949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localhost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9426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ORIGIN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$TTL 86400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@        IN     SOA localhost. root.localhost. (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  ; seri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800  ; refres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900  ; re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69120  ; expi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1080  ; negative cache tt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NS localhos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               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A 127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CF2EF-F15D-4AF6-82D9-379A54DFA9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verse for localhos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nce we want "localhost -&gt; 127.0.0.1" we want to have "127.0.0.1 -&gt; 127.0.0.1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need a zone called 0.0.127.in-addr.arp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46384-8427-43F3-B60F-EB3B15AC0FE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bill manning</dc:creator>
  <dc:description/>
  <dc:language>en-US</dc:language>
  <cp:lastModifiedBy>Marmaduke Wildebeeste</cp:lastModifiedBy>
  <dcterms:modified xsi:type="dcterms:W3CDTF">2003-06-01T20:47:44Z</dcterms:modified>
  <cp:revision>46</cp:revision>
  <dc:subject/>
  <dc:title>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