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6698F-D6D9-4ECC-AA46-4AD10D2B7A3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B111F-CE99-483B-B30B-7399592D6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732FDF-8140-40D6-9B3E-B7CC28D9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15775A-CC36-4630-8E0A-8E600A8C9F3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77CBC-C5CF-42CA-876C-698EB4C48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816F67-EC6A-402A-8157-16A28953B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8C079F-978C-4807-B354-584649F5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F5B23-E4E5-4358-AAA5-C8574BB7C6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D9D44-8200-45AA-AAE9-D444D7242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15071-456C-4F4C-A534-7312A079F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850E5-BD3C-438C-AAD6-8D6C463BC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C1E5E9-A0CB-4092-A5EE-2FE441208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86AF48D-22D0-498B-B1C5-4E8486117826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191120" y="5029200"/>
            <a:ext cx="451944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RNDC and TSI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SIG to protect AXF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riving a secr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nssec-keygen -a ... -b ... -n... nam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figuring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, same syntax as for rnd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key { algorithm ...; secret ...;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ing use of the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named.conf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erver x { key ...; }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ere 'x' is an IP number of the other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C9D74-61CA-4233-AC0B-C78D36FD8DB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ation Examp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"/>
          <p:cNvSpPr/>
          <p:nvPr/>
        </p:nvSpPr>
        <p:spPr>
          <a:xfrm>
            <a:off x="53352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Prim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46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35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master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3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67080" y="1676520"/>
            <a:ext cx="45720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99"/>
                </a:solidFill>
                <a:latin typeface="Times New Roman"/>
              </a:rPr>
              <a:t>Secondary serv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9999"/>
                </a:solidFill>
                <a:latin typeface="Times New Roman"/>
                <a:ea typeface="Osaka"/>
              </a:rPr>
              <a:t>10.33.40.35</a:t>
            </a:r>
            <a:endParaRPr b="0" lang="en-US" sz="19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gorithm hmac-md5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cret "APlaceToBe"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server 10.33.40.46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  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s {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zone "my.zone.test."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type slave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file...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masters {10.33.40.46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allow-transfer {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key ns1-ns2.zone.;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Courier New"/>
              </a:rPr>
              <a:t>}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27280" y="5907240"/>
            <a:ext cx="72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gain, the secret looks okay, but is purposely invali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F483C-DF5F-45B3-B7E1-793032A1E02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IME!!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is time sensitive - to stop repla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ssage protection expires in 5 minu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ke sure time is synchroniz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testing, set the 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 operations, (secure) NTP is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80F512-0990-4FDE-8F41-6CDF9888DAD1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uses of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was designed for other purpo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tecting sensitive stub resol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s has proven hard to accompli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ynamic Upd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iscussed later, securing this relies on TS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D563E8-0276-4166-A8EC-6FE2E4B9470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lternatives to TS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G (0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blic key approach to same servi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potential, but not much experience y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eans to start with SIG(0) and wind up with TS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so, Microsoft uses this with Kerberos via GSSAP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054F6B-A632-4537-B33A-3AF134A5E1C4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RNDC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mote Name Daemon Controll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and-line control of named daem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ually on same host, can be across ho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F0EBE-6B38-42CD-841F-D20ED63C41E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figuring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"rndc-conf" generates lines to be added to two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ndc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A1E09-6FEA-4541-9083-A6693D274CE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nabling RNDC in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key defin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 rndc_key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secret "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Y7/uIiR0fKGvi5z50+Q==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"; algorithm hmac-md5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arning: example secret looks good but is invalid (don't copy it!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ntrols statem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controls {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inet 127.0.0.1 port 953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allow { 127.0.0.1; }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     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keys { "rndc-key"; 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92E5F-92E1-45A5-A820-0A219EBBB5DA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an rndc.conf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/etc/rndc.conf specifies defaults for rnd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.g.,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key "rndc-key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algorithm hmac-md5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secret "dY7/uIiR0fKGvi5z50+Q==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key "rndc-key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server 127.0.0.1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efault-port 953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2DCC1-C436-4163-AF10-234957F7FAB3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can be done with RNDC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op - kills serv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us - prints some inform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stats - generates stat file (named.stat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reload - refresh zone(s), w/varia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trace - increases debug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ndc flush - removes cached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commands in the AR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974696-1868-4CF9-B81E-B84D386356F9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s TSI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mechanism for protecting a message from a resolver to server and vice vers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keyed-hash is applied (like a digital signature) so recipient can verify messa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ased on a shared secret - both sender and reciever are configured with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073AC0-3A0E-40B7-9014-5A6DD0AD7A2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SIG and Message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"/>
          <p:cNvSpPr/>
          <p:nvPr/>
        </p:nvSpPr>
        <p:spPr>
          <a:xfrm>
            <a:off x="2895480" y="18288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Hea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2666880"/>
            <a:ext cx="2438640" cy="83844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Question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95480" y="350532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sw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95480" y="4343400"/>
            <a:ext cx="2438640" cy="83808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uthority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5480" y="5181480"/>
            <a:ext cx="2438640" cy="914400"/>
          </a:xfrm>
          <a:prstGeom prst="rect">
            <a:avLst/>
          </a:prstGeom>
          <a:solidFill>
            <a:srgbClr val="cecece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dition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&amp; TSIG dat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6880" y="1752480"/>
            <a:ext cx="3353040" cy="3886200"/>
          </a:xfrm>
          <a:prstGeom prst="rect">
            <a:avLst/>
          </a:prstGeom>
          <a:noFill/>
          <a:ln w="38160">
            <a:solidFill>
              <a:srgbClr val="01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397480" y="2743200"/>
            <a:ext cx="154944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’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Original Message Forma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697738-C2F9-4B4D-AFA4-ED683BAEC41D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Secre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name is given to the key, the name is what is transmitted in the message (so receiver knows what key the sender used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SIG secret va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value determined during key gener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sually seen in Base64 encod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9040" indent="-3290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'Looks' like the rndc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13160" indent="-27432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 uses same interface for TSIG and RNDC key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3B9C8B-3115-4CDC-BC79-7DC24D8CB06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31T16:17:50Z</dcterms:created>
  <dc:creator>edward lewis</dc:creator>
  <dc:description/>
  <dc:language>en-US</dc:language>
  <cp:lastModifiedBy>Marmaduke Wildebeeste</cp:lastModifiedBy>
  <cp:lastPrinted>2003-02-20T08:17:40Z</cp:lastPrinted>
  <dcterms:modified xsi:type="dcterms:W3CDTF">2003-06-01T20:50:02Z</dcterms:modified>
  <cp:revision>25</cp:revision>
  <dc:subject/>
  <dc:title>PowerPoint Presentation  -  RNDC and TSIG</dc:title>
</cp:coreProperties>
</file>