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137A-3FD6-4B70-A32C-2EE570EEC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04880" y="401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5992-E938-4C26-AB5B-613AA4838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756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FA41-07CE-4AC0-A9A3-D7D7933DB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288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052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0488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288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052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1319-8773-4C24-86BB-B60D33D36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C5BA-58F2-4C20-8986-77BEF205E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7023-69DA-41AC-AA8D-C86817AF7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A5BE-F5E8-4A5D-A9FF-802B3F99A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A500-DE02-48AF-AB1E-B9383C59A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CE48-AFCB-4E0F-80CF-75E53CB50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24A5-59F5-4421-B2C9-33A312A8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756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BCFF-95BD-4B51-995F-92F1BF5D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581C-5575-463A-A5D1-D7E585D6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F130E-38D5-48E8-9F79-9439C1A1EFD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96BA2-56BE-43A7-A768-D097A7F675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: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face vs.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WATCHC1" descr=""/>
          <p:cNvPicPr/>
          <p:nvPr/>
        </p:nvPicPr>
        <p:blipFill>
          <a:blip r:embed="rId1"/>
          <a:stretch/>
        </p:blipFill>
        <p:spPr>
          <a:xfrm>
            <a:off x="3005280" y="1943280"/>
            <a:ext cx="3651120" cy="28000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419720" y="4813200"/>
            <a:ext cx="4152960" cy="1191240"/>
          </a:xfrm>
          <a:prstGeom prst="borderCallout1">
            <a:avLst>
              <a:gd name="adj1" fmla="val 18750"/>
              <a:gd name="adj2" fmla="val -8333"/>
              <a:gd name="adj3" fmla="val -104740"/>
              <a:gd name="adj4" fmla="val -5953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only has to be familiar with the interface of an object, not it’s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66720" y="5052960"/>
            <a:ext cx="3029040" cy="825480"/>
          </a:xfrm>
          <a:prstGeom prst="borderCallout1">
            <a:avLst>
              <a:gd name="adj1" fmla="val 18750"/>
              <a:gd name="adj2" fmla="val -8333"/>
              <a:gd name="adj3" fmla="val -216171"/>
              <a:gd name="adj4" fmla="val 109162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hide their functions an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AEAC-11FE-44F0-BF85-A946ED49CA1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0728FB-8CE3-42C7-A55F-7702ECD390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finition of an object and the object fa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lass that an object inherits behavior and variables from (recursiv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lass that inherits behavior and variables from a super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object (instance of a class) that has been created and exists i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variable available to all functions in an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unction. Can be called by sending message to an object of this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A5EA-3D4F-4F7B-81B7-A1B910A987DC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E7B28A-D555-4891-B698-1574DE59E5C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746600" y="2035080"/>
            <a:ext cx="938160" cy="957240"/>
          </a:xfrm>
          <a:prstGeom prst="ellipse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ree principles of 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s hide their functions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data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stance variabl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method vari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herits all variables of it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per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ymorph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instances of same class, sharing behavior but not state or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08680" y="2035080"/>
            <a:ext cx="938160" cy="95724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99000" y="347652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00560" y="5576760"/>
            <a:ext cx="5637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3716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86440" y="254016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7212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4200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23736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786720" y="5283360"/>
            <a:ext cx="54108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40400" y="4253040"/>
            <a:ext cx="541440" cy="5410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89360" y="427032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62" idx="4"/>
            <a:endCxn id="171" idx="0"/>
          </p:cNvCxnSpPr>
          <p:nvPr/>
        </p:nvCxnSpPr>
        <p:spPr>
          <a:xfrm rot="5400000">
            <a:off x="5238720" y="3738960"/>
            <a:ext cx="253080" cy="810360"/>
          </a:xfrm>
          <a:prstGeom prst="bentConnector3">
            <a:avLst>
              <a:gd name="adj1" fmla="val 495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3" name=""/>
          <p:cNvCxnSpPr>
            <a:stCxn id="162" idx="4"/>
            <a:endCxn id="170" idx="0"/>
          </p:cNvCxnSpPr>
          <p:nvPr/>
        </p:nvCxnSpPr>
        <p:spPr>
          <a:xfrm flipH="1" rot="16200000">
            <a:off x="6122520" y="3664440"/>
            <a:ext cx="235800" cy="942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74" name=""/>
          <p:cNvSpPr/>
          <p:nvPr/>
        </p:nvSpPr>
        <p:spPr>
          <a:xfrm>
            <a:off x="6270840" y="352728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109640" y="440388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19880" y="526428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853400" y="526428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89840" y="2035080"/>
            <a:ext cx="938160" cy="9572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167600" y="254016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30840" y="252720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D255-75FF-48DF-8C47-E87480974E8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307554-4283-4A88-9C73-AD9A2CB3976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event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301760" y="2771640"/>
            <a:ext cx="990720" cy="2514600"/>
          </a:xfrm>
          <a:custGeom>
            <a:avLst/>
            <a:gdLst>
              <a:gd name="textAreaLeft" fmla="*/ 132480 w 990720"/>
              <a:gd name="textAreaRight" fmla="*/ 858240 w 990720"/>
              <a:gd name="textAreaTop" fmla="*/ 439920 h 2514600"/>
              <a:gd name="textAreaBottom" fmla="*/ 182304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0899600">
            <a:off x="4077720" y="2585160"/>
            <a:ext cx="990360" cy="2590920"/>
          </a:xfrm>
          <a:custGeom>
            <a:avLst/>
            <a:gdLst>
              <a:gd name="textAreaLeft" fmla="*/ 132480 w 990360"/>
              <a:gd name="textAreaRight" fmla="*/ 857880 w 990360"/>
              <a:gd name="textAreaTop" fmla="*/ 453240 h 2590920"/>
              <a:gd name="textAreaBottom" fmla="*/ 187848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0" y="1905120"/>
            <a:ext cx="1600200" cy="16002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68360" y="4062240"/>
            <a:ext cx="1600200" cy="16002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44840" y="2421000"/>
            <a:ext cx="247680" cy="627120"/>
          </a:xfrm>
          <a:custGeom>
            <a:avLst/>
            <a:gdLst>
              <a:gd name="textAreaLeft" fmla="*/ 33120 w 247680"/>
              <a:gd name="textAreaRight" fmla="*/ 214560 w 247680"/>
              <a:gd name="textAreaTop" fmla="*/ 109800 h 627120"/>
              <a:gd name="textAreaBottom" fmla="*/ 454680 h 6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10899600">
            <a:off x="3433680" y="2362320"/>
            <a:ext cx="247680" cy="645840"/>
          </a:xfrm>
          <a:custGeom>
            <a:avLst/>
            <a:gdLst>
              <a:gd name="textAreaLeft" fmla="*/ 33120 w 247680"/>
              <a:gd name="textAreaRight" fmla="*/ 214560 w 247680"/>
              <a:gd name="textAreaTop" fmla="*/ 113040 h 645840"/>
              <a:gd name="textAreaBottom" fmla="*/ 468360 h 64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25640" y="2057400"/>
            <a:ext cx="398520" cy="3999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789280" y="2666880"/>
            <a:ext cx="398520" cy="400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38280" y="4559400"/>
            <a:ext cx="247680" cy="627120"/>
          </a:xfrm>
          <a:custGeom>
            <a:avLst/>
            <a:gdLst>
              <a:gd name="textAreaLeft" fmla="*/ 33120 w 247680"/>
              <a:gd name="textAreaRight" fmla="*/ 214560 w 247680"/>
              <a:gd name="textAreaTop" fmla="*/ 109800 h 627120"/>
              <a:gd name="textAreaBottom" fmla="*/ 454680 h 6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10899600">
            <a:off x="3294000" y="4501800"/>
            <a:ext cx="247680" cy="646200"/>
          </a:xfrm>
          <a:custGeom>
            <a:avLst/>
            <a:gdLst>
              <a:gd name="textAreaLeft" fmla="*/ 33120 w 247680"/>
              <a:gd name="textAreaRight" fmla="*/ 214560 w 247680"/>
              <a:gd name="textAreaTop" fmla="*/ 113040 h 646200"/>
              <a:gd name="textAreaBottom" fmla="*/ 468720 h 64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35280" y="4214880"/>
            <a:ext cx="398520" cy="39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735280" y="4824360"/>
            <a:ext cx="398520" cy="39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276880" y="186696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ation proceeds in discrete time st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on between agents or procedures within simulation may have own event 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F338-C8F9-4974-B084-1FE49A0EC84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CA8EF2-7BA6-4441-B73E-1DDA0264182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ulation in procedural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parameters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ste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_ag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-i-do-some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62720" y="3362400"/>
            <a:ext cx="2819160" cy="1557000"/>
          </a:xfrm>
          <a:prstGeom prst="borderCallout1">
            <a:avLst>
              <a:gd name="adj1" fmla="val 18750"/>
              <a:gd name="adj2" fmla="val -8333"/>
              <a:gd name="adj3" fmla="val 30972"/>
              <a:gd name="adj4" fmla="val -1710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must provide data structure to save agent’s state and implement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67080" y="2084400"/>
            <a:ext cx="4419720" cy="825480"/>
          </a:xfrm>
          <a:prstGeom prst="borderCallout1">
            <a:avLst>
              <a:gd name="adj1" fmla="val 18750"/>
              <a:gd name="adj2" fmla="val -8333"/>
              <a:gd name="adj3" fmla="val 61504"/>
              <a:gd name="adj4" fmla="val -44282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ly set’s up data structures and support for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09880" y="5105520"/>
            <a:ext cx="4445280" cy="825480"/>
          </a:xfrm>
          <a:prstGeom prst="borderCallout1">
            <a:avLst>
              <a:gd name="adj1" fmla="val 18750"/>
              <a:gd name="adj2" fmla="val -8333"/>
              <a:gd name="adj3" fmla="val -21444"/>
              <a:gd name="adj4" fmla="val -14282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 of output often left to the progra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25CF-5E00-4FC1-B2D7-03E6E622D17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0E260D-F9FD-489E-AFD0-FBDCA9B254B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500120" y="2822400"/>
            <a:ext cx="6597720" cy="326412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(Swarm) OOP w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93760" y="3618000"/>
            <a:ext cx="93528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19080" y="2521080"/>
            <a:ext cx="1322640" cy="132228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57760" y="2990880"/>
            <a:ext cx="93528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27520" y="3794040"/>
            <a:ext cx="1180800" cy="265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016520" y="3200400"/>
            <a:ext cx="93492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2218800">
            <a:off x="2655360" y="4475160"/>
            <a:ext cx="1181160" cy="264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56080" y="4549680"/>
            <a:ext cx="934920" cy="93528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7536200">
            <a:off x="5159880" y="4229640"/>
            <a:ext cx="1180800" cy="264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21200" y="4900680"/>
            <a:ext cx="93492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56360" y="4498920"/>
            <a:ext cx="619200" cy="70632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50000" y="3592440"/>
            <a:ext cx="619200" cy="7066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"/>
          <p:cNvCxnSpPr/>
          <p:nvPr/>
        </p:nvCxnSpPr>
        <p:spPr>
          <a:xfrm>
            <a:off x="2313000" y="3076200"/>
            <a:ext cx="1775520" cy="486360"/>
          </a:xfrm>
          <a:prstGeom prst="curvedConnector5">
            <a:avLst>
              <a:gd name="adj1" fmla="val 49989"/>
              <a:gd name="adj2" fmla="val 50000"/>
              <a:gd name="adj3" fmla="val 49989"/>
            </a:avLst>
          </a:prstGeom>
          <a:ln w="76320">
            <a:solidFill>
              <a:srgbClr val="00cc99"/>
            </a:solidFill>
            <a:miter/>
            <a:tailEnd len="med" type="triangle" w="med"/>
          </a:ln>
        </p:spPr>
      </p:cxnSp>
      <p:sp>
        <p:nvSpPr>
          <p:cNvPr id="214" name=""/>
          <p:cNvSpPr/>
          <p:nvPr/>
        </p:nvSpPr>
        <p:spPr>
          <a:xfrm>
            <a:off x="652320" y="4686480"/>
            <a:ext cx="4530960" cy="1191240"/>
          </a:xfrm>
          <a:prstGeom prst="borderCallout1">
            <a:avLst>
              <a:gd name="adj1" fmla="val 18750"/>
              <a:gd name="adj2" fmla="val -8333"/>
              <a:gd name="adj3" fmla="val -116250"/>
              <a:gd name="adj4" fmla="val 12305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agent saves his own behavior and state and acts when called upon by scheduler or other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06720" y="1854360"/>
            <a:ext cx="6243480" cy="825480"/>
          </a:xfrm>
          <a:prstGeom prst="borderCallout1">
            <a:avLst>
              <a:gd name="adj1" fmla="val 18750"/>
              <a:gd name="adj2" fmla="val -8333"/>
              <a:gd name="adj3" fmla="val 123625"/>
              <a:gd name="adj4" fmla="val -6879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vent loop is now embedded in an object that sends messages to agents and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4062000">
            <a:off x="1023480" y="2897280"/>
            <a:ext cx="730440" cy="129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9147600">
            <a:off x="1387080" y="2989080"/>
            <a:ext cx="728640" cy="91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395A-8A1D-44F3-9346-39D6C5190E7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DA7BE5-60A5-4012-A62D-21FA07C4C61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warm is an object that imp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 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asic Swarm simulation consist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89640" y="4529160"/>
            <a:ext cx="3809880" cy="129528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869000" y="492912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68880" y="4718160"/>
            <a:ext cx="520560" cy="52056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35560" y="506556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38680" y="4716360"/>
            <a:ext cx="52092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889600" y="500364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521400" y="4859280"/>
            <a:ext cx="689040" cy="65556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38840" y="4694400"/>
            <a:ext cx="689040" cy="65556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655520" y="423396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989320" y="5821200"/>
            <a:ext cx="2349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nimate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667400" y="2608200"/>
            <a:ext cx="3809880" cy="129564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638760" y="2789280"/>
            <a:ext cx="622440" cy="888840"/>
            <a:chOff x="6638760" y="2789280"/>
            <a:chExt cx="622440" cy="888840"/>
          </a:xfrm>
        </p:grpSpPr>
        <p:sp>
          <p:nvSpPr>
            <p:cNvPr id="232" name=""/>
            <p:cNvSpPr/>
            <p:nvPr/>
          </p:nvSpPr>
          <p:spPr>
            <a:xfrm>
              <a:off x="6638760" y="2789280"/>
              <a:ext cx="622440" cy="8888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88080" y="2889000"/>
              <a:ext cx="523800" cy="1382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688080" y="3290760"/>
              <a:ext cx="523800" cy="136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688080" y="3089160"/>
              <a:ext cx="523800" cy="1382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688080" y="3490920"/>
              <a:ext cx="523800" cy="136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5295960" y="2911320"/>
            <a:ext cx="901800" cy="749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03960" y="3030480"/>
            <a:ext cx="660240" cy="546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48240" y="2746440"/>
            <a:ext cx="901800" cy="749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556240" y="2865600"/>
            <a:ext cx="660240" cy="54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69720" y="2206800"/>
            <a:ext cx="1203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394040" y="213048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91400" y="2889360"/>
            <a:ext cx="622080" cy="888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40360" y="2989440"/>
            <a:ext cx="524160" cy="1378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40360" y="3390840"/>
            <a:ext cx="524160" cy="136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40360" y="3189240"/>
            <a:ext cx="524160" cy="1382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40360" y="3591000"/>
            <a:ext cx="524160" cy="136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64360" y="2011320"/>
            <a:ext cx="352440" cy="35244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48" idx="4"/>
            <a:endCxn id="230" idx="0"/>
          </p:cNvCxnSpPr>
          <p:nvPr/>
        </p:nvCxnSpPr>
        <p:spPr>
          <a:xfrm flipH="1" rot="16200000">
            <a:off x="6384240" y="2419200"/>
            <a:ext cx="244800" cy="132480"/>
          </a:xfrm>
          <a:prstGeom prst="bentConnector3">
            <a:avLst>
              <a:gd name="adj1" fmla="val 4992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0" name=""/>
          <p:cNvCxnSpPr>
            <a:stCxn id="230" idx="4"/>
            <a:endCxn id="220" idx="0"/>
          </p:cNvCxnSpPr>
          <p:nvPr/>
        </p:nvCxnSpPr>
        <p:spPr>
          <a:xfrm rot="5400000">
            <a:off x="6220080" y="4177440"/>
            <a:ext cx="626040" cy="78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1" name=""/>
          <p:cNvCxnSpPr>
            <a:stCxn id="228" idx="1"/>
            <a:endCxn id="221" idx="3"/>
          </p:cNvCxnSpPr>
          <p:nvPr/>
        </p:nvCxnSpPr>
        <p:spPr>
          <a:xfrm flipH="1" flipV="1" rot="10800000">
            <a:off x="4655880" y="4461480"/>
            <a:ext cx="289440" cy="911880"/>
          </a:xfrm>
          <a:prstGeom prst="curvedConnector5">
            <a:avLst>
              <a:gd name="adj1" fmla="val -79078"/>
              <a:gd name="adj2" fmla="val 66706"/>
              <a:gd name="adj3" fmla="val -7907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2" name=""/>
          <p:cNvCxnSpPr>
            <a:stCxn id="229" idx="3"/>
            <a:endCxn id="227" idx="3"/>
          </p:cNvCxnSpPr>
          <p:nvPr/>
        </p:nvCxnSpPr>
        <p:spPr>
          <a:xfrm flipH="1" flipV="1">
            <a:off x="7427520" y="5022000"/>
            <a:ext cx="905760" cy="1027800"/>
          </a:xfrm>
          <a:prstGeom prst="curvedConnector5">
            <a:avLst>
              <a:gd name="adj1" fmla="val -25248"/>
              <a:gd name="adj2" fmla="val 50000"/>
              <a:gd name="adj3" fmla="val -2524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3" name=""/>
          <p:cNvCxnSpPr>
            <a:stCxn id="241" idx="1"/>
            <a:endCxn id="237" idx="1"/>
          </p:cNvCxnSpPr>
          <p:nvPr/>
        </p:nvCxnSpPr>
        <p:spPr>
          <a:xfrm flipH="1" flipV="1" rot="10800000">
            <a:off x="4871520" y="2434320"/>
            <a:ext cx="424800" cy="851400"/>
          </a:xfrm>
          <a:prstGeom prst="curvedConnector5">
            <a:avLst>
              <a:gd name="adj1" fmla="val -53859"/>
              <a:gd name="adj2" fmla="val 50000"/>
              <a:gd name="adj3" fmla="val -5385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4" name=""/>
          <p:cNvCxnSpPr>
            <a:stCxn id="242" idx="3"/>
            <a:endCxn id="243" idx="3"/>
          </p:cNvCxnSpPr>
          <p:nvPr/>
        </p:nvCxnSpPr>
        <p:spPr>
          <a:xfrm flipH="1">
            <a:off x="7412760" y="2358720"/>
            <a:ext cx="996120" cy="975240"/>
          </a:xfrm>
          <a:prstGeom prst="curvedConnector5">
            <a:avLst>
              <a:gd name="adj1" fmla="val -22957"/>
              <a:gd name="adj2" fmla="val 50000"/>
              <a:gd name="adj3" fmla="val -2295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55" name=""/>
          <p:cNvSpPr/>
          <p:nvPr/>
        </p:nvSpPr>
        <p:spPr>
          <a:xfrm>
            <a:off x="7086240" y="373392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12560" y="56167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025C-0619-4F8B-B01C-3E217B3F68F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FC6C29-9172-4415-B65D-CB3B1E5AB38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warm as a virtual compu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37240" y="2155680"/>
            <a:ext cx="1567080" cy="11541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840200" y="4437000"/>
            <a:ext cx="3251160" cy="7714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840200" y="3481560"/>
            <a:ext cx="3251160" cy="7714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836960" y="2155680"/>
            <a:ext cx="1568520" cy="115416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068080" y="4632480"/>
            <a:ext cx="279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381280" y="3689280"/>
            <a:ext cx="2167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rm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33040" y="2857680"/>
            <a:ext cx="72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74560" y="2827440"/>
            <a:ext cx="1065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37240" y="2071800"/>
            <a:ext cx="3481200" cy="2243160"/>
          </a:xfrm>
          <a:prstGeom prst="rect">
            <a:avLst/>
          </a:prstGeom>
          <a:noFill/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310440" y="2571840"/>
            <a:ext cx="40932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348240" y="2906640"/>
            <a:ext cx="4334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010120" y="2222640"/>
            <a:ext cx="917640" cy="652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116680" y="2274840"/>
            <a:ext cx="70452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86520" y="2398680"/>
            <a:ext cx="599760" cy="335160"/>
          </a:xfrm>
          <a:custGeom>
            <a:avLst/>
            <a:gdLst/>
            <a:ahLst/>
            <a:rect l="l" t="t" r="r" b="b"/>
            <a:pathLst>
              <a:path w="378" h="211">
                <a:moveTo>
                  <a:pt x="0" y="211"/>
                </a:moveTo>
                <a:cubicBezTo>
                  <a:pt x="22" y="179"/>
                  <a:pt x="28" y="149"/>
                  <a:pt x="56" y="122"/>
                </a:cubicBezTo>
                <a:cubicBezTo>
                  <a:pt x="57" y="119"/>
                  <a:pt x="73" y="47"/>
                  <a:pt x="100" y="67"/>
                </a:cubicBezTo>
                <a:cubicBezTo>
                  <a:pt x="115" y="78"/>
                  <a:pt x="105" y="104"/>
                  <a:pt x="111" y="122"/>
                </a:cubicBezTo>
                <a:cubicBezTo>
                  <a:pt x="116" y="135"/>
                  <a:pt x="127" y="144"/>
                  <a:pt x="133" y="156"/>
                </a:cubicBezTo>
                <a:cubicBezTo>
                  <a:pt x="138" y="166"/>
                  <a:pt x="141" y="178"/>
                  <a:pt x="145" y="189"/>
                </a:cubicBezTo>
                <a:cubicBezTo>
                  <a:pt x="202" y="151"/>
                  <a:pt x="211" y="89"/>
                  <a:pt x="278" y="67"/>
                </a:cubicBezTo>
                <a:cubicBezTo>
                  <a:pt x="295" y="13"/>
                  <a:pt x="307" y="36"/>
                  <a:pt x="345" y="0"/>
                </a:cubicBezTo>
                <a:cubicBezTo>
                  <a:pt x="356" y="4"/>
                  <a:pt x="378" y="11"/>
                  <a:pt x="378" y="1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08680" y="2540160"/>
            <a:ext cx="246240" cy="245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491240" y="2252520"/>
            <a:ext cx="246240" cy="246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238880" y="2598840"/>
            <a:ext cx="246240" cy="245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4" idx="1"/>
            <a:endCxn id="272" idx="5"/>
          </p:cNvCxnSpPr>
          <p:nvPr/>
        </p:nvCxnSpPr>
        <p:spPr>
          <a:xfrm flipH="1">
            <a:off x="7017480" y="2635200"/>
            <a:ext cx="25812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2" idx="7"/>
            <a:endCxn id="273" idx="2"/>
          </p:cNvCxnSpPr>
          <p:nvPr/>
        </p:nvCxnSpPr>
        <p:spPr>
          <a:xfrm flipH="1" flipV="1" rot="5400000">
            <a:off x="7154280" y="2239560"/>
            <a:ext cx="200880" cy="473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7" name=""/>
          <p:cNvCxnSpPr>
            <a:stCxn id="274" idx="6"/>
            <a:endCxn id="273" idx="5"/>
          </p:cNvCxnSpPr>
          <p:nvPr/>
        </p:nvCxnSpPr>
        <p:spPr>
          <a:xfrm flipV="1">
            <a:off x="7485120" y="2461680"/>
            <a:ext cx="216720" cy="26136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mputer’s CPU executes program 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 kernel is virtual CPU running model and GUI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sted Swarms merge activity schedules into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34080" y="5261040"/>
            <a:ext cx="3251160" cy="7714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46200" y="5384880"/>
            <a:ext cx="82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09904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73416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146640" y="41655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9120" y="500076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576432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748836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6657840" y="41655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6669000" y="500004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104E-7B7A-4F94-BBB6-908A28E4404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688FFE-93B7-4568-8B58-59D454A8A2E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ctivity fra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abstractions that allow programmer to treat event scheduling in the artificial world as objects, separate from elements of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some useful shorthand to group actions and sort according to the desired order of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schedules are objects, all agents in simulation can communicate with them, to schedule future events or cause actions to be dropped based on specified conting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7477-8278-40B8-95D8-0D064A6BD72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6EB9BB-DE2A-4CA8-8C5A-89D774027CF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 flipV="1">
            <a:off x="7818480" y="5211360"/>
            <a:ext cx="1440" cy="5144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ments of Activity libr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ordered set of “simultaneous” ev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ed set of events or groups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lying VM executing schedu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162400" y="2152800"/>
            <a:ext cx="1714680" cy="971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223600" y="221292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23600" y="26510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91200" y="2152800"/>
            <a:ext cx="1714680" cy="476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033320" y="219384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3800" y="4324320"/>
            <a:ext cx="361980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25780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3900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78168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505640" y="3467160"/>
            <a:ext cx="476280" cy="3240"/>
          </a:xfrm>
          <a:prstGeom prst="line">
            <a:avLst/>
          </a:prstGeom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39200" y="3333600"/>
            <a:ext cx="247680" cy="2476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"/>
          <p:cNvCxnSpPr>
            <a:stCxn id="296" idx="2"/>
            <a:endCxn id="300" idx="7"/>
          </p:cNvCxnSpPr>
          <p:nvPr/>
        </p:nvCxnSpPr>
        <p:spPr>
          <a:xfrm rot="5400000">
            <a:off x="5038920" y="3537360"/>
            <a:ext cx="1119960" cy="261360"/>
          </a:xfrm>
          <a:prstGeom prst="bentConnector3">
            <a:avLst>
              <a:gd name="adj1" fmla="val 4836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6" name=""/>
          <p:cNvCxnSpPr>
            <a:stCxn id="296" idx="2"/>
            <a:endCxn id="301" idx="0"/>
          </p:cNvCxnSpPr>
          <p:nvPr/>
        </p:nvCxnSpPr>
        <p:spPr>
          <a:xfrm flipH="1" rot="16200000">
            <a:off x="5404680" y="3432600"/>
            <a:ext cx="1083240" cy="434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7" name=""/>
          <p:cNvCxnSpPr>
            <a:stCxn id="296" idx="2"/>
            <a:endCxn id="302" idx="0"/>
          </p:cNvCxnSpPr>
          <p:nvPr/>
        </p:nvCxnSpPr>
        <p:spPr>
          <a:xfrm flipH="1" rot="16200000">
            <a:off x="5775120" y="3061440"/>
            <a:ext cx="1083240" cy="1176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8" name=""/>
          <p:cNvCxnSpPr>
            <a:stCxn id="296" idx="2"/>
            <a:endCxn id="309" idx="0"/>
          </p:cNvCxnSpPr>
          <p:nvPr/>
        </p:nvCxnSpPr>
        <p:spPr>
          <a:xfrm flipH="1" rot="16200000">
            <a:off x="6184800" y="2651760"/>
            <a:ext cx="1083240" cy="1996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0" name=""/>
          <p:cNvCxnSpPr>
            <a:stCxn id="298" idx="2"/>
            <a:endCxn id="304" idx="0"/>
          </p:cNvCxnSpPr>
          <p:nvPr/>
        </p:nvCxnSpPr>
        <p:spPr>
          <a:xfrm flipH="1" rot="16200000">
            <a:off x="7203240" y="2774520"/>
            <a:ext cx="682920" cy="435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9" name=""/>
          <p:cNvSpPr/>
          <p:nvPr/>
        </p:nvSpPr>
        <p:spPr>
          <a:xfrm>
            <a:off x="760104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162400" y="2647800"/>
            <a:ext cx="1714680" cy="1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896000" y="5734080"/>
            <a:ext cx="3619440" cy="0"/>
          </a:xfrm>
          <a:prstGeom prst="line">
            <a:avLst/>
          </a:prstGeom>
          <a:ln w="7632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21964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00084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78168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7700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77000" y="5124600"/>
            <a:ext cx="247680" cy="2476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943440" y="1981080"/>
            <a:ext cx="304560" cy="3049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76400" y="3467160"/>
            <a:ext cx="476280" cy="3240"/>
          </a:xfrm>
          <a:prstGeom prst="line">
            <a:avLst/>
          </a:prstGeom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28960" y="3467160"/>
            <a:ext cx="476280" cy="32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9880" y="4762440"/>
            <a:ext cx="476280" cy="32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9A5A-CBA9-4AE8-A77B-2B2B5000F03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A666FB-089E-4A83-B40F-065BFA9E59A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and overview of Swarm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ibutions of 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 structure of simulations in 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ck and dirty introduction to Objective-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, resources, user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22FE-3DBF-4A9C-B581-4B89D59769C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CB8A4C-E198-4BDB-9499-D4163D97254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ing schedules in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chedules of each sub Swarm are merged into the schedule of next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ly all schedules are merged in the top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you to treat the model as a nested hierarchy of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767120" y="2433600"/>
            <a:ext cx="3660840" cy="17035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073480" y="299232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53200" y="3106800"/>
            <a:ext cx="307800" cy="24588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992920" y="30351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531920" y="393876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326280" y="3701880"/>
            <a:ext cx="1255680" cy="500400"/>
          </a:xfrm>
          <a:custGeom>
            <a:avLst/>
            <a:gdLst/>
            <a:ahLst/>
            <a:rect l="l" t="t" r="r" b="b"/>
            <a:pathLst>
              <a:path w="269" h="515">
                <a:moveTo>
                  <a:pt x="0" y="0"/>
                </a:moveTo>
                <a:lnTo>
                  <a:pt x="86" y="75"/>
                </a:lnTo>
                <a:lnTo>
                  <a:pt x="129" y="118"/>
                </a:lnTo>
                <a:lnTo>
                  <a:pt x="139" y="161"/>
                </a:lnTo>
                <a:lnTo>
                  <a:pt x="129" y="247"/>
                </a:lnTo>
                <a:lnTo>
                  <a:pt x="96" y="343"/>
                </a:lnTo>
                <a:lnTo>
                  <a:pt x="75" y="407"/>
                </a:lnTo>
                <a:lnTo>
                  <a:pt x="75" y="450"/>
                </a:lnTo>
                <a:lnTo>
                  <a:pt x="86" y="482"/>
                </a:lnTo>
                <a:lnTo>
                  <a:pt x="171" y="504"/>
                </a:lnTo>
                <a:lnTo>
                  <a:pt x="204" y="514"/>
                </a:lnTo>
                <a:lnTo>
                  <a:pt x="246" y="514"/>
                </a:lnTo>
                <a:lnTo>
                  <a:pt x="268" y="5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646520" y="200016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453280" y="2577960"/>
            <a:ext cx="2387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2" name=""/>
          <p:cNvCxnSpPr>
            <a:stCxn id="330" idx="2"/>
            <a:endCxn id="325" idx="2"/>
          </p:cNvCxnSpPr>
          <p:nvPr/>
        </p:nvCxnSpPr>
        <p:spPr>
          <a:xfrm rot="5400000">
            <a:off x="4755240" y="2774520"/>
            <a:ext cx="861120" cy="226440"/>
          </a:xfrm>
          <a:prstGeom prst="curvedConnector5">
            <a:avLst>
              <a:gd name="adj1" fmla="val 30991"/>
              <a:gd name="adj2" fmla="val 100636"/>
              <a:gd name="adj3" fmla="val 30991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333" name=""/>
          <p:cNvSpPr/>
          <p:nvPr/>
        </p:nvSpPr>
        <p:spPr>
          <a:xfrm>
            <a:off x="6464160" y="2959200"/>
            <a:ext cx="208080" cy="2077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21360" y="341784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562800" y="34131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943680" y="307188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307280" y="3279600"/>
            <a:ext cx="208080" cy="19080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759200" y="4341960"/>
            <a:ext cx="3660840" cy="170316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/>
          <p:nvPr/>
        </p:nvCxnSpPr>
        <p:spPr>
          <a:xfrm flipH="1" rot="10800000">
            <a:off x="5360040" y="3513960"/>
            <a:ext cx="51480" cy="1707480"/>
          </a:xfrm>
          <a:prstGeom prst="bentConnector4">
            <a:avLst>
              <a:gd name="adj1" fmla="val -450000"/>
              <a:gd name="adj2" fmla="val 59531"/>
            </a:avLst>
          </a:prstGeom>
          <a:ln w="9360">
            <a:solidFill>
              <a:srgbClr val="b2b2b2"/>
            </a:solidFill>
            <a:miter/>
          </a:ln>
        </p:spPr>
      </p:cxnSp>
      <p:sp>
        <p:nvSpPr>
          <p:cNvPr id="340" name=""/>
          <p:cNvSpPr/>
          <p:nvPr/>
        </p:nvSpPr>
        <p:spPr>
          <a:xfrm>
            <a:off x="5262480" y="488304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513400" y="499572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950080" y="46083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352560" y="4521240"/>
            <a:ext cx="1699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562800" y="497520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154560" y="516888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645240" y="541008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024680" y="517680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388280" y="504684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06FD-024C-4341-B7BE-7A1918C0CEC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6A01D6-1217-4E1D-9B0E-17CE644DEBD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ing memory in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llocation and deallocation of memory is a necessary feature in an OO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arm provides libraries for this purpose which make the process transparent to u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feature: Objects are created and destroyed using a notion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mory z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dropping a memory zone can drop entire collections or sub Sw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6019-6045-409B-A68E-94C57C31E54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C8E6DF-5819-4E72-8087-ACB4953C3A3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87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cursive structure of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792520" y="1922400"/>
            <a:ext cx="3660840" cy="170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16160" y="256860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432240" y="2562120"/>
            <a:ext cx="307800" cy="34128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17960" y="234792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595760" y="265428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19840" y="2417760"/>
            <a:ext cx="20772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321080" y="306540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186520" y="2897280"/>
            <a:ext cx="207720" cy="20772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822320" y="4013280"/>
            <a:ext cx="2502000" cy="1127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044800" y="442116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102120" y="4818240"/>
            <a:ext cx="139680" cy="1346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75120" y="4071960"/>
            <a:ext cx="1378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346560" y="431784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071880" y="4357800"/>
            <a:ext cx="137880" cy="13320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460680" y="464508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205240" y="4573440"/>
            <a:ext cx="2502000" cy="11620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427720" y="501660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43680" y="486396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303960" y="470052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104240" y="4896000"/>
            <a:ext cx="13968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251400" y="53560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92840" y="507060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2157480" y="3157560"/>
            <a:ext cx="217656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317840" y="3157560"/>
            <a:ext cx="16200" cy="14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3535200" y="4551120"/>
            <a:ext cx="2891160" cy="15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586320" y="4721400"/>
            <a:ext cx="2006280" cy="85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170760" y="2392200"/>
            <a:ext cx="936360" cy="290520"/>
          </a:xfrm>
          <a:custGeom>
            <a:avLst/>
            <a:gdLst/>
            <a:ahLst/>
            <a:rect l="l" t="t" r="r" b="b"/>
            <a:pathLst>
              <a:path w="590" h="183">
                <a:moveTo>
                  <a:pt x="0" y="150"/>
                </a:moveTo>
                <a:lnTo>
                  <a:pt x="43" y="86"/>
                </a:lnTo>
                <a:lnTo>
                  <a:pt x="107" y="32"/>
                </a:lnTo>
                <a:lnTo>
                  <a:pt x="172" y="0"/>
                </a:lnTo>
                <a:lnTo>
                  <a:pt x="204" y="0"/>
                </a:lnTo>
                <a:lnTo>
                  <a:pt x="289" y="43"/>
                </a:lnTo>
                <a:lnTo>
                  <a:pt x="354" y="96"/>
                </a:lnTo>
                <a:lnTo>
                  <a:pt x="397" y="150"/>
                </a:lnTo>
                <a:lnTo>
                  <a:pt x="418" y="182"/>
                </a:lnTo>
                <a:lnTo>
                  <a:pt x="472" y="139"/>
                </a:lnTo>
                <a:lnTo>
                  <a:pt x="514" y="96"/>
                </a:lnTo>
                <a:lnTo>
                  <a:pt x="547" y="64"/>
                </a:lnTo>
                <a:lnTo>
                  <a:pt x="589" y="4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098840" y="222408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718880" y="390996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337000" y="3038400"/>
            <a:ext cx="614520" cy="733680"/>
          </a:xfrm>
          <a:custGeom>
            <a:avLst/>
            <a:gdLst/>
            <a:ahLst/>
            <a:rect l="l" t="t" r="r" b="b"/>
            <a:pathLst>
              <a:path w="387" h="462">
                <a:moveTo>
                  <a:pt x="0" y="0"/>
                </a:moveTo>
                <a:lnTo>
                  <a:pt x="54" y="0"/>
                </a:lnTo>
                <a:lnTo>
                  <a:pt x="97" y="21"/>
                </a:lnTo>
                <a:lnTo>
                  <a:pt x="129" y="53"/>
                </a:lnTo>
                <a:lnTo>
                  <a:pt x="161" y="118"/>
                </a:lnTo>
                <a:lnTo>
                  <a:pt x="161" y="236"/>
                </a:lnTo>
                <a:lnTo>
                  <a:pt x="150" y="353"/>
                </a:lnTo>
                <a:lnTo>
                  <a:pt x="140" y="418"/>
                </a:lnTo>
                <a:lnTo>
                  <a:pt x="161" y="450"/>
                </a:lnTo>
                <a:lnTo>
                  <a:pt x="215" y="461"/>
                </a:lnTo>
                <a:lnTo>
                  <a:pt x="279" y="461"/>
                </a:lnTo>
                <a:lnTo>
                  <a:pt x="322" y="461"/>
                </a:lnTo>
                <a:lnTo>
                  <a:pt x="354" y="461"/>
                </a:lnTo>
                <a:lnTo>
                  <a:pt x="386" y="4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925240" y="351648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351320" y="3191040"/>
            <a:ext cx="426960" cy="817560"/>
          </a:xfrm>
          <a:custGeom>
            <a:avLst/>
            <a:gdLst/>
            <a:ahLst/>
            <a:rect l="l" t="t" r="r" b="b"/>
            <a:pathLst>
              <a:path w="269" h="515">
                <a:moveTo>
                  <a:pt x="0" y="0"/>
                </a:moveTo>
                <a:lnTo>
                  <a:pt x="86" y="75"/>
                </a:lnTo>
                <a:lnTo>
                  <a:pt x="129" y="118"/>
                </a:lnTo>
                <a:lnTo>
                  <a:pt x="139" y="161"/>
                </a:lnTo>
                <a:lnTo>
                  <a:pt x="129" y="247"/>
                </a:lnTo>
                <a:lnTo>
                  <a:pt x="96" y="343"/>
                </a:lnTo>
                <a:lnTo>
                  <a:pt x="75" y="407"/>
                </a:lnTo>
                <a:lnTo>
                  <a:pt x="75" y="450"/>
                </a:lnTo>
                <a:lnTo>
                  <a:pt x="86" y="482"/>
                </a:lnTo>
                <a:lnTo>
                  <a:pt x="171" y="504"/>
                </a:lnTo>
                <a:lnTo>
                  <a:pt x="204" y="514"/>
                </a:lnTo>
                <a:lnTo>
                  <a:pt x="246" y="514"/>
                </a:lnTo>
                <a:lnTo>
                  <a:pt x="268" y="5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513160" y="152388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819520" y="1905120"/>
            <a:ext cx="393480" cy="879480"/>
          </a:xfrm>
          <a:custGeom>
            <a:avLst/>
            <a:gdLst/>
            <a:ahLst/>
            <a:rect l="l" t="t" r="r" b="b"/>
            <a:pathLst>
              <a:path w="419" h="408">
                <a:moveTo>
                  <a:pt x="418" y="407"/>
                </a:moveTo>
                <a:lnTo>
                  <a:pt x="407" y="343"/>
                </a:lnTo>
                <a:lnTo>
                  <a:pt x="397" y="311"/>
                </a:lnTo>
                <a:lnTo>
                  <a:pt x="386" y="289"/>
                </a:lnTo>
                <a:lnTo>
                  <a:pt x="365" y="257"/>
                </a:lnTo>
                <a:lnTo>
                  <a:pt x="322" y="225"/>
                </a:lnTo>
                <a:lnTo>
                  <a:pt x="279" y="214"/>
                </a:lnTo>
                <a:lnTo>
                  <a:pt x="236" y="204"/>
                </a:lnTo>
                <a:lnTo>
                  <a:pt x="193" y="204"/>
                </a:lnTo>
                <a:lnTo>
                  <a:pt x="150" y="204"/>
                </a:lnTo>
                <a:lnTo>
                  <a:pt x="108" y="204"/>
                </a:lnTo>
                <a:lnTo>
                  <a:pt x="86" y="204"/>
                </a:lnTo>
                <a:lnTo>
                  <a:pt x="54" y="182"/>
                </a:lnTo>
                <a:lnTo>
                  <a:pt x="22" y="140"/>
                </a:lnTo>
                <a:lnTo>
                  <a:pt x="11" y="118"/>
                </a:lnTo>
                <a:lnTo>
                  <a:pt x="11" y="86"/>
                </a:lnTo>
                <a:lnTo>
                  <a:pt x="11" y="43"/>
                </a:lnTo>
                <a:lnTo>
                  <a:pt x="11" y="1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057400" y="441972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423040" y="5181480"/>
            <a:ext cx="291960" cy="255600"/>
          </a:xfrm>
          <a:custGeom>
            <a:avLst/>
            <a:gdLst/>
            <a:ahLst/>
            <a:rect l="l" t="t" r="r" b="b"/>
            <a:pathLst>
              <a:path w="151" h="130">
                <a:moveTo>
                  <a:pt x="0" y="0"/>
                </a:moveTo>
                <a:lnTo>
                  <a:pt x="150" y="11"/>
                </a:lnTo>
                <a:lnTo>
                  <a:pt x="75" y="12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003320" y="2617920"/>
            <a:ext cx="1401840" cy="718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174680" y="2838600"/>
            <a:ext cx="243000" cy="279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168560" y="2849400"/>
            <a:ext cx="182520" cy="142920"/>
          </a:xfrm>
          <a:custGeom>
            <a:avLst/>
            <a:gdLst/>
            <a:ahLst/>
            <a:rect l="l" t="t" r="r" b="b"/>
            <a:pathLst>
              <a:path w="115" h="90">
                <a:moveTo>
                  <a:pt x="0" y="55"/>
                </a:moveTo>
                <a:lnTo>
                  <a:pt x="84" y="89"/>
                </a:lnTo>
                <a:lnTo>
                  <a:pt x="11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550880" y="2873520"/>
            <a:ext cx="208080" cy="34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873080" y="2770200"/>
            <a:ext cx="208080" cy="34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060560" y="3382920"/>
            <a:ext cx="195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669640" y="1646280"/>
            <a:ext cx="159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517920" y="4295880"/>
            <a:ext cx="1344600" cy="376200"/>
          </a:xfrm>
          <a:custGeom>
            <a:avLst/>
            <a:gdLst/>
            <a:ahLst/>
            <a:rect l="l" t="t" r="r" b="b"/>
            <a:pathLst>
              <a:path w="847" h="237">
                <a:moveTo>
                  <a:pt x="0" y="236"/>
                </a:moveTo>
                <a:lnTo>
                  <a:pt x="11" y="182"/>
                </a:lnTo>
                <a:lnTo>
                  <a:pt x="43" y="129"/>
                </a:lnTo>
                <a:lnTo>
                  <a:pt x="86" y="97"/>
                </a:lnTo>
                <a:lnTo>
                  <a:pt x="128" y="86"/>
                </a:lnTo>
                <a:lnTo>
                  <a:pt x="150" y="97"/>
                </a:lnTo>
                <a:lnTo>
                  <a:pt x="182" y="118"/>
                </a:lnTo>
                <a:lnTo>
                  <a:pt x="214" y="129"/>
                </a:lnTo>
                <a:lnTo>
                  <a:pt x="246" y="161"/>
                </a:lnTo>
                <a:lnTo>
                  <a:pt x="268" y="172"/>
                </a:lnTo>
                <a:lnTo>
                  <a:pt x="300" y="172"/>
                </a:lnTo>
                <a:lnTo>
                  <a:pt x="353" y="182"/>
                </a:lnTo>
                <a:lnTo>
                  <a:pt x="396" y="193"/>
                </a:lnTo>
                <a:lnTo>
                  <a:pt x="450" y="193"/>
                </a:lnTo>
                <a:lnTo>
                  <a:pt x="514" y="182"/>
                </a:lnTo>
                <a:lnTo>
                  <a:pt x="557" y="182"/>
                </a:lnTo>
                <a:lnTo>
                  <a:pt x="600" y="172"/>
                </a:lnTo>
                <a:lnTo>
                  <a:pt x="632" y="161"/>
                </a:lnTo>
                <a:lnTo>
                  <a:pt x="675" y="139"/>
                </a:lnTo>
                <a:lnTo>
                  <a:pt x="707" y="118"/>
                </a:lnTo>
                <a:lnTo>
                  <a:pt x="750" y="97"/>
                </a:lnTo>
                <a:lnTo>
                  <a:pt x="782" y="65"/>
                </a:lnTo>
                <a:lnTo>
                  <a:pt x="825" y="32"/>
                </a:lnTo>
                <a:lnTo>
                  <a:pt x="846" y="0"/>
                </a:lnTo>
                <a:lnTo>
                  <a:pt x="814" y="2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37720" y="198108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7" name=""/>
          <p:cNvCxnSpPr>
            <a:stCxn id="396" idx="2"/>
            <a:endCxn id="391" idx="0"/>
          </p:cNvCxnSpPr>
          <p:nvPr/>
        </p:nvCxnSpPr>
        <p:spPr>
          <a:xfrm flipH="1" rot="16200000">
            <a:off x="1283040" y="2500560"/>
            <a:ext cx="435960" cy="310320"/>
          </a:xfrm>
          <a:prstGeom prst="curvedConnector5">
            <a:avLst>
              <a:gd name="adj1" fmla="val 50000"/>
              <a:gd name="adj2" fmla="val 49941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8" name=""/>
          <p:cNvCxnSpPr/>
          <p:nvPr/>
        </p:nvCxnSpPr>
        <p:spPr>
          <a:xfrm flipH="1" rot="16200000">
            <a:off x="1613880" y="2424600"/>
            <a:ext cx="435600" cy="310320"/>
          </a:xfrm>
          <a:prstGeom prst="curvedConnector5">
            <a:avLst>
              <a:gd name="adj1" fmla="val 49958"/>
              <a:gd name="adj2" fmla="val 49941"/>
              <a:gd name="adj3" fmla="val 4995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99" name=""/>
          <p:cNvSpPr/>
          <p:nvPr/>
        </p:nvSpPr>
        <p:spPr>
          <a:xfrm>
            <a:off x="6552360" y="4168800"/>
            <a:ext cx="215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F847-D62D-47F5-98C5-3788ACBEAFF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8A6FA7-38D3-48AF-9CD0-952204A0895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agents and objects in Swarm can be prob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 attaches itself to an agent, can send a message, change a variable or retrieve values by calling agent or reading variable direc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876920" y="3657600"/>
            <a:ext cx="1523880" cy="213372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rot="2067600">
            <a:off x="5790960" y="2742840"/>
            <a:ext cx="304560" cy="1295280"/>
          </a:xfrm>
          <a:prstGeom prst="cube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rot="2290200">
            <a:off x="5562360" y="2514600"/>
            <a:ext cx="1600200" cy="533520"/>
          </a:xfrm>
          <a:prstGeom prst="can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 rot="17278800">
            <a:off x="7010280" y="1447920"/>
            <a:ext cx="914400" cy="1828800"/>
          </a:xfrm>
          <a:custGeom>
            <a:avLst/>
            <a:gdLst>
              <a:gd name="textAreaLeft" fmla="*/ 122400 w 914400"/>
              <a:gd name="textAreaRight" fmla="*/ 792000 w 91440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162920" y="3124080"/>
            <a:ext cx="1371600" cy="99072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=1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5257800" y="4648320"/>
            <a:ext cx="676440" cy="35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gent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7F2D-E1CC-459B-8CC7-7EB02CE9905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53CD63-0878-4C60-B336-9A46D963544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es and the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be can be used to communicate with objects in real time through a graphical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efaul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e ma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gent shows all variables and functions - can also customize disp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6338880" y="4484160"/>
            <a:ext cx="976320" cy="48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478400" y="5121360"/>
            <a:ext cx="779400" cy="1092240"/>
          </a:xfrm>
          <a:prstGeom prst="can">
            <a:avLst>
              <a:gd name="adj" fmla="val 25000"/>
            </a:avLst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rot="2067600">
            <a:off x="4963680" y="4689000"/>
            <a:ext cx="155520" cy="66204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rot="2290200">
            <a:off x="4846320" y="4571640"/>
            <a:ext cx="819000" cy="272880"/>
          </a:xfrm>
          <a:prstGeom prst="can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95760" y="5568840"/>
            <a:ext cx="50472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gent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15" name=""/>
          <p:cNvSpPr/>
          <p:nvPr/>
        </p:nvSpPr>
        <p:spPr>
          <a:xfrm rot="2067600">
            <a:off x="5495400" y="3759120"/>
            <a:ext cx="152640" cy="96696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5791320" y="2438280"/>
            <a:ext cx="2260440" cy="270828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5636520" y="556272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5867280" y="49525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216840" y="5234040"/>
            <a:ext cx="25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 value for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7086600" y="4495320"/>
            <a:ext cx="457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412880" y="1981080"/>
            <a:ext cx="23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n probe for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410080" y="2362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780600" y="1981080"/>
            <a:ext cx="14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ose 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315200" y="2362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2FDA-2589-41A6-AEE4-5B39C99236D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9690D0-5E37-46BE-92CD-AFD1B012B97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es without a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s are also used to gather information dynamically from single agents or collection of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ong other features is the ability to define and execute method calls on the fly at run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rot="1005600">
            <a:off x="5103360" y="2511000"/>
            <a:ext cx="1420920" cy="76824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124400">
            <a:off x="5622840" y="3301920"/>
            <a:ext cx="157320" cy="1305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rot="897600">
            <a:off x="4150800" y="4527360"/>
            <a:ext cx="4135680" cy="7682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629240" y="440064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334120" y="4476600"/>
            <a:ext cx="571320" cy="571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019920" y="4514760"/>
            <a:ext cx="571320" cy="571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705720" y="459108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372440" y="464832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rot="6522000">
            <a:off x="6922440" y="2674800"/>
            <a:ext cx="206640" cy="981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372440" y="2495520"/>
            <a:ext cx="1066680" cy="112392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386240" y="5356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124600" y="5718240"/>
            <a:ext cx="25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llectio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032440" y="1984320"/>
            <a:ext cx="35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that analyze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147080" y="3660840"/>
            <a:ext cx="163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s o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7" idx="1"/>
            <a:endCxn id="430" idx="3"/>
          </p:cNvCxnSpPr>
          <p:nvPr/>
        </p:nvCxnSpPr>
        <p:spPr>
          <a:xfrm flipH="1" rot="10800000">
            <a:off x="4384440" y="4887360"/>
            <a:ext cx="329040" cy="697320"/>
          </a:xfrm>
          <a:prstGeom prst="curvedConnector5">
            <a:avLst>
              <a:gd name="adj1" fmla="val -69550"/>
              <a:gd name="adj2" fmla="val 30165"/>
              <a:gd name="adj3" fmla="val -6955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2" name=""/>
          <p:cNvCxnSpPr>
            <a:stCxn id="438" idx="3"/>
            <a:endCxn id="429" idx="3"/>
          </p:cNvCxnSpPr>
          <p:nvPr/>
        </p:nvCxnSpPr>
        <p:spPr>
          <a:xfrm flipV="1">
            <a:off x="7626240" y="5444640"/>
            <a:ext cx="589680" cy="502560"/>
          </a:xfrm>
          <a:prstGeom prst="curvedConnector5">
            <a:avLst>
              <a:gd name="adj1" fmla="val 155772"/>
              <a:gd name="adj2" fmla="val 49964"/>
              <a:gd name="adj3" fmla="val 1557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3" name=""/>
          <p:cNvCxnSpPr>
            <a:stCxn id="439" idx="1"/>
            <a:endCxn id="427" idx="1"/>
          </p:cNvCxnSpPr>
          <p:nvPr/>
        </p:nvCxnSpPr>
        <p:spPr>
          <a:xfrm flipH="1" flipV="1" rot="10800000">
            <a:off x="5032080" y="2211840"/>
            <a:ext cx="102240" cy="477000"/>
          </a:xfrm>
          <a:prstGeom prst="curvedConnector5">
            <a:avLst>
              <a:gd name="adj1" fmla="val -234275"/>
              <a:gd name="adj2" fmla="val 50000"/>
              <a:gd name="adj3" fmla="val -23427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44" name=""/>
          <p:cNvSpPr/>
          <p:nvPr/>
        </p:nvSpPr>
        <p:spPr>
          <a:xfrm>
            <a:off x="4309920" y="356544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5" name=""/>
          <p:cNvCxnSpPr>
            <a:stCxn id="444" idx="2"/>
            <a:endCxn id="428" idx="1"/>
          </p:cNvCxnSpPr>
          <p:nvPr/>
        </p:nvCxnSpPr>
        <p:spPr>
          <a:xfrm flipH="1" flipV="1" rot="5400000">
            <a:off x="5143320" y="3539880"/>
            <a:ext cx="95760" cy="870480"/>
          </a:xfrm>
          <a:prstGeom prst="curvedConnector5">
            <a:avLst>
              <a:gd name="adj1" fmla="val -240000"/>
              <a:gd name="adj2" fmla="val 31816"/>
              <a:gd name="adj3" fmla="val -24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4D69-5755-4CFC-8651-EDFF0D68677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F72CEB-1935-4A86-BE0D-AF479BA75A9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aphical User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provided to create and man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 gra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ster im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ra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collection, calculation and updating is provided through support objects to the GUI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8" name="ezgraph" descr=""/>
          <p:cNvPicPr/>
          <p:nvPr/>
        </p:nvPicPr>
        <p:blipFill>
          <a:blip r:embed="rId1"/>
          <a:stretch/>
        </p:blipFill>
        <p:spPr>
          <a:xfrm>
            <a:off x="4626000" y="1933560"/>
            <a:ext cx="2590920" cy="1739880"/>
          </a:xfrm>
          <a:prstGeom prst="rect">
            <a:avLst/>
          </a:prstGeom>
          <a:ln w="0">
            <a:noFill/>
          </a:ln>
        </p:spPr>
      </p:pic>
      <p:pic>
        <p:nvPicPr>
          <p:cNvPr id="449" name="ezbin" descr=""/>
          <p:cNvPicPr/>
          <p:nvPr/>
        </p:nvPicPr>
        <p:blipFill>
          <a:blip r:embed="rId2"/>
          <a:stretch/>
        </p:blipFill>
        <p:spPr>
          <a:xfrm>
            <a:off x="5600880" y="3081240"/>
            <a:ext cx="2628720" cy="178452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4508640" y="4102200"/>
            <a:ext cx="2025360" cy="204300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3"/>
          <a:stretch/>
        </p:blipFill>
        <p:spPr>
          <a:xfrm>
            <a:off x="4583160" y="4184640"/>
            <a:ext cx="1876320" cy="187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CA04-79D2-44C6-B893-2915C303B7C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8919FB-FCA2-41FB-804E-B73323428AA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 rot="1124400">
            <a:off x="5663880" y="322848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rot="1124400">
            <a:off x="6883200" y="328572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469200" y="3790800"/>
            <a:ext cx="641160" cy="67644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rot="1124400">
            <a:off x="6578280" y="439056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rot="1005600">
            <a:off x="5028840" y="3762000"/>
            <a:ext cx="853920" cy="4618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eding data to the GUI widg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rot="1124400">
            <a:off x="5340240" y="4238280"/>
            <a:ext cx="95400" cy="784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rot="897600">
            <a:off x="4456080" y="4974840"/>
            <a:ext cx="2486160" cy="4618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743360" y="4898880"/>
            <a:ext cx="343080" cy="343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167440" y="4944960"/>
            <a:ext cx="342720" cy="343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580000" y="4967280"/>
            <a:ext cx="343080" cy="3445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991120" y="5013360"/>
            <a:ext cx="344520" cy="342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392880" y="5048280"/>
            <a:ext cx="342720" cy="342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ezgraph" descr=""/>
          <p:cNvPicPr/>
          <p:nvPr/>
        </p:nvPicPr>
        <p:blipFill>
          <a:blip r:embed="rId1"/>
          <a:stretch/>
        </p:blipFill>
        <p:spPr>
          <a:xfrm>
            <a:off x="5254560" y="1895400"/>
            <a:ext cx="2590920" cy="173988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7357320" y="387036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604320" y="350820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005000" y="43275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262640" y="49179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833640" y="53751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64720" y="554688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2" name=""/>
          <p:cNvCxnSpPr>
            <a:stCxn id="468" idx="3"/>
            <a:endCxn id="458" idx="1"/>
          </p:cNvCxnSpPr>
          <p:nvPr/>
        </p:nvCxnSpPr>
        <p:spPr>
          <a:xfrm>
            <a:off x="4898520" y="4555800"/>
            <a:ext cx="443880" cy="59400"/>
          </a:xfrm>
          <a:prstGeom prst="curvedConnector5">
            <a:avLst>
              <a:gd name="adj1" fmla="val 35795"/>
              <a:gd name="adj2" fmla="val 50000"/>
              <a:gd name="adj3" fmla="val 3579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3" name=""/>
          <p:cNvCxnSpPr>
            <a:stCxn id="469" idx="1"/>
            <a:endCxn id="455" idx="3"/>
          </p:cNvCxnSpPr>
          <p:nvPr/>
        </p:nvCxnSpPr>
        <p:spPr>
          <a:xfrm rot="10800000">
            <a:off x="6670080" y="4796640"/>
            <a:ext cx="591120" cy="349920"/>
          </a:xfrm>
          <a:prstGeom prst="curvedConnector5">
            <a:avLst>
              <a:gd name="adj1" fmla="val 39244"/>
              <a:gd name="adj2" fmla="val 49948"/>
              <a:gd name="adj3" fmla="val 3924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4" name=""/>
          <p:cNvCxnSpPr>
            <a:stCxn id="470" idx="2"/>
            <a:endCxn id="461" idx="4"/>
          </p:cNvCxnSpPr>
          <p:nvPr/>
        </p:nvCxnSpPr>
        <p:spPr>
          <a:xfrm flipH="1" flipV="1" rot="5400000">
            <a:off x="4544640" y="5038920"/>
            <a:ext cx="545040" cy="1042200"/>
          </a:xfrm>
          <a:prstGeom prst="curvedConnector5">
            <a:avLst>
              <a:gd name="adj1" fmla="val -41969"/>
              <a:gd name="adj2" fmla="val 50000"/>
              <a:gd name="adj3" fmla="val -4196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5" name=""/>
          <p:cNvCxnSpPr>
            <a:stCxn id="471" idx="2"/>
            <a:endCxn id="459" idx="3"/>
          </p:cNvCxnSpPr>
          <p:nvPr/>
        </p:nvCxnSpPr>
        <p:spPr>
          <a:xfrm flipV="1" rot="16200000">
            <a:off x="7156080" y="5268240"/>
            <a:ext cx="478800" cy="992880"/>
          </a:xfrm>
          <a:prstGeom prst="curvedConnector5">
            <a:avLst>
              <a:gd name="adj1" fmla="val -47780"/>
              <a:gd name="adj2" fmla="val 41748"/>
              <a:gd name="adj3" fmla="val -4778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6" name=""/>
          <p:cNvCxnSpPr>
            <a:stCxn id="467" idx="0"/>
            <a:endCxn id="456" idx="1"/>
          </p:cNvCxnSpPr>
          <p:nvPr/>
        </p:nvCxnSpPr>
        <p:spPr>
          <a:xfrm flipH="1" rot="16200000">
            <a:off x="4474080" y="3295080"/>
            <a:ext cx="361080" cy="785160"/>
          </a:xfrm>
          <a:prstGeom prst="curvedConnector5">
            <a:avLst>
              <a:gd name="adj1" fmla="val -63373"/>
              <a:gd name="adj2" fmla="val 43807"/>
              <a:gd name="adj3" fmla="val -6337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7" name=""/>
          <p:cNvCxnSpPr>
            <a:stCxn id="466" idx="0"/>
            <a:endCxn id="454" idx="6"/>
          </p:cNvCxnSpPr>
          <p:nvPr/>
        </p:nvCxnSpPr>
        <p:spPr>
          <a:xfrm rot="5400000">
            <a:off x="7432920" y="3546360"/>
            <a:ext cx="259560" cy="905760"/>
          </a:xfrm>
          <a:prstGeom prst="curvedConnector5">
            <a:avLst>
              <a:gd name="adj1" fmla="val -88333"/>
              <a:gd name="adj2" fmla="val 43220"/>
              <a:gd name="adj3" fmla="val -8833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78" name=""/>
          <p:cNvSpPr/>
          <p:nvPr/>
        </p:nvSpPr>
        <p:spPr>
          <a:xfrm>
            <a:off x="3681720" y="2498760"/>
            <a:ext cx="101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>
            <a:stCxn id="478" idx="0"/>
            <a:endCxn id="465" idx="1"/>
          </p:cNvCxnSpPr>
          <p:nvPr/>
        </p:nvCxnSpPr>
        <p:spPr>
          <a:xfrm flipH="1" rot="16200000">
            <a:off x="4589640" y="2098800"/>
            <a:ext cx="267120" cy="1064160"/>
          </a:xfrm>
          <a:prstGeom prst="curvedConnector5">
            <a:avLst>
              <a:gd name="adj1" fmla="val -85695"/>
              <a:gd name="adj2" fmla="val 36988"/>
              <a:gd name="adj3" fmla="val -8569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08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on graphs or other widgets relies heavily on the probes and dynamic access to agent’s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 collection objects also facilitate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629E-E8D0-469D-ABEC-1BD6214A799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2FCCF7-325F-4363-85CB-8BAB553E506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Objective-C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ry: Created by Brad Cox, most intensively used by NeXT, now owned by Apple Computer and forms basis for Mac OS X (Rhapso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difference between C++ and Objective-C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to learn: A simple superclass of C - no new key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ally interpreted: Dynamic binding at runtime for objects and methods. Static typing opt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7152-5AF7-4BB3-BF44-06C4B0942C0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45A9A7-C4DA-4768-A967-8F21FED9DE6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iting objects in Objective-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object is defined in terms of it’s interface and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gram or project consists of a collection of object declarations and definitions (*.h and *.m fi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WATCHC1" descr=""/>
          <p:cNvPicPr/>
          <p:nvPr/>
        </p:nvPicPr>
        <p:blipFill>
          <a:blip r:embed="rId1"/>
          <a:stretch/>
        </p:blipFill>
        <p:spPr>
          <a:xfrm>
            <a:off x="1481040" y="1854360"/>
            <a:ext cx="1838520" cy="140940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718200" y="5653080"/>
            <a:ext cx="154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face: *.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540160" y="3149640"/>
            <a:ext cx="2082600" cy="2260440"/>
          </a:xfrm>
          <a:prstGeom prst="foldedCorner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@implement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82760" y="3301920"/>
            <a:ext cx="2133360" cy="2324160"/>
          </a:xfrm>
          <a:prstGeom prst="foldedCorner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@interfa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lar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insta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b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9" name=""/>
          <p:cNvCxnSpPr/>
          <p:nvPr/>
        </p:nvCxnSpPr>
        <p:spPr>
          <a:xfrm flipH="1" flipV="1" rot="10800000">
            <a:off x="1722240" y="2583360"/>
            <a:ext cx="81360" cy="1010520"/>
          </a:xfrm>
          <a:prstGeom prst="bentConnector4">
            <a:avLst>
              <a:gd name="adj1" fmla="val -282222"/>
              <a:gd name="adj2" fmla="val 84889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0" name=""/>
          <p:cNvCxnSpPr/>
          <p:nvPr/>
        </p:nvCxnSpPr>
        <p:spPr>
          <a:xfrm>
            <a:off x="3002040" y="2584440"/>
            <a:ext cx="148320" cy="781920"/>
          </a:xfrm>
          <a:prstGeom prst="bent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1" name=""/>
          <p:cNvSpPr/>
          <p:nvPr/>
        </p:nvSpPr>
        <p:spPr>
          <a:xfrm>
            <a:off x="2494440" y="5386320"/>
            <a:ext cx="231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ation: *.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9FF4-D0A3-4B37-BC04-0A88C97ABD8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8E095B-EE2E-4AB1-B315-6A348E32F4B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cus for the 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structure of a Swarm si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contributions of the Swarm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 management: Swarms, Activity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management: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input and output: GUI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ory management: Creation/de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multiple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6FD1-4509-4851-AFB2-84798FACD09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C68970-5A2A-4AE6-A774-0AA87A14602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571680" y="4324320"/>
            <a:ext cx="4095720" cy="762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71680" y="2666880"/>
            <a:ext cx="4133520" cy="10479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971800" y="2171880"/>
            <a:ext cx="1619280" cy="361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133720" y="2171880"/>
            <a:ext cx="514080" cy="361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few Objective-C ba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146640" y="2543040"/>
            <a:ext cx="541440" cy="5414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088040" y="3319560"/>
            <a:ext cx="541440" cy="541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337000" y="3336840"/>
            <a:ext cx="541440" cy="54144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0" name=""/>
          <p:cNvCxnSpPr>
            <a:stCxn id="497" idx="4"/>
            <a:endCxn id="499" idx="0"/>
          </p:cNvCxnSpPr>
          <p:nvPr/>
        </p:nvCxnSpPr>
        <p:spPr>
          <a:xfrm rot="5400000">
            <a:off x="5886720" y="2805480"/>
            <a:ext cx="253080" cy="810360"/>
          </a:xfrm>
          <a:prstGeom prst="bentConnector3">
            <a:avLst>
              <a:gd name="adj1" fmla="val 495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1" name=""/>
          <p:cNvCxnSpPr>
            <a:stCxn id="497" idx="4"/>
            <a:endCxn id="498" idx="0"/>
          </p:cNvCxnSpPr>
          <p:nvPr/>
        </p:nvCxnSpPr>
        <p:spPr>
          <a:xfrm flipH="1" rot="16200000">
            <a:off x="6771240" y="2730960"/>
            <a:ext cx="235800" cy="941760"/>
          </a:xfrm>
          <a:prstGeom prst="bentConnector3">
            <a:avLst>
              <a:gd name="adj1" fmla="val 5535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02" name=""/>
          <p:cNvSpPr/>
          <p:nvPr/>
        </p:nvSpPr>
        <p:spPr>
          <a:xfrm>
            <a:off x="605160" y="2208240"/>
            <a:ext cx="4295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interface Bug : SwarmObjec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Pos, yP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worldXSize, worldYSi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foodSpa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etX: (int) x Y: (int)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te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146560" y="4226040"/>
            <a:ext cx="1363680" cy="139068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238720" y="4952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5" name=""/>
          <p:cNvCxnSpPr>
            <a:endCxn id="493" idx="3"/>
          </p:cNvCxnSpPr>
          <p:nvPr/>
        </p:nvCxnSpPr>
        <p:spPr>
          <a:xfrm rot="10800000">
            <a:off x="4704480" y="3191040"/>
            <a:ext cx="515160" cy="1390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6" name=""/>
          <p:cNvCxnSpPr>
            <a:endCxn id="492" idx="3"/>
          </p:cNvCxnSpPr>
          <p:nvPr/>
        </p:nvCxnSpPr>
        <p:spPr>
          <a:xfrm rot="10800000">
            <a:off x="4666680" y="4704480"/>
            <a:ext cx="552960" cy="457920"/>
          </a:xfrm>
          <a:prstGeom prst="bentConnector3">
            <a:avLst>
              <a:gd name="adj1" fmla="val 4996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7" name=""/>
          <p:cNvCxnSpPr>
            <a:stCxn id="497" idx="0"/>
            <a:endCxn id="494" idx="0"/>
          </p:cNvCxnSpPr>
          <p:nvPr/>
        </p:nvCxnSpPr>
        <p:spPr>
          <a:xfrm flipV="1" rot="16200000">
            <a:off x="4913640" y="1038240"/>
            <a:ext cx="371880" cy="2637720"/>
          </a:xfrm>
          <a:prstGeom prst="bentConnector3">
            <a:avLst>
              <a:gd name="adj1" fmla="val 1615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8" name=""/>
          <p:cNvCxnSpPr>
            <a:stCxn id="499" idx="2"/>
            <a:endCxn id="495" idx="0"/>
          </p:cNvCxnSpPr>
          <p:nvPr/>
        </p:nvCxnSpPr>
        <p:spPr>
          <a:xfrm rot="10800000">
            <a:off x="2390040" y="2171160"/>
            <a:ext cx="2946960" cy="1437120"/>
          </a:xfrm>
          <a:prstGeom prst="bentConnector4">
            <a:avLst>
              <a:gd name="adj1" fmla="val 6841"/>
              <a:gd name="adj2" fmla="val 13179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9" name=""/>
          <p:cNvSpPr/>
          <p:nvPr/>
        </p:nvSpPr>
        <p:spPr>
          <a:xfrm>
            <a:off x="6842160" y="236520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052400" y="402264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089840" y="4651200"/>
            <a:ext cx="135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785640" y="579420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3" name=""/>
          <p:cNvCxnSpPr>
            <a:stCxn id="512" idx="1"/>
            <a:endCxn id="503" idx="4"/>
          </p:cNvCxnSpPr>
          <p:nvPr/>
        </p:nvCxnSpPr>
        <p:spPr>
          <a:xfrm rot="10800000">
            <a:off x="5828760" y="5616000"/>
            <a:ext cx="956160" cy="40680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511" idx="1"/>
            <a:endCxn id="503" idx="7"/>
          </p:cNvCxnSpPr>
          <p:nvPr/>
        </p:nvCxnSpPr>
        <p:spPr>
          <a:xfrm rot="10800000">
            <a:off x="6309720" y="4428360"/>
            <a:ext cx="780120" cy="634320"/>
          </a:xfrm>
          <a:prstGeom prst="curvedConnector5">
            <a:avLst>
              <a:gd name="adj1" fmla="val 37026"/>
              <a:gd name="adj2" fmla="val 84043"/>
              <a:gd name="adj3" fmla="val 3702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5EBA-BA52-441B-9501-4AA1185E6B78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BBFFAD-3577-484F-AE07-E273ABA39A4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basic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27720" y="1866960"/>
            <a:ext cx="4279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a method called `message'. E.g. ‘step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message:(type)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method called ‘message:’ that takes one arg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X:(type)x Y:(type)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method called ‘setX:Y:’ that takes two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12720" y="1981080"/>
            <a:ext cx="4048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interface Bug:SwarmObjec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Pos, yP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worldXSize,worldYSi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foodSpa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te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etX: (int) x Y: (int)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36B8-DB4F-439A-B51A-21DE40E0C62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39B5C9-A239-474D-9A10-0E6A5572952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Objective-C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Message:(type)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Message:(type)v1 with:(type)v2 and:(type) v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1 with: val2 and: val3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AA96-F2F6-4488-9DED-CC864EF59E4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75A640-9CAB-41D3-8580-C6FCA742E6E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 Functions vs. ObjC method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ive-C 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(type)name: (type) v1 argName2: (type) v2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fun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(type)name((type) v1,(type) v2)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324320" y="4857840"/>
            <a:ext cx="3543480" cy="1276200"/>
          </a:xfrm>
          <a:prstGeom prst="wedgeRectCallout">
            <a:avLst>
              <a:gd name="adj1" fmla="val -102643"/>
              <a:gd name="adj2" fmla="val -4402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n body co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exactl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in C and Objective-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FA0D-BF1E-4F6B-A346-1AF4E7F0B9BC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B8D750-59C5-4375-AA7D-3D5AC00AD4B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d variable type et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ault variable type for object in ObjC is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k of this as a special variable type (which is actually a pointer to a special data structure - namely the obje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bjects can refer to themselves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elf ..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bjects can refer to superclass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uper ..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4717-67AB-4757-A825-A0494B9A2F3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F2A6B0-CC9C-4704-8641-EA842E9B2EB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laring a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454640" y="4781520"/>
            <a:ext cx="3938400" cy="116208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425840" y="2662200"/>
            <a:ext cx="3938760" cy="19526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419720" y="1981080"/>
            <a:ext cx="1523880" cy="3812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19920" y="1981080"/>
            <a:ext cx="2438280" cy="3812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85800" y="1981080"/>
            <a:ext cx="3581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eader file or interface decla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sup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4197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rface  Obj:Super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Iv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Iv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Iv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(type)a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notherMethod: (type) v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8085240" y="2629080"/>
            <a:ext cx="458640" cy="47448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8085240" y="182880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043520" y="185724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8085240" y="461628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82560" y="28735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82560" y="335916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82560" y="382896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82560" y="424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45B8-EC0F-44F0-80BB-FCA92B587A6F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328B98-F497-4DAF-A9C3-B7322FAED25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ng a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275000" y="5041800"/>
            <a:ext cx="4449960" cy="100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292960" y="4719600"/>
            <a:ext cx="459000" cy="474840"/>
          </a:xfrm>
          <a:custGeom>
            <a:avLst/>
            <a:gdLst>
              <a:gd name="textAreaLeft" fmla="*/ 104760 w 459000"/>
              <a:gd name="textAreaRight" fmla="*/ 354240 w 45900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264200" y="3425760"/>
            <a:ext cx="4449600" cy="1351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270320" y="2003400"/>
            <a:ext cx="4449960" cy="363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267080" y="2697120"/>
            <a:ext cx="221004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553080" y="2697120"/>
            <a:ext cx="221004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267080" y="1981080"/>
            <a:ext cx="4496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import “Obj.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lementation  Ob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(type)aMethod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notherMethod: (type) v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self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85800" y="1981080"/>
            <a:ext cx="3527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the interface the object file contains the implementation of th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 are essentially C functions, same rules about return values and arguments, local v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return type of method is not defined value must return an id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242200" y="1890720"/>
            <a:ext cx="459000" cy="474480"/>
          </a:xfrm>
          <a:custGeom>
            <a:avLst/>
            <a:gdLst>
              <a:gd name="textAreaLeft" fmla="*/ 104760 w 459000"/>
              <a:gd name="textAreaRight" fmla="*/ 354240 w 45900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23880" y="23623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373640" y="236052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8232840" y="2459160"/>
            <a:ext cx="458640" cy="47448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8247240" y="320976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25320" y="276228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23880" y="314496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23880" y="389556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CEB4-6208-4D6B-8748-B1877888437D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043D73-4690-49CF-B2A7-81EC161DD5D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small ObjC 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521000" y="421812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635280" y="1981080"/>
            <a:ext cx="113688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810400" y="200016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672000" y="422280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796000" y="427500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627920" y="4375080"/>
            <a:ext cx="7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in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95400" y="4410000"/>
            <a:ext cx="97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A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889240" y="4427640"/>
            <a:ext cx="96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B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758040" y="2106720"/>
            <a:ext cx="91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A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902560" y="212256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B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3859200" y="4886280"/>
            <a:ext cx="685800" cy="650880"/>
            <a:chOff x="3859200" y="4886280"/>
            <a:chExt cx="685800" cy="650880"/>
          </a:xfrm>
        </p:grpSpPr>
        <p:sp>
          <p:nvSpPr>
            <p:cNvPr id="569" name=""/>
            <p:cNvSpPr/>
            <p:nvPr/>
          </p:nvSpPr>
          <p:spPr>
            <a:xfrm>
              <a:off x="3859200" y="48862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859200" y="50529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59200" y="52196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59200" y="53881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859200" y="55371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5999040" y="4954680"/>
            <a:ext cx="685800" cy="650880"/>
            <a:chOff x="5999040" y="4954680"/>
            <a:chExt cx="685800" cy="650880"/>
          </a:xfrm>
        </p:grpSpPr>
        <p:sp>
          <p:nvSpPr>
            <p:cNvPr id="575" name=""/>
            <p:cNvSpPr/>
            <p:nvPr/>
          </p:nvSpPr>
          <p:spPr>
            <a:xfrm>
              <a:off x="5999040" y="49546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999040" y="51213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999040" y="52880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999040" y="54565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999040" y="56055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3846600" y="2784600"/>
            <a:ext cx="685800" cy="650880"/>
            <a:chOff x="3846600" y="2784600"/>
            <a:chExt cx="685800" cy="650880"/>
          </a:xfrm>
        </p:grpSpPr>
        <p:sp>
          <p:nvSpPr>
            <p:cNvPr id="581" name=""/>
            <p:cNvSpPr/>
            <p:nvPr/>
          </p:nvSpPr>
          <p:spPr>
            <a:xfrm>
              <a:off x="3846600" y="27846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846600" y="29512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846600" y="31179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846600" y="32864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846600" y="34354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5987880" y="2770200"/>
            <a:ext cx="685800" cy="650880"/>
            <a:chOff x="5987880" y="2770200"/>
            <a:chExt cx="685800" cy="650880"/>
          </a:xfrm>
        </p:grpSpPr>
        <p:sp>
          <p:nvSpPr>
            <p:cNvPr id="587" name=""/>
            <p:cNvSpPr/>
            <p:nvPr/>
          </p:nvSpPr>
          <p:spPr>
            <a:xfrm>
              <a:off x="5987880" y="2770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987880" y="2936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987880" y="3103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987880" y="3272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987880" y="3421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1709640" y="4975200"/>
            <a:ext cx="685800" cy="650880"/>
            <a:chOff x="1709640" y="4975200"/>
            <a:chExt cx="685800" cy="650880"/>
          </a:xfrm>
        </p:grpSpPr>
        <p:sp>
          <p:nvSpPr>
            <p:cNvPr id="593" name=""/>
            <p:cNvSpPr/>
            <p:nvPr/>
          </p:nvSpPr>
          <p:spPr>
            <a:xfrm>
              <a:off x="1709640" y="4975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709640" y="5141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709640" y="5308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709640" y="5477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709640" y="5626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3408480" y="1711440"/>
            <a:ext cx="1738080" cy="4427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532480" y="1698480"/>
            <a:ext cx="1738440" cy="44276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3C49-AF70-4016-A617-2C182F0B3CCD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0FF49D-BD09-40B0-B9F6-3B2D5AD3B5D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ssian roulet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players A and B alternate aiming revolver at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n starts emp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fore pulling trigger each player must load new bullet in revol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revolver doesn’t go off player hands gun over to oppon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3A4C-005E-4235-A5D7-F4B2ED11271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27BCFE-A1CE-4A9C-BC91-15BC7C11DDC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vival probabil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1469520" y="1601640"/>
            <a:ext cx="1404000" cy="981000"/>
            <a:chOff x="1469520" y="1601640"/>
            <a:chExt cx="1404000" cy="981000"/>
          </a:xfrm>
        </p:grpSpPr>
        <p:sp>
          <p:nvSpPr>
            <p:cNvPr id="604" name=""/>
            <p:cNvSpPr/>
            <p:nvPr/>
          </p:nvSpPr>
          <p:spPr>
            <a:xfrm flipH="1">
              <a:off x="1469520" y="2081160"/>
              <a:ext cx="58428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104920" y="2081160"/>
              <a:ext cx="76860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892880" y="1601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2475000" y="2389320"/>
            <a:ext cx="1402920" cy="981000"/>
            <a:chOff x="2475000" y="2389320"/>
            <a:chExt cx="1402920" cy="981000"/>
          </a:xfrm>
        </p:grpSpPr>
        <p:sp>
          <p:nvSpPr>
            <p:cNvPr id="608" name=""/>
            <p:cNvSpPr/>
            <p:nvPr/>
          </p:nvSpPr>
          <p:spPr>
            <a:xfrm flipH="1">
              <a:off x="2475000" y="286884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109680" y="286884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905200" y="23893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3610080" y="3141720"/>
            <a:ext cx="1402920" cy="981000"/>
            <a:chOff x="3610080" y="3141720"/>
            <a:chExt cx="1402920" cy="981000"/>
          </a:xfrm>
        </p:grpSpPr>
        <p:sp>
          <p:nvSpPr>
            <p:cNvPr id="612" name=""/>
            <p:cNvSpPr/>
            <p:nvPr/>
          </p:nvSpPr>
          <p:spPr>
            <a:xfrm flipH="1">
              <a:off x="3610080" y="362124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244760" y="362124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32360" y="3141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4680000" y="3876840"/>
            <a:ext cx="1402920" cy="981000"/>
            <a:chOff x="4680000" y="3876840"/>
            <a:chExt cx="1402920" cy="981000"/>
          </a:xfrm>
        </p:grpSpPr>
        <p:sp>
          <p:nvSpPr>
            <p:cNvPr id="616" name=""/>
            <p:cNvSpPr/>
            <p:nvPr/>
          </p:nvSpPr>
          <p:spPr>
            <a:xfrm flipH="1">
              <a:off x="4680000" y="435636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314680" y="435636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10200" y="38768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5783400" y="4594320"/>
            <a:ext cx="1402920" cy="981000"/>
            <a:chOff x="5783400" y="4594320"/>
            <a:chExt cx="1402920" cy="981000"/>
          </a:xfrm>
        </p:grpSpPr>
        <p:sp>
          <p:nvSpPr>
            <p:cNvPr id="620" name=""/>
            <p:cNvSpPr/>
            <p:nvPr/>
          </p:nvSpPr>
          <p:spPr>
            <a:xfrm flipH="1">
              <a:off x="5783400" y="507384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418080" y="507384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205680" y="4594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3" name=""/>
          <p:cNvSpPr/>
          <p:nvPr/>
        </p:nvSpPr>
        <p:spPr>
          <a:xfrm>
            <a:off x="1001160" y="19684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439360" y="19018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887120" y="282096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541320" y="27036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1152360" y="2408400"/>
            <a:ext cx="250920" cy="568080"/>
            <a:chOff x="1152360" y="2408400"/>
            <a:chExt cx="250920" cy="568080"/>
          </a:xfrm>
        </p:grpSpPr>
        <p:sp>
          <p:nvSpPr>
            <p:cNvPr id="628" name=""/>
            <p:cNvSpPr/>
            <p:nvPr/>
          </p:nvSpPr>
          <p:spPr>
            <a:xfrm>
              <a:off x="1270080" y="2408400"/>
              <a:ext cx="0" cy="56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152360" y="259236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2206800" y="3313080"/>
            <a:ext cx="250560" cy="568440"/>
            <a:chOff x="2206800" y="3313080"/>
            <a:chExt cx="250560" cy="568440"/>
          </a:xfrm>
        </p:grpSpPr>
        <p:sp>
          <p:nvSpPr>
            <p:cNvPr id="631" name=""/>
            <p:cNvSpPr/>
            <p:nvPr/>
          </p:nvSpPr>
          <p:spPr>
            <a:xfrm>
              <a:off x="2324160" y="331308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206800" y="3497400"/>
              <a:ext cx="25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3343320" y="4165560"/>
            <a:ext cx="250920" cy="568440"/>
            <a:chOff x="3343320" y="4165560"/>
            <a:chExt cx="250920" cy="568440"/>
          </a:xfrm>
        </p:grpSpPr>
        <p:sp>
          <p:nvSpPr>
            <p:cNvPr id="634" name=""/>
            <p:cNvSpPr/>
            <p:nvPr/>
          </p:nvSpPr>
          <p:spPr>
            <a:xfrm>
              <a:off x="3461040" y="416556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343320" y="434988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4429080" y="4917960"/>
            <a:ext cx="250920" cy="568440"/>
            <a:chOff x="4429080" y="4917960"/>
            <a:chExt cx="250920" cy="568440"/>
          </a:xfrm>
        </p:grpSpPr>
        <p:sp>
          <p:nvSpPr>
            <p:cNvPr id="637" name=""/>
            <p:cNvSpPr/>
            <p:nvPr/>
          </p:nvSpPr>
          <p:spPr>
            <a:xfrm>
              <a:off x="4546800" y="491796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429080" y="510228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5481720" y="5600880"/>
            <a:ext cx="250920" cy="568080"/>
            <a:chOff x="5481720" y="5600880"/>
            <a:chExt cx="250920" cy="568080"/>
          </a:xfrm>
        </p:grpSpPr>
        <p:sp>
          <p:nvSpPr>
            <p:cNvPr id="640" name=""/>
            <p:cNvSpPr/>
            <p:nvPr/>
          </p:nvSpPr>
          <p:spPr>
            <a:xfrm>
              <a:off x="5599440" y="5600880"/>
              <a:ext cx="0" cy="56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481720" y="578484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7253280" y="5602320"/>
            <a:ext cx="250920" cy="568440"/>
            <a:chOff x="7253280" y="5602320"/>
            <a:chExt cx="250920" cy="568440"/>
          </a:xfrm>
        </p:grpSpPr>
        <p:sp>
          <p:nvSpPr>
            <p:cNvPr id="643" name=""/>
            <p:cNvSpPr/>
            <p:nvPr/>
          </p:nvSpPr>
          <p:spPr>
            <a:xfrm>
              <a:off x="7371000" y="560232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253280" y="578664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2957040" y="35892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093560" y="429264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110720" y="5160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162040" y="49942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560480" y="34066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747760" y="41752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766920" y="47592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11E1-5869-4F06-9939-D1602096BE4A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1F6A08-3D24-4359-A0A2-63BE2502094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poi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study complex nonlinear systems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eco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ational confli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ncial cr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based models allow us to stud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tial inte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aptive, heterogeneous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ents which face costs of information acquisition and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sted subsystems - economy, markets, firms, plants,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E70F-0C77-411A-AAAE-ED6CE6C4B76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524097-AB8D-48B2-B65F-975A943AAF0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project: Russian roulet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521000" y="421812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635280" y="1981080"/>
            <a:ext cx="113688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810400" y="200016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672000" y="422280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796000" y="427500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627920" y="4375080"/>
            <a:ext cx="7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in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731400" y="4410000"/>
            <a:ext cx="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yer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807160" y="4427640"/>
            <a:ext cx="113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volver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793680" y="2106720"/>
            <a:ext cx="85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yer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820480" y="2122560"/>
            <a:ext cx="107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volver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3859200" y="4886280"/>
            <a:ext cx="685800" cy="650880"/>
            <a:chOff x="3859200" y="4886280"/>
            <a:chExt cx="685800" cy="650880"/>
          </a:xfrm>
        </p:grpSpPr>
        <p:sp>
          <p:nvSpPr>
            <p:cNvPr id="664" name=""/>
            <p:cNvSpPr/>
            <p:nvPr/>
          </p:nvSpPr>
          <p:spPr>
            <a:xfrm>
              <a:off x="3859200" y="48862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859200" y="50529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859200" y="52196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859200" y="53881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859200" y="55371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5999040" y="4954680"/>
            <a:ext cx="685800" cy="650880"/>
            <a:chOff x="5999040" y="4954680"/>
            <a:chExt cx="685800" cy="650880"/>
          </a:xfrm>
        </p:grpSpPr>
        <p:sp>
          <p:nvSpPr>
            <p:cNvPr id="670" name=""/>
            <p:cNvSpPr/>
            <p:nvPr/>
          </p:nvSpPr>
          <p:spPr>
            <a:xfrm>
              <a:off x="5999040" y="49546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999040" y="51213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999040" y="52880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999040" y="54565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999040" y="56055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3846600" y="2784600"/>
            <a:ext cx="685800" cy="650880"/>
            <a:chOff x="3846600" y="2784600"/>
            <a:chExt cx="685800" cy="650880"/>
          </a:xfrm>
        </p:grpSpPr>
        <p:sp>
          <p:nvSpPr>
            <p:cNvPr id="676" name=""/>
            <p:cNvSpPr/>
            <p:nvPr/>
          </p:nvSpPr>
          <p:spPr>
            <a:xfrm>
              <a:off x="3846600" y="27846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846600" y="29512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846600" y="31179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846600" y="32864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846600" y="34354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5987880" y="2770200"/>
            <a:ext cx="685800" cy="650880"/>
            <a:chOff x="5987880" y="2770200"/>
            <a:chExt cx="685800" cy="650880"/>
          </a:xfrm>
        </p:grpSpPr>
        <p:sp>
          <p:nvSpPr>
            <p:cNvPr id="682" name=""/>
            <p:cNvSpPr/>
            <p:nvPr/>
          </p:nvSpPr>
          <p:spPr>
            <a:xfrm>
              <a:off x="5987880" y="2770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987880" y="2936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987880" y="3103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987880" y="3272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987880" y="3421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1709640" y="4975200"/>
            <a:ext cx="685800" cy="650880"/>
            <a:chOff x="1709640" y="4975200"/>
            <a:chExt cx="685800" cy="650880"/>
          </a:xfrm>
        </p:grpSpPr>
        <p:sp>
          <p:nvSpPr>
            <p:cNvPr id="688" name=""/>
            <p:cNvSpPr/>
            <p:nvPr/>
          </p:nvSpPr>
          <p:spPr>
            <a:xfrm>
              <a:off x="1709640" y="4975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709640" y="5141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709640" y="5308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709640" y="5477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709640" y="5626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3408480" y="1711440"/>
            <a:ext cx="1738080" cy="4427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532480" y="1698480"/>
            <a:ext cx="1738440" cy="44276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C854-9BBF-4B83-B479-6F893685DC55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D8E5F4-81F1-4B64-8E70-ABA13B72821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interface Player: SwarmObject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nam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aliv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d othe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init: (int) n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tOther: o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(BOOL)isAliv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play: 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876920" y="3911760"/>
            <a:ext cx="166356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bjects: P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: Player kn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own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ther he is al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ity of other p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havior: Player 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 to “aliv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revol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194600" y="376704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264440" y="418932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838760" y="2362320"/>
            <a:ext cx="16635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2" name=""/>
          <p:cNvCxnSpPr>
            <a:stCxn id="699" idx="4"/>
            <a:endCxn id="696" idx="2"/>
          </p:cNvCxnSpPr>
          <p:nvPr/>
        </p:nvCxnSpPr>
        <p:spPr>
          <a:xfrm rot="5400000">
            <a:off x="6337440" y="3962880"/>
            <a:ext cx="640440" cy="1899360"/>
          </a:xfrm>
          <a:prstGeom prst="bentConnector3">
            <a:avLst>
              <a:gd name="adj1" fmla="val 13571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3" name=""/>
          <p:cNvCxnSpPr>
            <a:stCxn id="699" idx="0"/>
            <a:endCxn id="701" idx="3"/>
          </p:cNvCxnSpPr>
          <p:nvPr/>
        </p:nvCxnSpPr>
        <p:spPr>
          <a:xfrm flipV="1" rot="16200000">
            <a:off x="6681960" y="2841840"/>
            <a:ext cx="74520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3AF1-E164-4CE6-AA81-FC70D8A2A73C}" type="slidenum">
              <a:t>4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9A63C0-4DBF-4305-AF3F-1F46B9B9F4B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bjects: Revol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: Revolver kn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bul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havior: Gun 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ty bul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 new bul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age trigger and return result (fired, didn’t fi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interface Revolver: SwarmObject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bullet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empt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load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(BOOL)trigge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991200" y="3119400"/>
            <a:ext cx="825480" cy="8254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8" name=""/>
          <p:cNvCxnSpPr>
            <a:stCxn id="707" idx="4"/>
          </p:cNvCxnSpPr>
          <p:nvPr/>
        </p:nvCxnSpPr>
        <p:spPr>
          <a:xfrm rot="5400000">
            <a:off x="6134400" y="3315240"/>
            <a:ext cx="640440" cy="1899360"/>
          </a:xfrm>
          <a:prstGeom prst="bentConnector3">
            <a:avLst>
              <a:gd name="adj1" fmla="val 13571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9" name=""/>
          <p:cNvCxnSpPr>
            <a:stCxn id="707" idx="0"/>
          </p:cNvCxnSpPr>
          <p:nvPr/>
        </p:nvCxnSpPr>
        <p:spPr>
          <a:xfrm flipV="1" rot="16200000">
            <a:off x="6478920" y="2194200"/>
            <a:ext cx="74520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0" name=""/>
          <p:cNvSpPr/>
          <p:nvPr/>
        </p:nvSpPr>
        <p:spPr>
          <a:xfrm>
            <a:off x="7048440" y="355608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BC85-A2A2-4AD1-AE6F-C3EAF63252C4}" type="slidenum">
              <a:t>4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8B63E3-2DD3-413C-9D4B-81F205ADFAE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are created in main.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hands empty revolver object off to player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yer A loads bullet and pulls trigg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layer A is alive hands gun to 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turns own id to 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yer B loads bullet and pulls trig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layer B is alive hands gun to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turns own i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c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15D2-F134-4031-BE57-D842EE548AA7}" type="slidenum">
              <a:t>4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D908C3-DABA-462A-BC25-C539701BA14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5460840" y="1574640"/>
            <a:ext cx="2578320" cy="2387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5" name=""/>
          <p:cNvCxnSpPr>
            <a:endCxn id="716" idx="2"/>
          </p:cNvCxnSpPr>
          <p:nvPr/>
        </p:nvCxnSpPr>
        <p:spPr>
          <a:xfrm rot="10800000">
            <a:off x="1370880" y="2401200"/>
            <a:ext cx="4687200" cy="3396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7" name=""/>
          <p:cNvCxnSpPr>
            <a:stCxn id="718" idx="2"/>
            <a:endCxn id="716" idx="2"/>
          </p:cNvCxnSpPr>
          <p:nvPr/>
        </p:nvCxnSpPr>
        <p:spPr>
          <a:xfrm rot="10800000">
            <a:off x="1370880" y="2401200"/>
            <a:ext cx="2946960" cy="2405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87320" y="1574640"/>
            <a:ext cx="1168560" cy="876600"/>
          </a:xfrm>
          <a:prstGeom prst="flowChartDocumen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.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825480" y="26100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816200" y="271152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2" name=""/>
          <p:cNvCxnSpPr>
            <a:stCxn id="720" idx="6"/>
            <a:endCxn id="721" idx="2"/>
          </p:cNvCxnSpPr>
          <p:nvPr/>
        </p:nvCxnSpPr>
        <p:spPr>
          <a:xfrm>
            <a:off x="1584360" y="297792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3" name=""/>
          <p:cNvSpPr/>
          <p:nvPr/>
        </p:nvSpPr>
        <p:spPr>
          <a:xfrm>
            <a:off x="2577960" y="26100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4" name=""/>
          <p:cNvCxnSpPr/>
          <p:nvPr/>
        </p:nvCxnSpPr>
        <p:spPr>
          <a:xfrm>
            <a:off x="2371680" y="2965320"/>
            <a:ext cx="232560" cy="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5" name=""/>
          <p:cNvSpPr/>
          <p:nvPr/>
        </p:nvSpPr>
        <p:spPr>
          <a:xfrm>
            <a:off x="2565360" y="3473280"/>
            <a:ext cx="758880" cy="736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556080" y="357516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7" name=""/>
          <p:cNvCxnSpPr>
            <a:stCxn id="725" idx="6"/>
            <a:endCxn id="726" idx="2"/>
          </p:cNvCxnSpPr>
          <p:nvPr/>
        </p:nvCxnSpPr>
        <p:spPr>
          <a:xfrm>
            <a:off x="3324240" y="384156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8" name=""/>
          <p:cNvSpPr/>
          <p:nvPr/>
        </p:nvSpPr>
        <p:spPr>
          <a:xfrm>
            <a:off x="4317840" y="3473280"/>
            <a:ext cx="758880" cy="736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317840" y="44388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308560" y="454032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0" name=""/>
          <p:cNvCxnSpPr>
            <a:stCxn id="718" idx="6"/>
            <a:endCxn id="729" idx="2"/>
          </p:cNvCxnSpPr>
          <p:nvPr/>
        </p:nvCxnSpPr>
        <p:spPr>
          <a:xfrm>
            <a:off x="5076720" y="480672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1" name=""/>
          <p:cNvCxnSpPr/>
          <p:nvPr/>
        </p:nvCxnSpPr>
        <p:spPr>
          <a:xfrm>
            <a:off x="4644720" y="426096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2" name=""/>
          <p:cNvCxnSpPr/>
          <p:nvPr/>
        </p:nvCxnSpPr>
        <p:spPr>
          <a:xfrm>
            <a:off x="2917440" y="329580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3" name=""/>
          <p:cNvCxnSpPr>
            <a:stCxn id="723" idx="0"/>
            <a:endCxn id="716" idx="3"/>
          </p:cNvCxnSpPr>
          <p:nvPr/>
        </p:nvCxnSpPr>
        <p:spPr>
          <a:xfrm flipV="1" rot="16200000">
            <a:off x="2157840" y="1810080"/>
            <a:ext cx="597600" cy="1002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4" name=""/>
          <p:cNvSpPr/>
          <p:nvPr/>
        </p:nvSpPr>
        <p:spPr>
          <a:xfrm>
            <a:off x="6083280" y="44640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5" name=""/>
          <p:cNvCxnSpPr/>
          <p:nvPr/>
        </p:nvCxnSpPr>
        <p:spPr>
          <a:xfrm>
            <a:off x="5877000" y="481932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6" name=""/>
          <p:cNvSpPr/>
          <p:nvPr/>
        </p:nvSpPr>
        <p:spPr>
          <a:xfrm>
            <a:off x="6070680" y="532764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061040" y="5429160"/>
            <a:ext cx="57492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8" name=""/>
          <p:cNvCxnSpPr>
            <a:stCxn id="736" idx="6"/>
            <a:endCxn id="737" idx="2"/>
          </p:cNvCxnSpPr>
          <p:nvPr/>
        </p:nvCxnSpPr>
        <p:spPr>
          <a:xfrm>
            <a:off x="6829200" y="5695560"/>
            <a:ext cx="23220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9" name=""/>
          <p:cNvSpPr/>
          <p:nvPr/>
        </p:nvSpPr>
        <p:spPr>
          <a:xfrm>
            <a:off x="7823160" y="532764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0" name=""/>
          <p:cNvCxnSpPr/>
          <p:nvPr/>
        </p:nvCxnSpPr>
        <p:spPr>
          <a:xfrm>
            <a:off x="7616880" y="568296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1" name=""/>
          <p:cNvCxnSpPr/>
          <p:nvPr/>
        </p:nvCxnSpPr>
        <p:spPr>
          <a:xfrm>
            <a:off x="6422760" y="514980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2" name=""/>
          <p:cNvSpPr/>
          <p:nvPr/>
        </p:nvSpPr>
        <p:spPr>
          <a:xfrm>
            <a:off x="2301120" y="2098800"/>
            <a:ext cx="1332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309040" y="4575240"/>
            <a:ext cx="13161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B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301120" y="5527800"/>
            <a:ext cx="1332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5" name=""/>
          <p:cNvCxnSpPr/>
          <p:nvPr/>
        </p:nvCxnSpPr>
        <p:spPr>
          <a:xfrm>
            <a:off x="8238600" y="603900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6" name=""/>
          <p:cNvCxnSpPr/>
          <p:nvPr/>
        </p:nvCxnSpPr>
        <p:spPr>
          <a:xfrm>
            <a:off x="4098960" y="381600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7" name=""/>
          <p:cNvSpPr/>
          <p:nvPr/>
        </p:nvSpPr>
        <p:spPr>
          <a:xfrm>
            <a:off x="5727600" y="161928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753160" y="236844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449040" y="1781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Playe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448680" y="2568600"/>
            <a:ext cx="14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Playe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448320" y="325440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Revol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880240" y="314316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35B3-7A95-4A5E-9FEB-45A99E6C21C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5983A8-1637-42A3-B13C-8066210C41C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219400" y="2917800"/>
            <a:ext cx="1009440" cy="9828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784680" y="2946240"/>
            <a:ext cx="923760" cy="9273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812880" y="2946240"/>
            <a:ext cx="923760" cy="9273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938840" y="2247840"/>
            <a:ext cx="2622240" cy="368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1 THEN return self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8" name=""/>
          <p:cNvCxnSpPr/>
          <p:nvPr/>
        </p:nvCxnSpPr>
        <p:spPr>
          <a:xfrm>
            <a:off x="1787400" y="3403440"/>
            <a:ext cx="232560" cy="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9" name=""/>
          <p:cNvCxnSpPr/>
          <p:nvPr/>
        </p:nvCxnSpPr>
        <p:spPr>
          <a:xfrm>
            <a:off x="3336840" y="3403440"/>
            <a:ext cx="232560" cy="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0" name=""/>
          <p:cNvCxnSpPr/>
          <p:nvPr/>
        </p:nvCxnSpPr>
        <p:spPr>
          <a:xfrm>
            <a:off x="4187520" y="4019040"/>
            <a:ext cx="3960" cy="2422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1" name=""/>
          <p:cNvCxnSpPr/>
          <p:nvPr/>
        </p:nvCxnSpPr>
        <p:spPr>
          <a:xfrm flipV="1">
            <a:off x="4187880" y="2629800"/>
            <a:ext cx="2160" cy="253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2" name=""/>
          <p:cNvSpPr/>
          <p:nvPr/>
        </p:nvSpPr>
        <p:spPr>
          <a:xfrm>
            <a:off x="4876200" y="4229280"/>
            <a:ext cx="3471120" cy="368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0 THEN send message B play: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809880" y="423540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813240" y="4280040"/>
            <a:ext cx="2376720" cy="642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message R: 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message R: trig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499760" y="2222640"/>
            <a:ext cx="2407320" cy="642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heads THEN return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SE return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276720" y="2870280"/>
            <a:ext cx="11412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1790640" y="35938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 flipV="1">
            <a:off x="4406760" y="4140000"/>
            <a:ext cx="47016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4381560" y="2438280"/>
            <a:ext cx="55872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4FB3-72BB-4BAE-A365-D114E8CB5A14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CFA011-5D14-48B7-8200-8BA5B2C57FC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-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w textbooks available because language is simply a superset of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resource: Manual from Apple web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website at SFI: Code, manuals, li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community, mailinglists (and archiv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, steal and borrow other people’s cod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916F-186C-4758-B3F7-CB86ED71E7F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C47CE1-43D5-490A-9B52-7A40D95F53B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to find he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Swarm web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www.santafe.edu/projects/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bjective-C man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 to above and look under Objective-C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cribing to mailing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 mail to majordomo@santafe.edu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cribe swarm-support &lt;Your E-ma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23ED-C556-46C0-8302-1A466FDAC3D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957ED0-2D0A-4C82-B681-57B80F1EF60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ttom up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05440" y="4373640"/>
            <a:ext cx="1235160" cy="1376280"/>
          </a:xfrm>
          <a:prstGeom prst="flowChartMultidocumen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492440" y="3965040"/>
            <a:ext cx="1490760" cy="163656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636560"/>
              <a:gd name="textAreaBottom" fmla="*/ 1636920 h 163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56040" y="225432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18120" y="43084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40360" y="2909880"/>
            <a:ext cx="787680" cy="825480"/>
          </a:xfrm>
          <a:custGeom>
            <a:avLst/>
            <a:gdLst/>
            <a:ahLst/>
            <a:rect l="l" t="t" r="r" b="b"/>
            <a:pathLst>
              <a:path w="496" h="520">
                <a:moveTo>
                  <a:pt x="23" y="0"/>
                </a:moveTo>
                <a:cubicBezTo>
                  <a:pt x="252" y="76"/>
                  <a:pt x="482" y="152"/>
                  <a:pt x="489" y="233"/>
                </a:cubicBezTo>
                <a:cubicBezTo>
                  <a:pt x="496" y="314"/>
                  <a:pt x="134" y="520"/>
                  <a:pt x="67" y="489"/>
                </a:cubicBezTo>
                <a:cubicBezTo>
                  <a:pt x="0" y="458"/>
                  <a:pt x="82" y="121"/>
                  <a:pt x="89" y="45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29280" y="3121200"/>
            <a:ext cx="317520" cy="371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00920" y="2786040"/>
            <a:ext cx="828360" cy="264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224400" y="3703680"/>
            <a:ext cx="687240" cy="38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endCxn id="51" idx="1"/>
          </p:cNvCxnSpPr>
          <p:nvPr/>
        </p:nvCxnSpPr>
        <p:spPr>
          <a:xfrm>
            <a:off x="6435360" y="4498920"/>
            <a:ext cx="370440" cy="564480"/>
          </a:xfrm>
          <a:prstGeom prst="bentConnector3">
            <a:avLst>
              <a:gd name="adj1" fmla="val 49708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4005360" y="3616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4840" y="5485320"/>
            <a:ext cx="26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zations of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2640" y="380916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043400" y="488376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25280" y="5898240"/>
            <a:ext cx="20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ificial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00040" y="371844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86400" y="48006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8120" y="1981080"/>
            <a:ext cx="3370320" cy="3962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88000" y="2068560"/>
            <a:ext cx="1482480" cy="6350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73720" y="2273400"/>
            <a:ext cx="1482480" cy="6350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11640" y="23572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40080" y="34131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82280" y="2940840"/>
            <a:ext cx="19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95680" y="44956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4952880"/>
            <a:ext cx="476280" cy="441360"/>
          </a:xfrm>
          <a:prstGeom prst="smileyFace">
            <a:avLst>
              <a:gd name="adj" fmla="val 518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46480" y="34290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49680" y="284652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1360" y="1619280"/>
            <a:ext cx="3048120" cy="2636640"/>
          </a:xfrm>
          <a:prstGeom prst="cloudCallout">
            <a:avLst>
              <a:gd name="adj1" fmla="val 76564"/>
              <a:gd name="adj2" fmla="val 2001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d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on1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on2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/>
          <p:nvPr/>
        </p:nvCxnSpPr>
        <p:spPr>
          <a:xfrm flipH="1" rot="16200000">
            <a:off x="3451680" y="4111200"/>
            <a:ext cx="847080" cy="10119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V="1">
            <a:off x="4925520" y="3338640"/>
            <a:ext cx="623160" cy="2955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5481-A033-4764-8C87-644D2F6E27C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7DEF70-6A83-487C-A597-3A3702E17A7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 of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nched in 1994 by Chris Langton at Santa Fe Institute in New Mexico (Contributors: Chris Langton, Roger Burkhart, Nelson Minar, Manor Askenazi, Glen Ropella, Sven Thommesen, Marcus Daniels, Alex Lancaster, Vladimir Jojic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a shared simulation platform for A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cilitate the development of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eased in beta in ‘95, 1.0 release in January ‘97, 1.1 with Win95/NT support April ‘98, 2.0 with Java April ‘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AFB2-466A-4CB0-BD6A-D7DD4194B4B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3D0503-0864-4ACD-9F14-40604C82C04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f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is a collection of object oriented software libraries which provide support for simulation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 build simulations by incorporating Swarm library objects in their own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raries are written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-C : A superset of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cl/Tk: Scripting language and GUI widgets (transparent to user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le for Unix and Windows 95/98/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BE8E-8370-4B92-AEC1-68659DFA560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5FF5CD-9F29-4D33-8BFF-FEB2010102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862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6200000">
            <a:off x="2867040" y="3952440"/>
            <a:ext cx="1490760" cy="163692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636920"/>
              <a:gd name="textAreaBottom" fmla="*/ 1637280 h 163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30280" y="2241720"/>
            <a:ext cx="476280" cy="44100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42958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79600" y="360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79440" y="5472720"/>
            <a:ext cx="26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zations of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96880" y="379620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18640" y="588528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60640" y="47880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22360" y="1968480"/>
            <a:ext cx="3370320" cy="3962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62240" y="2055960"/>
            <a:ext cx="1482840" cy="63468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47960" y="2260440"/>
            <a:ext cx="1482840" cy="6350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85880" y="23446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14680" y="34005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56520" y="2927880"/>
            <a:ext cx="19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70280" y="44830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74840" y="4940280"/>
            <a:ext cx="476280" cy="441360"/>
          </a:xfrm>
          <a:prstGeom prst="smileyFace">
            <a:avLst>
              <a:gd name="adj" fmla="val 518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20720" y="34164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23920" y="28335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/>
          <p:nvPr/>
        </p:nvCxnSpPr>
        <p:spPr>
          <a:xfrm flipH="1" rot="16200000">
            <a:off x="1825920" y="4098600"/>
            <a:ext cx="847080" cy="10119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/>
          <p:nvPr/>
        </p:nvCxnSpPr>
        <p:spPr>
          <a:xfrm flipV="1">
            <a:off x="3300480" y="3324960"/>
            <a:ext cx="622800" cy="29628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4952880" y="1955880"/>
            <a:ext cx="3370320" cy="396216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70240" y="58600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ezbin" descr=""/>
          <p:cNvPicPr/>
          <p:nvPr/>
        </p:nvPicPr>
        <p:blipFill>
          <a:blip r:embed="rId1"/>
          <a:stretch/>
        </p:blipFill>
        <p:spPr>
          <a:xfrm>
            <a:off x="6908760" y="2220840"/>
            <a:ext cx="1231920" cy="836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959520" y="3200400"/>
            <a:ext cx="1136880" cy="102384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996240" y="3219480"/>
            <a:ext cx="1063440" cy="974520"/>
          </a:xfrm>
          <a:prstGeom prst="rect">
            <a:avLst/>
          </a:prstGeom>
          <a:ln w="0">
            <a:noFill/>
          </a:ln>
        </p:spPr>
      </p:pic>
      <p:cxnSp>
        <p:nvCxnSpPr>
          <p:cNvPr id="111" name=""/>
          <p:cNvCxnSpPr>
            <a:stCxn id="94" idx="3"/>
            <a:endCxn id="112" idx="2"/>
          </p:cNvCxnSpPr>
          <p:nvPr/>
        </p:nvCxnSpPr>
        <p:spPr>
          <a:xfrm flipV="1">
            <a:off x="4792680" y="3584160"/>
            <a:ext cx="443520" cy="365760"/>
          </a:xfrm>
          <a:prstGeom prst="bentConnector3">
            <a:avLst>
              <a:gd name="adj1" fmla="val 49796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5235480" y="2527200"/>
            <a:ext cx="1317600" cy="57168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35480" y="3251160"/>
            <a:ext cx="1254240" cy="53352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35480" y="4000680"/>
            <a:ext cx="1279800" cy="571320"/>
          </a:xfrm>
          <a:prstGeom prst="cube">
            <a:avLst>
              <a:gd name="adj" fmla="val 25000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235480" y="4749840"/>
            <a:ext cx="1279800" cy="57132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13" idx="2"/>
            <a:endCxn id="94" idx="3"/>
          </p:cNvCxnSpPr>
          <p:nvPr/>
        </p:nvCxnSpPr>
        <p:spPr>
          <a:xfrm flipV="1" rot="10800000">
            <a:off x="4791960" y="2883240"/>
            <a:ext cx="443520" cy="1065960"/>
          </a:xfrm>
          <a:prstGeom prst="bentConnector3">
            <a:avLst>
              <a:gd name="adj1" fmla="val 49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7" name=""/>
          <p:cNvCxnSpPr>
            <a:stCxn id="114" idx="2"/>
            <a:endCxn id="94" idx="3"/>
          </p:cNvCxnSpPr>
          <p:nvPr/>
        </p:nvCxnSpPr>
        <p:spPr>
          <a:xfrm rot="10800000">
            <a:off x="4791960" y="3948840"/>
            <a:ext cx="443520" cy="408960"/>
          </a:xfrm>
          <a:prstGeom prst="bentConnector3">
            <a:avLst>
              <a:gd name="adj1" fmla="val 49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8" name=""/>
          <p:cNvCxnSpPr>
            <a:stCxn id="115" idx="2"/>
            <a:endCxn id="94" idx="3"/>
          </p:cNvCxnSpPr>
          <p:nvPr/>
        </p:nvCxnSpPr>
        <p:spPr>
          <a:xfrm rot="10800000">
            <a:off x="4791960" y="3948840"/>
            <a:ext cx="443520" cy="1157760"/>
          </a:xfrm>
          <a:prstGeom prst="bentConnector3">
            <a:avLst>
              <a:gd name="adj1" fmla="val 49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19" name="modelprobe" descr=""/>
          <p:cNvPicPr/>
          <p:nvPr/>
        </p:nvPicPr>
        <p:blipFill>
          <a:blip r:embed="rId3"/>
          <a:stretch/>
        </p:blipFill>
        <p:spPr>
          <a:xfrm>
            <a:off x="6883560" y="4419720"/>
            <a:ext cx="1282680" cy="10508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3" idx="4"/>
            <a:endCxn id="108" idx="1"/>
          </p:cNvCxnSpPr>
          <p:nvPr/>
        </p:nvCxnSpPr>
        <p:spPr>
          <a:xfrm flipV="1">
            <a:off x="6409800" y="2639520"/>
            <a:ext cx="499320" cy="244800"/>
          </a:xfrm>
          <a:prstGeom prst="bentConnector3">
            <a:avLst>
              <a:gd name="adj1" fmla="val 64285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1" name=""/>
          <p:cNvCxnSpPr>
            <a:stCxn id="112" idx="5"/>
            <a:endCxn id="110" idx="1"/>
          </p:cNvCxnSpPr>
          <p:nvPr/>
        </p:nvCxnSpPr>
        <p:spPr>
          <a:xfrm>
            <a:off x="6489360" y="3451320"/>
            <a:ext cx="506880" cy="255960"/>
          </a:xfrm>
          <a:prstGeom prst="bentConnector3">
            <a:avLst>
              <a:gd name="adj1" fmla="val 4982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09" idx="1"/>
          </p:cNvCxnSpPr>
          <p:nvPr/>
        </p:nvCxnSpPr>
        <p:spPr>
          <a:xfrm flipV="1">
            <a:off x="6515280" y="3712680"/>
            <a:ext cx="444960" cy="502560"/>
          </a:xfrm>
          <a:prstGeom prst="bentConnector3">
            <a:avLst>
              <a:gd name="adj1" fmla="val 52469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3" name=""/>
          <p:cNvCxnSpPr>
            <a:stCxn id="119" idx="1"/>
            <a:endCxn id="115" idx="4"/>
          </p:cNvCxnSpPr>
          <p:nvPr/>
        </p:nvCxnSpPr>
        <p:spPr>
          <a:xfrm flipV="1" rot="10800000">
            <a:off x="6371640" y="4944600"/>
            <a:ext cx="511920" cy="162720"/>
          </a:xfrm>
          <a:prstGeom prst="bentConnector3">
            <a:avLst>
              <a:gd name="adj1" fmla="val 3596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B111-5D28-439D-8898-16FDBC876F8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F464A4-8D3B-49B2-8E6E-A808857055A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 Oriented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25480" y="2424240"/>
            <a:ext cx="2828880" cy="281592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6680" y="3147840"/>
            <a:ext cx="1528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42040" y="412920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83040" y="3065400"/>
            <a:ext cx="904680" cy="317520"/>
          </a:xfrm>
          <a:custGeom>
            <a:avLst/>
            <a:gdLst/>
            <a:ahLst/>
            <a:rect l="l" t="t" r="r" b="b"/>
            <a:pathLst>
              <a:path w="570" h="200">
                <a:moveTo>
                  <a:pt x="0" y="199"/>
                </a:moveTo>
                <a:lnTo>
                  <a:pt x="98" y="98"/>
                </a:lnTo>
                <a:lnTo>
                  <a:pt x="180" y="44"/>
                </a:lnTo>
                <a:lnTo>
                  <a:pt x="253" y="8"/>
                </a:lnTo>
                <a:lnTo>
                  <a:pt x="288" y="0"/>
                </a:lnTo>
                <a:lnTo>
                  <a:pt x="307" y="8"/>
                </a:lnTo>
                <a:lnTo>
                  <a:pt x="325" y="26"/>
                </a:lnTo>
                <a:lnTo>
                  <a:pt x="343" y="53"/>
                </a:lnTo>
                <a:lnTo>
                  <a:pt x="352" y="90"/>
                </a:lnTo>
                <a:lnTo>
                  <a:pt x="352" y="117"/>
                </a:lnTo>
                <a:lnTo>
                  <a:pt x="361" y="144"/>
                </a:lnTo>
                <a:lnTo>
                  <a:pt x="406" y="134"/>
                </a:lnTo>
                <a:lnTo>
                  <a:pt x="443" y="126"/>
                </a:lnTo>
                <a:lnTo>
                  <a:pt x="478" y="107"/>
                </a:lnTo>
                <a:lnTo>
                  <a:pt x="514" y="98"/>
                </a:lnTo>
                <a:lnTo>
                  <a:pt x="533" y="98"/>
                </a:lnTo>
                <a:lnTo>
                  <a:pt x="569" y="90"/>
                </a:lnTo>
                <a:lnTo>
                  <a:pt x="567" y="77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74920" y="4021200"/>
            <a:ext cx="838440" cy="261720"/>
          </a:xfrm>
          <a:custGeom>
            <a:avLst/>
            <a:gdLst/>
            <a:ahLst/>
            <a:rect l="l" t="t" r="r" b="b"/>
            <a:pathLst>
              <a:path w="528" h="165">
                <a:moveTo>
                  <a:pt x="0" y="164"/>
                </a:moveTo>
                <a:lnTo>
                  <a:pt x="12" y="126"/>
                </a:lnTo>
                <a:lnTo>
                  <a:pt x="58" y="71"/>
                </a:lnTo>
                <a:lnTo>
                  <a:pt x="121" y="35"/>
                </a:lnTo>
                <a:lnTo>
                  <a:pt x="157" y="27"/>
                </a:lnTo>
                <a:lnTo>
                  <a:pt x="175" y="54"/>
                </a:lnTo>
                <a:lnTo>
                  <a:pt x="194" y="71"/>
                </a:lnTo>
                <a:lnTo>
                  <a:pt x="221" y="71"/>
                </a:lnTo>
                <a:lnTo>
                  <a:pt x="284" y="44"/>
                </a:lnTo>
                <a:lnTo>
                  <a:pt x="311" y="27"/>
                </a:lnTo>
                <a:lnTo>
                  <a:pt x="338" y="17"/>
                </a:lnTo>
                <a:lnTo>
                  <a:pt x="357" y="27"/>
                </a:lnTo>
                <a:lnTo>
                  <a:pt x="384" y="35"/>
                </a:lnTo>
                <a:lnTo>
                  <a:pt x="420" y="35"/>
                </a:lnTo>
                <a:lnTo>
                  <a:pt x="447" y="27"/>
                </a:lnTo>
                <a:lnTo>
                  <a:pt x="483" y="8"/>
                </a:lnTo>
                <a:lnTo>
                  <a:pt x="519" y="0"/>
                </a:lnTo>
                <a:lnTo>
                  <a:pt x="527" y="1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774600" y="2789280"/>
            <a:ext cx="796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25720" y="357516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77800" y="5452920"/>
            <a:ext cx="1379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86640" y="2205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95920" y="3348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705200" y="4491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58040" y="456876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0120" y="3429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070320" y="3071880"/>
            <a:ext cx="990360" cy="30456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97760" y="3089160"/>
            <a:ext cx="990720" cy="38124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5138640" y="4232160"/>
            <a:ext cx="914400" cy="30492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05600" y="4268880"/>
            <a:ext cx="838080" cy="3808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96080" y="3836880"/>
            <a:ext cx="75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518160" y="4992840"/>
            <a:ext cx="7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0" y="5489640"/>
            <a:ext cx="1515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81960" y="2935440"/>
            <a:ext cx="512640" cy="223560"/>
          </a:xfrm>
          <a:custGeom>
            <a:avLst/>
            <a:gdLst/>
            <a:ahLst/>
            <a:rect l="l" t="t" r="r" b="b"/>
            <a:pathLst>
              <a:path w="323" h="141">
                <a:moveTo>
                  <a:pt x="0" y="140"/>
                </a:moveTo>
                <a:lnTo>
                  <a:pt x="32" y="65"/>
                </a:lnTo>
                <a:lnTo>
                  <a:pt x="64" y="22"/>
                </a:lnTo>
                <a:lnTo>
                  <a:pt x="86" y="11"/>
                </a:lnTo>
                <a:lnTo>
                  <a:pt x="118" y="22"/>
                </a:lnTo>
                <a:lnTo>
                  <a:pt x="161" y="33"/>
                </a:lnTo>
                <a:lnTo>
                  <a:pt x="204" y="65"/>
                </a:lnTo>
                <a:lnTo>
                  <a:pt x="214" y="97"/>
                </a:lnTo>
                <a:lnTo>
                  <a:pt x="247" y="65"/>
                </a:lnTo>
                <a:lnTo>
                  <a:pt x="268" y="33"/>
                </a:lnTo>
                <a:lnTo>
                  <a:pt x="289" y="11"/>
                </a:lnTo>
                <a:lnTo>
                  <a:pt x="322" y="0"/>
                </a:lnTo>
                <a:lnTo>
                  <a:pt x="322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25160" y="254628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56400" y="3768840"/>
            <a:ext cx="70632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56480" y="262728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02040" y="4898880"/>
            <a:ext cx="7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049400" y="3879360"/>
            <a:ext cx="2549520" cy="9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2D7D-6943-49D9-8A34-A10083D861A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904A92-F834-44FA-93FE-051B67A43D8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5T01:43:27Z</dcterms:created>
  <dc:creator>Benedikt Stefansson</dc:creator>
  <dc:description/>
  <dc:language>en-US</dc:language>
  <cp:lastModifiedBy>Office</cp:lastModifiedBy>
  <dcterms:modified xsi:type="dcterms:W3CDTF">1999-03-27T03:04:52Z</dcterms:modified>
  <cp:revision>42</cp:revision>
  <dc:subject/>
  <dc:title>Swarmfest 199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ocuments\Benedikt\CourseMaterial\Swarmfest 1998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