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8F0C-24E1-4C93-86C7-E5A3446C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7EDB-57AB-4741-90EB-061E6566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A97D-39CE-4E52-B984-11A04DB22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775C-B08B-427C-98A6-C66A4823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2C81-0BBC-4E76-ABFC-84D1877D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8621-FA94-42D8-9ECB-1ABBE53D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69C5-3BBD-4609-AED5-A3A755AE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C946-8EEB-4A03-B30F-C6149979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B799-1DFC-41DD-8698-4073E66C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CABF-CD07-4B5B-BBC5-CABB34B2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DD4E-28A8-4C59-9DFF-FB6289F9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62F7-E0AB-4C5E-A23C-B84EC193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AF5D-EC4E-4958-A183-6B0AC3DA293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2B69-7C23-4E75-813D-FA5D27C4A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7484-7BEC-46E1-A90A-E3E74A04517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8671A-910F-4071-9AAD-57491BE9C3C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finition of an object and the object 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an object inherits behavior and variables from (recurs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inherits behavior and variables from a 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(instance of a class) that has been created and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ariable available to all functions in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. Can be called by sending message to an object of this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C30A-19A1-4B4E-BEB2-D2A966C1B6D0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9F4EF5-2C97-428C-9BFA-72A3F85104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2" idx="4"/>
            <a:endCxn id="171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2" idx="4"/>
            <a:endCxn id="170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0840" y="252720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D2A6-80F0-4D72-BF03-6A57DFE4E26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925E6B-F1A9-4CB5-A82D-D150BF74329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4AB0-22C3-4D39-A830-589E405D11F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4D434A-DB1B-440D-869F-8D32111392F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385F-3829-413F-9F42-1094D9FABD1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72827-573F-4CD1-B067-BE35573C7A3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52E5-7F2D-49B1-AC47-C163D81CBFC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370C6-C5E3-4651-B09F-78786CAD250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232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8" idx="4"/>
            <a:endCxn id="230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30" idx="4"/>
            <a:endCxn id="220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28" idx="1"/>
            <a:endCxn id="221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29" idx="3"/>
            <a:endCxn id="227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1" idx="1"/>
            <a:endCxn id="237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2" idx="3"/>
            <a:endCxn id="243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4CBB-6C38-489D-AF2C-331AF53FD10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658CE-AB8E-42C4-9ADF-D2112E14CC7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1"/>
            <a:endCxn id="272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2" idx="7"/>
            <a:endCxn id="273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4" idx="6"/>
            <a:endCxn id="273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activity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5B07-300A-4A07-8A69-2017E6C05DA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88597-441B-4681-9D53-E153D257D8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AEEA-3B90-4AEB-B035-2241CD50A7A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01E9C6-A3EF-40FD-905A-F62398F8812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23600" y="2212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23600" y="26510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3320" y="21938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96" idx="2"/>
            <a:endCxn id="300" idx="7"/>
          </p:cNvCxnSpPr>
          <p:nvPr/>
        </p:nvCxnSpPr>
        <p:spPr>
          <a:xfrm rot="5400000">
            <a:off x="5038920" y="3537360"/>
            <a:ext cx="1119960" cy="26136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96" idx="2"/>
            <a:endCxn id="301" idx="0"/>
          </p:cNvCxnSpPr>
          <p:nvPr/>
        </p:nvCxnSpPr>
        <p:spPr>
          <a:xfrm flipH="1" rot="16200000">
            <a:off x="5404680" y="3432600"/>
            <a:ext cx="108324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296" idx="2"/>
            <a:endCxn id="302" idx="0"/>
          </p:cNvCxnSpPr>
          <p:nvPr/>
        </p:nvCxnSpPr>
        <p:spPr>
          <a:xfrm flipH="1" rot="16200000">
            <a:off x="5775120" y="3061440"/>
            <a:ext cx="1083240" cy="1176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296" idx="2"/>
            <a:endCxn id="309" idx="0"/>
          </p:cNvCxnSpPr>
          <p:nvPr/>
        </p:nvCxnSpPr>
        <p:spPr>
          <a:xfrm flipH="1" rot="16200000">
            <a:off x="6184800" y="2651760"/>
            <a:ext cx="1083240" cy="1996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298" idx="2"/>
            <a:endCxn id="304" idx="0"/>
          </p:cNvCxnSpPr>
          <p:nvPr/>
        </p:nvCxnSpPr>
        <p:spPr>
          <a:xfrm flipH="1" rot="16200000">
            <a:off x="7203240" y="2774520"/>
            <a:ext cx="682920" cy="435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62400" y="2647800"/>
            <a:ext cx="17146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6985-E4E2-4A41-BDAD-C35BB1EA8A2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02CBF5-90F7-49C0-9BD9-BB4D8EDF4EB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AD3F-A55B-410C-86A8-140178F0474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963D5-D402-443C-A402-CAE2649EDF8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2"/>
            <a:endCxn id="325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FFA8-2FDB-4ABA-9AC7-623A21A52A7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34AE7B-64F5-41B5-AC05-892CEB1FEB1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estroyed using a no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ropping a memory zone can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E885-B75C-477C-B567-21A57735BBE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E79CB-2CE4-4F15-B0E6-E1321103976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6" idx="2"/>
            <a:endCxn id="391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B899-EBF2-476A-94F9-0AC9AFCADAA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A58BC-892A-4A34-B649-0C7A3C8F703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245B-5F51-4E65-8EAE-CD9A0475362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85EF75-5F65-47E8-81F7-8002A7B2185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e m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5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4411-67B2-40C6-B9C4-DD4EEBB6B88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E3169-6F6F-42B3-8C1B-5C8642C45B2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7" idx="1"/>
            <a:endCxn id="430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stCxn id="438" idx="3"/>
            <a:endCxn id="429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3" name=""/>
          <p:cNvCxnSpPr>
            <a:stCxn id="439" idx="1"/>
            <a:endCxn id="427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2"/>
            <a:endCxn id="428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C33D-A54B-4576-90AD-18D98B67F07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4C2BBF-0EBB-479F-B5C2-A2FBC59D7B5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49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34D6-B71C-4E64-B6EF-212BDC76995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03008-8890-4FC4-8342-2854342D383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8" idx="3"/>
            <a:endCxn id="458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9" idx="1"/>
            <a:endCxn id="455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70" idx="2"/>
            <a:endCxn id="461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stCxn id="471" idx="2"/>
            <a:endCxn id="459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6" name=""/>
          <p:cNvCxnSpPr>
            <a:stCxn id="467" idx="0"/>
            <a:endCxn id="456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66" idx="0"/>
            <a:endCxn id="454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8" idx="0"/>
            <a:endCxn id="465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D2DE-6BB4-4F40-BDBE-C589490857E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60430F-EFEF-4FF3-B23D-EA560ADFBD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Mac OS X (Rhaps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7D12-AFAC-4F23-9FE7-61483F0FF3A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B3DF7-5A6F-49EF-A1C8-6937A50FBBF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objects in Objective-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bject is defined in terms of it’s interface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or project consists of a collection of object declarations and definitions (*.h and *.m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WATCHC1" descr=""/>
          <p:cNvPicPr/>
          <p:nvPr/>
        </p:nvPicPr>
        <p:blipFill>
          <a:blip r:embed="rId1"/>
          <a:stretch/>
        </p:blipFill>
        <p:spPr>
          <a:xfrm>
            <a:off x="1481040" y="1854360"/>
            <a:ext cx="1838520" cy="1409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718200" y="56530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: *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40160" y="3149640"/>
            <a:ext cx="2082600" cy="226044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mple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760" y="3301920"/>
            <a:ext cx="2133360" cy="232416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nterf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ns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/>
          <p:nvPr/>
        </p:nvCxnSpPr>
        <p:spPr>
          <a:xfrm flipH="1" flipV="1" rot="10800000">
            <a:off x="1722240" y="2583360"/>
            <a:ext cx="81360" cy="1010520"/>
          </a:xfrm>
          <a:prstGeom prst="bentConnector4">
            <a:avLst>
              <a:gd name="adj1" fmla="val -282222"/>
              <a:gd name="adj2" fmla="val 84889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"/>
          <p:cNvCxnSpPr/>
          <p:nvPr/>
        </p:nvCxnSpPr>
        <p:spPr>
          <a:xfrm>
            <a:off x="3002040" y="2584440"/>
            <a:ext cx="148320" cy="78192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2494440" y="538632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: *.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EE24-2680-4A85-8EB9-485A6F432F7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80D90A-33F1-4C28-839C-25BF803575D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a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: Creation/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multiple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5489-8410-4B4C-8CE8-E498CA5D17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AFEE6C-4873-43CF-B121-A014EF46A28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7" idx="4"/>
            <a:endCxn id="499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7" idx="4"/>
            <a:endCxn id="498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53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endCxn id="493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endCxn id="492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497" idx="0"/>
            <a:endCxn id="494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499" idx="2"/>
            <a:endCxn id="495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12" idx="1"/>
            <a:endCxn id="503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11" idx="1"/>
            <a:endCxn id="503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D839-896F-4F9C-B60B-D5A5224E3E25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8A3CC-AA55-4853-9AA8-F10CADE7AC9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27720" y="186696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E.g. ‘step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: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X:(type)x Y:(type)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setX:Y:’ that takes tw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2720" y="1981080"/>
            <a:ext cx="404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9E35-8C51-4E82-894A-64DDB25D85F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BA5AC-2951-4192-AA0C-DEADB957F3F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56F3-30BC-4C48-9CC4-518C5DCC5D8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ED04C-F1BE-4758-9314-309F9B07FD5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: (type) v1 argName2: (type) v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v1,(type) v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A975-5CCD-48DB-ABAB-36788FC8E336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57EEA5-65BF-4027-B5FD-DBFE5689C9E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A582-112A-44F1-BC50-C13DFE13B95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394A5-1945-4ED7-9261-D40DCDFB01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CDFA-1F45-4BBE-BCB7-A559DD3D2A5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BBC57A-AE81-4848-9DC4-CE8CC2047B6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turn type of method is not defined value must return an id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44A3-DECE-4859-B85B-8CCDEA93135D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DD136-748D-43EA-9F70-8B76501C913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small ObjC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95400" y="4410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89240" y="4427640"/>
            <a:ext cx="9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58040" y="2106720"/>
            <a:ext cx="9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02560" y="212256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569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575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581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587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593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5A61-DF35-4D1E-B99E-C80E0BC7D36D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7D4DB-6D41-474B-B565-6428B452C39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layers A and B alternate aiming revolver at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n start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pulling trigger each player must load new bullet in rev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revolver doesn’t go off player hands gun over to op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B27E-F939-471D-BB88-EC8FB201747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6D109B-C613-451F-BB20-2BB265D72FB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vival prob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469520" y="1601640"/>
            <a:ext cx="1404000" cy="981000"/>
            <a:chOff x="1469520" y="1601640"/>
            <a:chExt cx="1404000" cy="981000"/>
          </a:xfrm>
        </p:grpSpPr>
        <p:sp>
          <p:nvSpPr>
            <p:cNvPr id="604" name=""/>
            <p:cNvSpPr/>
            <p:nvPr/>
          </p:nvSpPr>
          <p:spPr>
            <a:xfrm flipH="1">
              <a:off x="1469520" y="2081160"/>
              <a:ext cx="58428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4920" y="2081160"/>
              <a:ext cx="7686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92880" y="1601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475000" y="2389320"/>
            <a:ext cx="1402920" cy="981000"/>
            <a:chOff x="2475000" y="2389320"/>
            <a:chExt cx="1402920" cy="981000"/>
          </a:xfrm>
        </p:grpSpPr>
        <p:sp>
          <p:nvSpPr>
            <p:cNvPr id="608" name=""/>
            <p:cNvSpPr/>
            <p:nvPr/>
          </p:nvSpPr>
          <p:spPr>
            <a:xfrm flipH="1">
              <a:off x="2475000" y="2868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09680" y="2868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05200" y="2389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610080" y="3141720"/>
            <a:ext cx="1402920" cy="981000"/>
            <a:chOff x="3610080" y="3141720"/>
            <a:chExt cx="1402920" cy="981000"/>
          </a:xfrm>
        </p:grpSpPr>
        <p:sp>
          <p:nvSpPr>
            <p:cNvPr id="612" name=""/>
            <p:cNvSpPr/>
            <p:nvPr/>
          </p:nvSpPr>
          <p:spPr>
            <a:xfrm flipH="1">
              <a:off x="3610080" y="36212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44760" y="36212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32360" y="314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680000" y="3876840"/>
            <a:ext cx="1402920" cy="981000"/>
            <a:chOff x="4680000" y="3876840"/>
            <a:chExt cx="1402920" cy="981000"/>
          </a:xfrm>
        </p:grpSpPr>
        <p:sp>
          <p:nvSpPr>
            <p:cNvPr id="616" name=""/>
            <p:cNvSpPr/>
            <p:nvPr/>
          </p:nvSpPr>
          <p:spPr>
            <a:xfrm flipH="1">
              <a:off x="4680000" y="435636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14680" y="435636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10200" y="3876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783400" y="4594320"/>
            <a:ext cx="1402920" cy="981000"/>
            <a:chOff x="5783400" y="4594320"/>
            <a:chExt cx="1402920" cy="981000"/>
          </a:xfrm>
        </p:grpSpPr>
        <p:sp>
          <p:nvSpPr>
            <p:cNvPr id="620" name=""/>
            <p:cNvSpPr/>
            <p:nvPr/>
          </p:nvSpPr>
          <p:spPr>
            <a:xfrm flipH="1">
              <a:off x="5783400" y="5073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18080" y="5073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05680" y="459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001160" y="196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9360" y="1901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87120" y="28209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41320" y="27036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152360" y="2408400"/>
            <a:ext cx="250920" cy="568080"/>
            <a:chOff x="1152360" y="2408400"/>
            <a:chExt cx="250920" cy="568080"/>
          </a:xfrm>
        </p:grpSpPr>
        <p:sp>
          <p:nvSpPr>
            <p:cNvPr id="628" name=""/>
            <p:cNvSpPr/>
            <p:nvPr/>
          </p:nvSpPr>
          <p:spPr>
            <a:xfrm>
              <a:off x="1270080" y="240840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259236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206800" y="3313080"/>
            <a:ext cx="250560" cy="568440"/>
            <a:chOff x="2206800" y="3313080"/>
            <a:chExt cx="250560" cy="568440"/>
          </a:xfrm>
        </p:grpSpPr>
        <p:sp>
          <p:nvSpPr>
            <p:cNvPr id="631" name=""/>
            <p:cNvSpPr/>
            <p:nvPr/>
          </p:nvSpPr>
          <p:spPr>
            <a:xfrm>
              <a:off x="2324160" y="331308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06800" y="3497400"/>
              <a:ext cx="25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343320" y="4165560"/>
            <a:ext cx="250920" cy="568440"/>
            <a:chOff x="3343320" y="4165560"/>
            <a:chExt cx="250920" cy="568440"/>
          </a:xfrm>
        </p:grpSpPr>
        <p:sp>
          <p:nvSpPr>
            <p:cNvPr id="634" name=""/>
            <p:cNvSpPr/>
            <p:nvPr/>
          </p:nvSpPr>
          <p:spPr>
            <a:xfrm>
              <a:off x="3461040" y="41655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43320" y="43498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429080" y="4917960"/>
            <a:ext cx="250920" cy="568440"/>
            <a:chOff x="4429080" y="4917960"/>
            <a:chExt cx="250920" cy="568440"/>
          </a:xfrm>
        </p:grpSpPr>
        <p:sp>
          <p:nvSpPr>
            <p:cNvPr id="637" name=""/>
            <p:cNvSpPr/>
            <p:nvPr/>
          </p:nvSpPr>
          <p:spPr>
            <a:xfrm>
              <a:off x="4546800" y="49179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29080" y="51022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481720" y="5600880"/>
            <a:ext cx="250920" cy="568080"/>
            <a:chOff x="5481720" y="5600880"/>
            <a:chExt cx="250920" cy="568080"/>
          </a:xfrm>
        </p:grpSpPr>
        <p:sp>
          <p:nvSpPr>
            <p:cNvPr id="640" name=""/>
            <p:cNvSpPr/>
            <p:nvPr/>
          </p:nvSpPr>
          <p:spPr>
            <a:xfrm>
              <a:off x="5599440" y="560088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81720" y="57848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53280" y="5602320"/>
            <a:ext cx="250920" cy="568440"/>
            <a:chOff x="7253280" y="5602320"/>
            <a:chExt cx="250920" cy="568440"/>
          </a:xfrm>
        </p:grpSpPr>
        <p:sp>
          <p:nvSpPr>
            <p:cNvPr id="643" name=""/>
            <p:cNvSpPr/>
            <p:nvPr/>
          </p:nvSpPr>
          <p:spPr>
            <a:xfrm>
              <a:off x="7371000" y="560232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3280" y="57866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2957040" y="358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093560" y="4292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110720" y="5160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162040" y="4994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60480" y="34066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47760" y="4175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66920" y="475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66C1-BC25-424C-B724-5906F5A51DBD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C879F9-7AB7-4B2D-A37D-2611D8A5CCE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tudy complex nonlinear systems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co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r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based models allow us to stu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, heterogeneous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s which face costs of information acquisition and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 subsystems - economy, markets, firms, plants,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0AEC-DC3B-45AA-87B1-9991557641B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0B392-D702-41A0-8CE1-60E45643E5E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project: 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31400" y="441000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07160" y="442764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93680" y="210672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20480" y="212256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664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670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676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682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688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1FEE-4180-4CB0-972C-23079F497C73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FED749-564E-425D-92CF-4BF32BB3D92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Play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na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 oth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init: (int) 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tOther: 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is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play: 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3911760"/>
            <a:ext cx="166356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P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Play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ow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he is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ity of other p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Player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 to “aliv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vol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194600" y="376704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64440" y="418932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38760" y="2362320"/>
            <a:ext cx="16635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"/>
          <p:cNvCxnSpPr>
            <a:stCxn id="699" idx="4"/>
            <a:endCxn id="696" idx="2"/>
          </p:cNvCxnSpPr>
          <p:nvPr/>
        </p:nvCxnSpPr>
        <p:spPr>
          <a:xfrm rot="5400000">
            <a:off x="6337440" y="396288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9" idx="0"/>
            <a:endCxn id="701" idx="3"/>
          </p:cNvCxnSpPr>
          <p:nvPr/>
        </p:nvCxnSpPr>
        <p:spPr>
          <a:xfrm flipV="1" rot="16200000">
            <a:off x="6681960" y="284184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8CD2-57C4-4CDB-9B12-581CC8825B36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A797CF-F028-4728-A4DB-CD7DAD3662E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Revol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Revolv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Gun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new bul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 trigger and return result (fired, didn’t f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Revolv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bullet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empt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lo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trigg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991200" y="3119400"/>
            <a:ext cx="825480" cy="8254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707" idx="4"/>
          </p:cNvCxnSpPr>
          <p:nvPr/>
        </p:nvCxnSpPr>
        <p:spPr>
          <a:xfrm rot="5400000">
            <a:off x="6134400" y="331524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7" idx="0"/>
          </p:cNvCxnSpPr>
          <p:nvPr/>
        </p:nvCxnSpPr>
        <p:spPr>
          <a:xfrm flipV="1" rot="16200000">
            <a:off x="6478920" y="219420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0" name=""/>
          <p:cNvSpPr/>
          <p:nvPr/>
        </p:nvSpPr>
        <p:spPr>
          <a:xfrm>
            <a:off x="7048440" y="35560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423D-4C7B-4A46-A586-047D6EA890EC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E3B60B-7086-40EE-BB23-E1C7708F629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are created in main.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hands empty revolver object off to playe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A loads bullet and pulls trig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A is alive hands gun to 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to 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B loads bullet and pulls tr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B is alive hands gun t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6EAC-E995-4807-B60D-6A6402A280A8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EC8F35-D640-405C-8EB6-80564CDD8F5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5460840" y="1574640"/>
            <a:ext cx="2578320" cy="2387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endCxn id="716" idx="2"/>
          </p:cNvCxnSpPr>
          <p:nvPr/>
        </p:nvCxnSpPr>
        <p:spPr>
          <a:xfrm rot="10800000">
            <a:off x="1370880" y="2401200"/>
            <a:ext cx="4687200" cy="3396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718" idx="2"/>
            <a:endCxn id="716" idx="2"/>
          </p:cNvCxnSpPr>
          <p:nvPr/>
        </p:nvCxnSpPr>
        <p:spPr>
          <a:xfrm rot="10800000">
            <a:off x="1370880" y="2401200"/>
            <a:ext cx="2946960" cy="2405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87320" y="1574640"/>
            <a:ext cx="1168560" cy="876600"/>
          </a:xfrm>
          <a:prstGeom prst="flowChartDocumen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2548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16200" y="27115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0" idx="6"/>
            <a:endCxn id="721" idx="2"/>
          </p:cNvCxnSpPr>
          <p:nvPr/>
        </p:nvCxnSpPr>
        <p:spPr>
          <a:xfrm>
            <a:off x="1584360" y="29779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257796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/>
          <p:nvPr/>
        </p:nvCxnSpPr>
        <p:spPr>
          <a:xfrm>
            <a:off x="2371680" y="296532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256536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56080" y="3575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25" idx="6"/>
            <a:endCxn id="726" idx="2"/>
          </p:cNvCxnSpPr>
          <p:nvPr/>
        </p:nvCxnSpPr>
        <p:spPr>
          <a:xfrm>
            <a:off x="3324240" y="38415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8" name=""/>
          <p:cNvSpPr/>
          <p:nvPr/>
        </p:nvSpPr>
        <p:spPr>
          <a:xfrm>
            <a:off x="431784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17840" y="44388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08560" y="45403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18" idx="6"/>
            <a:endCxn id="729" idx="2"/>
          </p:cNvCxnSpPr>
          <p:nvPr/>
        </p:nvCxnSpPr>
        <p:spPr>
          <a:xfrm>
            <a:off x="5076720" y="48067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1" name=""/>
          <p:cNvCxnSpPr/>
          <p:nvPr/>
        </p:nvCxnSpPr>
        <p:spPr>
          <a:xfrm>
            <a:off x="4644720" y="426096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/>
          <p:nvPr/>
        </p:nvCxnSpPr>
        <p:spPr>
          <a:xfrm>
            <a:off x="2917440" y="3295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723" idx="0"/>
            <a:endCxn id="716" idx="3"/>
          </p:cNvCxnSpPr>
          <p:nvPr/>
        </p:nvCxnSpPr>
        <p:spPr>
          <a:xfrm flipV="1" rot="16200000">
            <a:off x="2157840" y="1810080"/>
            <a:ext cx="597600" cy="1002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>
            <a:off x="6083280" y="4464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>
            <a:off x="5877000" y="48193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607068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61040" y="5429160"/>
            <a:ext cx="57492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6" idx="6"/>
            <a:endCxn id="737" idx="2"/>
          </p:cNvCxnSpPr>
          <p:nvPr/>
        </p:nvCxnSpPr>
        <p:spPr>
          <a:xfrm>
            <a:off x="6829200" y="5695560"/>
            <a:ext cx="23220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782316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/>
          <p:nvPr/>
        </p:nvCxnSpPr>
        <p:spPr>
          <a:xfrm>
            <a:off x="7616880" y="56829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/>
          <p:nvPr/>
        </p:nvCxnSpPr>
        <p:spPr>
          <a:xfrm>
            <a:off x="6422760" y="5149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"/>
          <p:cNvSpPr/>
          <p:nvPr/>
        </p:nvSpPr>
        <p:spPr>
          <a:xfrm>
            <a:off x="2301120" y="2098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9040" y="4575240"/>
            <a:ext cx="1316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01120" y="5527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/>
          <p:nvPr/>
        </p:nvCxnSpPr>
        <p:spPr>
          <a:xfrm>
            <a:off x="8238600" y="60390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"/>
          <p:cNvCxnSpPr/>
          <p:nvPr/>
        </p:nvCxnSpPr>
        <p:spPr>
          <a:xfrm>
            <a:off x="4098960" y="381600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7" name=""/>
          <p:cNvSpPr/>
          <p:nvPr/>
        </p:nvSpPr>
        <p:spPr>
          <a:xfrm>
            <a:off x="5727600" y="161928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53160" y="23684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449040" y="1781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48680" y="25686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48320" y="32544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Re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80240" y="3143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561E-592F-4BD0-970A-19E941520C3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9190BD-974A-4FA8-865E-4275A711F26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19400" y="2917800"/>
            <a:ext cx="1009440" cy="9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846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128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38840" y="2247840"/>
            <a:ext cx="262224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1 THEN return self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8" name=""/>
          <p:cNvCxnSpPr/>
          <p:nvPr/>
        </p:nvCxnSpPr>
        <p:spPr>
          <a:xfrm>
            <a:off x="178740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9" name=""/>
          <p:cNvCxnSpPr/>
          <p:nvPr/>
        </p:nvCxnSpPr>
        <p:spPr>
          <a:xfrm>
            <a:off x="333684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/>
          <p:nvPr/>
        </p:nvCxnSpPr>
        <p:spPr>
          <a:xfrm>
            <a:off x="4187520" y="4019040"/>
            <a:ext cx="3960" cy="242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/>
          <p:nvPr/>
        </p:nvCxnSpPr>
        <p:spPr>
          <a:xfrm flipV="1">
            <a:off x="4187880" y="2629800"/>
            <a:ext cx="2160" cy="253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"/>
          <p:cNvSpPr/>
          <p:nvPr/>
        </p:nvSpPr>
        <p:spPr>
          <a:xfrm>
            <a:off x="4876200" y="4229280"/>
            <a:ext cx="347112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0 THEN send message B play: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09880" y="423540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13240" y="4280040"/>
            <a:ext cx="23767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99760" y="2222640"/>
            <a:ext cx="24073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heads THEN retur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retur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870280"/>
            <a:ext cx="11412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790640" y="35938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4406760" y="4140000"/>
            <a:ext cx="47016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381560" y="2438280"/>
            <a:ext cx="5587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C4B0-5D3E-43E2-9851-30534F1D247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D07EA-48B2-4123-A564-3CD5F0EBF70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B589-DCB0-43B2-918D-7ED97F2BF16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079C85-BFA1-483D-A72C-F6119957BC8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1117-4F06-4311-9DE6-37E3FDB8A8F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1E5EF-0974-40BD-91F6-1020C25B1E5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endCxn id="51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2CB0-22A4-47A8-816D-2E3CE16E25F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78F2C6-E37C-47F3-8B76-7001963D50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nched in 1994 by Chris Langton at Santa Fe Institute in New Mexico (Contributors: Chris Langton, Roger Burkhart, Nelson Minar, Manor Askenazi, Glen Ropella, Sven Thommesen, Marcus Daniels, Alex Lancaster, Vladimir Joji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shared simulation platform for A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 the development of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d in beta in ‘95, 1.0 release in January ‘97, 1.1 with Win95/NT support April ‘98, 2.0 with Java April ‘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9437-C0D2-4CC0-AE4D-2DB15A36FC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8C717D-4EBC-4951-8B0F-D097BE4247B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object oriented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library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l/Tk: Scripting language and GUI widgets (transparent to us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Unix and Windows 95/98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84C1-2A6D-4FE0-AF6F-069DA8B080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34F8B2-9CFD-4CF1-BE2B-62118AD944D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2867040" y="3952440"/>
            <a:ext cx="1490760" cy="163692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920"/>
              <a:gd name="textAreaBottom" fmla="*/ 1637280 h 163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30280" y="2241720"/>
            <a:ext cx="476280" cy="44100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2958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0" y="360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9440" y="54727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96880" y="379620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18640" y="5885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60640" y="4788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22360" y="19684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2240" y="2055960"/>
            <a:ext cx="1482840" cy="63468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7960" y="2260440"/>
            <a:ext cx="148284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5880" y="2344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14680" y="3400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56520" y="292788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70280" y="44830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74840" y="49402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0720" y="34164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23920" y="2833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1825920" y="40986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>
            <a:off x="3300480" y="3324960"/>
            <a:ext cx="622800" cy="29628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4952880" y="1955880"/>
            <a:ext cx="3370320" cy="3962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70240" y="58600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zbin" descr=""/>
          <p:cNvPicPr/>
          <p:nvPr/>
        </p:nvPicPr>
        <p:blipFill>
          <a:blip r:embed="rId1"/>
          <a:stretch/>
        </p:blipFill>
        <p:spPr>
          <a:xfrm>
            <a:off x="6908760" y="2220840"/>
            <a:ext cx="1231920" cy="83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59520" y="3200400"/>
            <a:ext cx="1136880" cy="10238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996240" y="3219480"/>
            <a:ext cx="1063440" cy="974520"/>
          </a:xfrm>
          <a:prstGeom prst="rect">
            <a:avLst/>
          </a:prstGeom>
          <a:ln w="0">
            <a:noFill/>
          </a:ln>
        </p:spPr>
      </p:pic>
      <p:cxnSp>
        <p:nvCxnSpPr>
          <p:cNvPr id="111" name=""/>
          <p:cNvCxnSpPr>
            <a:stCxn id="94" idx="3"/>
            <a:endCxn id="112" idx="2"/>
          </p:cNvCxnSpPr>
          <p:nvPr/>
        </p:nvCxnSpPr>
        <p:spPr>
          <a:xfrm flipV="1">
            <a:off x="4792680" y="3584160"/>
            <a:ext cx="443520" cy="365760"/>
          </a:xfrm>
          <a:prstGeom prst="bentConnector3">
            <a:avLst>
              <a:gd name="adj1" fmla="val 49796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235480" y="2527200"/>
            <a:ext cx="1317600" cy="571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5480" y="3251160"/>
            <a:ext cx="1254240" cy="5335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5480" y="4000680"/>
            <a:ext cx="1279800" cy="5713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35480" y="4749840"/>
            <a:ext cx="1279800" cy="57132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2"/>
            <a:endCxn id="94" idx="3"/>
          </p:cNvCxnSpPr>
          <p:nvPr/>
        </p:nvCxnSpPr>
        <p:spPr>
          <a:xfrm flipV="1" rot="10800000">
            <a:off x="4791960" y="2883240"/>
            <a:ext cx="443520" cy="1065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4" idx="2"/>
            <a:endCxn id="94" idx="3"/>
          </p:cNvCxnSpPr>
          <p:nvPr/>
        </p:nvCxnSpPr>
        <p:spPr>
          <a:xfrm rot="10800000">
            <a:off x="4791960" y="3948840"/>
            <a:ext cx="443520" cy="408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>
            <a:stCxn id="115" idx="2"/>
            <a:endCxn id="94" idx="3"/>
          </p:cNvCxnSpPr>
          <p:nvPr/>
        </p:nvCxnSpPr>
        <p:spPr>
          <a:xfrm rot="10800000">
            <a:off x="4791960" y="3948840"/>
            <a:ext cx="443520" cy="11577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19" name="modelprobe" descr=""/>
          <p:cNvPicPr/>
          <p:nvPr/>
        </p:nvPicPr>
        <p:blipFill>
          <a:blip r:embed="rId3"/>
          <a:stretch/>
        </p:blipFill>
        <p:spPr>
          <a:xfrm>
            <a:off x="6883560" y="4419720"/>
            <a:ext cx="1282680" cy="10508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3" idx="4"/>
            <a:endCxn id="108" idx="1"/>
          </p:cNvCxnSpPr>
          <p:nvPr/>
        </p:nvCxnSpPr>
        <p:spPr>
          <a:xfrm flipV="1">
            <a:off x="6409800" y="2639520"/>
            <a:ext cx="499320" cy="244800"/>
          </a:xfrm>
          <a:prstGeom prst="bentConnector3">
            <a:avLst>
              <a:gd name="adj1" fmla="val 6428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12" idx="5"/>
            <a:endCxn id="110" idx="1"/>
          </p:cNvCxnSpPr>
          <p:nvPr/>
        </p:nvCxnSpPr>
        <p:spPr>
          <a:xfrm>
            <a:off x="6489360" y="3451320"/>
            <a:ext cx="506880" cy="255960"/>
          </a:xfrm>
          <a:prstGeom prst="bentConnector3">
            <a:avLst>
              <a:gd name="adj1" fmla="val 4982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09" idx="1"/>
          </p:cNvCxnSpPr>
          <p:nvPr/>
        </p:nvCxnSpPr>
        <p:spPr>
          <a:xfrm flipV="1">
            <a:off x="6515280" y="3712680"/>
            <a:ext cx="444960" cy="502560"/>
          </a:xfrm>
          <a:prstGeom prst="bentConnector3">
            <a:avLst>
              <a:gd name="adj1" fmla="val 5246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9" idx="1"/>
            <a:endCxn id="115" idx="4"/>
          </p:cNvCxnSpPr>
          <p:nvPr/>
        </p:nvCxnSpPr>
        <p:spPr>
          <a:xfrm flipV="1" rot="10800000">
            <a:off x="6371640" y="4944600"/>
            <a:ext cx="511920" cy="162720"/>
          </a:xfrm>
          <a:prstGeom prst="bentConnector3">
            <a:avLst>
              <a:gd name="adj1" fmla="val 35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238F-F75B-4C7F-82BE-D0A7094F292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39961-E80F-4BA8-9A8A-94488F09970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5480" y="2424240"/>
            <a:ext cx="2828880" cy="28159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6680" y="3147840"/>
            <a:ext cx="152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2040" y="412920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5720" y="3575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7800" y="545292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049400" y="3879360"/>
            <a:ext cx="254952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10B4-0C81-4DAD-98C0-F1C97BC0A69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9CD602-55D3-4201-AE3F-A70C9DE0D80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Office</cp:lastModifiedBy>
  <dcterms:modified xsi:type="dcterms:W3CDTF">1999-04-02T03:28:43Z</dcterms:modified>
  <cp:revision>42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