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98DF-739E-40FD-8C4C-C5B2B6B1A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E4F7-D1E8-44B1-93CD-5406D8F37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8BCD-491B-4AA9-AFD7-C7BC01AD5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223C-A5A7-4A95-9CE8-8C1E705CC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7F34-B931-4ED4-924F-BE3554F44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8D9C-A030-49D6-8FF5-CD9F851A4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993D-615D-408C-8398-080A9BF13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8280-7A61-4E2F-B7EB-A8FDCBE3F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58640" y="20268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87C7-03F4-4FCA-BCC9-766D46F7E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4844-64E6-4B8C-A258-B298CA929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586D-FE93-4BA9-8C9E-531083ED1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6993-FAE0-4EF5-8355-7432DEAAA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190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825B-20AE-4BD9-8B42-AC68C5C380F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2560" cy="158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3333cc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3040"/>
            <a:ext cx="9142560" cy="81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cc9900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294600"/>
            <a:ext cx="2666880" cy="458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934320" y="6246720"/>
            <a:ext cx="190476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91960" y="333360"/>
            <a:ext cx="99072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OMA 2.4 Progress and Pla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tt Haney, Mark Mitchell, James Crotinger, Jeffrey Oldham, and Stephen Sm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22,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s Alamos National Labora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initial performance measurements indic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kernels are currently about 15% slower than C; we understand the reason and believe we can reduce this difference to ze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already generally performs and scales better than POOMA R1 in tests of a simple 2D diffusion kernel. Speed-up can be as much as 50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s ranged from 1-400 process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ch sizes ranged from 40K to 2.5M cells/patch with 1-9 patches per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work to date has emphasized abstractions and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ath to February 2002 Rele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optimiz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d up iterate generation by caching iterates, intersections, and guard cell fills and localizing intersection calcul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iterate scheduling by removing some serialization in guard cell fil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 benefits of consolidating messages and eliminating message cop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optimizing stencils without guard layers and/or implementing “on demand” guard la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ize iterate performance to reduce field abstraction penalty and obtain C perform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compile times by supporting preinstantiation and removing template dependenc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and document prior to rele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multi-block fields (locally structured, but globally unstructure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and implement support for implicit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 unstructured implement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run time and compile time optim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users guide and reference man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comm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 Mitig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2 uses abstraction, encapsulation, flexibility to manage complexity and employs good software engineering. POOMA should be one of multiple approac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is ANSI/ISO standard C++, non-proprietary, and fully open sour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nel and performanc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imation and CodeSourcery are paid to be responsive. Can easily attract and quickly hire high-quality C++ experts for proje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ding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 interested parties can share cost of POOMA develop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lifetim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source projects like POOMA can attract significant community support: community helps ensure contin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OMA: Parallel Object-Oriented Methods and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igh-performance C++ toolkit supporting rapid application development in computational physics areas of interest to the Blanca Proje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-material hydrodynam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tron transpo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en source template libr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run on platforms ranging from PCs to the largest parallel supercomputers in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allow computer science experimentation while maintaining a powerful and stable computational physics AP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82600"/>
            <a:ext cx="9903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ed in late 199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te re-design and re-write of POOMA R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abstr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encapsu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flexible and extensi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software engine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ximately 25 person-years of effort to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MA 2.4 level of effort is 2.25 F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sage by Blanca in early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roject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ish work on a new discrete field abstraction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features to achieve parity with POOMA R1 capabilities and to satisfy Blanca requirement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some non-trivial example/benchmarking code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e run time and compile time performance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technical support to Blanca developer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Continuing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ng code base to production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 POOMA 2.4 at the end of February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w Field Abstr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1791360"/>
            <a:ext cx="49593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ntering&lt;Di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(FaceType, Continuou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up centering po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. . 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eld&lt;Mesh_t, T_t, EngineTag_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numMaterial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yout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124080"/>
            <a:ext cx="2598840" cy="2598480"/>
            <a:chOff x="457200" y="3124080"/>
            <a:chExt cx="2598840" cy="2598480"/>
          </a:xfrm>
        </p:grpSpPr>
        <p:sp>
          <p:nvSpPr>
            <p:cNvPr id="57" name=""/>
            <p:cNvSpPr/>
            <p:nvPr/>
          </p:nvSpPr>
          <p:spPr>
            <a:xfrm>
              <a:off x="509400" y="3171600"/>
              <a:ext cx="2498760" cy="249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8960" y="317160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9040" y="4420800"/>
              <a:ext cx="24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3733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3732120"/>
              <a:ext cx="104760" cy="10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98780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1280" y="4984560"/>
              <a:ext cx="10476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340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160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728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584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3880" y="1609920"/>
            <a:ext cx="294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elds support multi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erials and arbit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/face/edge/vert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erings that may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or discontinuo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C++ Modeling of Computational Physics Abstra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905120"/>
            <a:ext cx="3452760" cy="3504960"/>
            <a:chOff x="228600" y="1905120"/>
            <a:chExt cx="345276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696960" y="1905120"/>
              <a:ext cx="2598120" cy="2597760"/>
              <a:chOff x="696960" y="1905120"/>
              <a:chExt cx="2598120" cy="2597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748800" y="1952640"/>
                <a:ext cx="2498400" cy="2498040"/>
                <a:chOff x="748800" y="1952640"/>
                <a:chExt cx="2498400" cy="2498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48800" y="1952640"/>
                  <a:ext cx="2498400" cy="24980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98360" y="1952640"/>
                  <a:ext cx="0" cy="24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748800" y="3201480"/>
                  <a:ext cx="249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96960" y="25142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91040" y="251244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6960" y="376812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1040" y="376596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43160" y="43988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1000" y="1905120"/>
                <a:ext cx="10368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4398840"/>
                <a:ext cx="10368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4520" y="1905120"/>
                <a:ext cx="10404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937880" y="3146040"/>
              <a:ext cx="108360" cy="108000"/>
              <a:chOff x="1937880" y="3146040"/>
              <a:chExt cx="108360" cy="108000"/>
            </a:xfrm>
          </p:grpSpPr>
          <p:sp>
            <p:nvSpPr>
              <p:cNvPr id="85" name=""/>
              <p:cNvSpPr/>
              <p:nvPr/>
            </p:nvSpPr>
            <p:spPr>
              <a:xfrm flipH="1" flipV="1">
                <a:off x="194184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93788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328400" y="2515320"/>
              <a:ext cx="108000" cy="107280"/>
              <a:chOff x="1328400" y="2515320"/>
              <a:chExt cx="108000" cy="107280"/>
            </a:xfrm>
          </p:grpSpPr>
          <p:sp>
            <p:nvSpPr>
              <p:cNvPr id="88" name=""/>
              <p:cNvSpPr/>
              <p:nvPr/>
            </p:nvSpPr>
            <p:spPr>
              <a:xfrm flipH="1" flipV="1">
                <a:off x="1332720" y="2515320"/>
                <a:ext cx="10368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328400" y="251676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2200" y="3146040"/>
              <a:ext cx="108360" cy="108000"/>
              <a:chOff x="682200" y="3146040"/>
              <a:chExt cx="108360" cy="108000"/>
            </a:xfrm>
          </p:grpSpPr>
          <p:sp>
            <p:nvSpPr>
              <p:cNvPr id="91" name=""/>
              <p:cNvSpPr/>
              <p:nvPr/>
            </p:nvSpPr>
            <p:spPr>
              <a:xfrm flipH="1" flipV="1">
                <a:off x="68616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8220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333000" y="320184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28600" y="3324240"/>
                  <a:ext cx="19044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582560" y="3271680"/>
                  <a:ext cx="27648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57240" y="2681280"/>
                  <a:ext cx="3808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Ñ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6680" y="5029200"/>
                  <a:ext cx="324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ok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Ñ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dia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a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3733920" y="2819520"/>
            <a:ext cx="609480" cy="838080"/>
          </a:xfrm>
          <a:prstGeom prst="rightArrow">
            <a:avLst>
              <a:gd name="adj1" fmla="val 53028"/>
              <a:gd name="adj2" fmla="val 41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334760" y="1753200"/>
            <a:ext cx="456984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K, cellToSpoke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gradP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dianCell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outwardNormals(mesh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e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Accomplish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ed “relations” that codify the notion of independent and dependent fields and perform lazy evaluation of dependent fiel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capability to read and write POOMA R1 “DiscField” files along with new support for sharing files between SGI and Compaq mach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ability to easily export and import Field data to/from Fortran subrout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d source under QMTest automatic testing harness; started regression te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ed Caramana Hydro and Stratigraphic Flow example c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xed a (VERY) few bu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de particles classes compatible with the new multi-material fie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mented POOMA for TAU profiling; started performance measurement and optim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ort for Flexibility and Extens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representa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ck, Compressible-brick, Remote, Multi-patch, Analy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ou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Sparse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# of internal/external guard lay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Non-uniform, Lagrangi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undary Condi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ed as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ant, Reflective, Period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tion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Bi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z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bly out of 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is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threaded (SMA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54410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can extend all of thes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Software Engineer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ANSI/ISO Standard C++; POOMA R1 is n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implemented with better low-level abstractions; thus, it easier and faster to implement complex pieces of the framework, as well as complex user c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has more comments and more error check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OMA R1 versions of these are more complex than the numbers indicate as they involve explicit message pas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658880"/>
          <a:ext cx="8013960" cy="15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8880"/>
                    <a:ext cx="80139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33:36Z</dcterms:created>
  <dc:creator>Scott Haney</dc:creator>
  <dc:description/>
  <dc:language>en-US</dc:language>
  <cp:lastModifiedBy>Scott Haney</cp:lastModifiedBy>
  <cp:lastPrinted>2001-10-19T20:42:01Z</cp:lastPrinted>
  <dcterms:modified xsi:type="dcterms:W3CDTF">2001-10-21T23:02:49Z</dcterms:modified>
  <cp:revision>8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8413099</vt:r8>
  </property>
  <property fmtid="{D5CDD505-2E9C-101B-9397-08002B2CF9AE}" pid="3" name="_AuthorEmail">
    <vt:lpwstr>gregw@whitten.net</vt:lpwstr>
  </property>
  <property fmtid="{D5CDD505-2E9C-101B-9397-08002B2CF9AE}" pid="4" name="_AuthorEmailDisplayName">
    <vt:lpwstr>Gregory Whitten</vt:lpwstr>
  </property>
  <property fmtid="{D5CDD505-2E9C-101B-9397-08002B2CF9AE}" pid="5" name="_EmailSubject">
    <vt:lpwstr>LithTech Presentation</vt:lpwstr>
  </property>
</Properties>
</file>