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22010"/>
        <c:axId val="21614482"/>
      </c:barChart>
      <c:catAx>
        <c:axId val="65922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14482"/>
        <c:crosses val="autoZero"/>
        <c:auto val="1"/>
        <c:lblAlgn val="ctr"/>
        <c:lblOffset val="100"/>
        <c:noMultiLvlLbl val="0"/>
      </c:catAx>
      <c:valAx>
        <c:axId val="216144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2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F5F-5FA1-47CD-87A6-B235A20C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1B3-7580-4F73-82A3-1E7FE495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61A-3722-45BD-AD31-EA62637D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7B74-39AD-4B97-B254-3FF3F6B8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189-41B4-401A-824B-B8A9792C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608-438C-457E-92DC-B8172143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653-488C-4D1A-993B-DA3E6A5D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C69-FD12-4631-8989-E388A6FB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26F-F1BD-4386-B583-F9525137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D3C-27B7-410B-A5CE-E45BDD4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E44-ED27-4786-8875-DBDA1032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E49-2234-412A-A52B-1DE17948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B548D-87FB-417D-A692-942F98E056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