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B47-47F4-4A41-812E-08132031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A8A-84EB-4D22-9974-401A5DE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7E40A-FBB7-4C3B-9AB1-95EBFB3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DD69-E610-458A-A576-9EC0D03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5D9AF-F5F6-4149-B15A-3DE858E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41851-6104-418F-A495-AB9B4587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824AD-4132-4611-B9A9-DD36D88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CA0C5-FB9A-46AB-A5DD-862BEDA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AD6B-28DA-4D76-AB72-3BC4F058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75F35-2CAC-4982-9B56-89F5BFB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DA6D2-BD46-464D-8356-714A61C1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645436-A8DE-47BA-A493-540D1D7F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C6B-7460-46E2-A9B6-74FC583E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D61FB-1FE7-453E-B875-AFC7ED7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EA2C50-EA85-4CC8-A852-04E55C23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84EB87-9903-43D0-8845-1DC82BA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EF309-17DB-4725-B260-16A4C4C2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F4F599-1F69-4FEA-AEB7-AA31357F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438BE-333F-4E80-8A03-CD6F7BA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189F8D-5C73-4216-980D-3ADED162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9849C1-1C9F-4B42-B08D-92F2861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C64D2-932E-458C-A85C-7D92490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89F4D-FA15-436A-B34E-4F21C20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4F0-10AA-40A0-AC87-5FC1E6C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DEE3B6-DFAE-4228-8D7F-333BFEC0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17D7-7654-45E1-82F4-61ACFF9E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818A-E374-4A07-BD41-18965B5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537B3-CD57-4BFB-96A5-2019EE36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BC14-9241-40B3-A228-3DC07FB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E9D5-CE59-4DC8-AD46-0CF6673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3A7BC-DD8F-4DA5-8AB5-4A74BA0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E4560-D937-4B8C-8106-073B014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6DE5E-6F67-4B98-B9B4-8106746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B7EA3-762D-4414-9E81-AA2BED0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AE2-E06B-4A42-AFEF-11376921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28CA-0B2A-455E-AD69-0910290A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E5F7-A7F6-4109-8145-05EDEBD5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BA506-14BE-4379-85F9-B6BE99F5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BFFFB-B155-4B89-9A0E-A3AC404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D985C-E077-4386-97DC-03D4EDB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A7283-2C2C-4B26-9260-C7B53EA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645D8-2511-40AB-912F-6B2F884B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96100-8E1A-425B-A2B5-7A891C4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9E5D2-D13C-42CB-82EE-304B6B6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8146A-7B81-45D9-91C2-BE01D685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B352-F1B7-4883-87C4-F0C04E6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9AFC1-C649-4F25-9573-6BA99D7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21D85-146C-451F-93C2-F8CFB6D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B38A-0E53-4EB4-A5AE-1693F045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EF9A-882E-4B55-8B64-DE4F5E09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B4C99-68D6-4BDE-922B-083034F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9CB-417B-42C1-8E8F-14D9BBAF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2085-BB18-4FB4-974D-324586E1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3FED-2A2A-4096-B31F-535F2BBA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5B0E-4B78-47CC-BBF1-355169C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8D7-E825-4539-AA48-3BFFE84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65C-04F9-449F-B026-63BAEBCE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BB6-4AF4-4AB7-9D99-FB39545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33F-6904-4924-84F3-58327B7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21FA-0DBF-44DC-B264-9AB7E93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E9E9-A116-4897-8C91-D2396F0B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07EF-5267-4A50-A42F-4BC3F682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E3E1-7CD5-44CA-A635-7DB237F7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9D91-F77A-4DD2-896B-5E0BBD8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D040-1D92-422B-AB98-74F8733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CD69-70B4-403C-8B1A-5CCC277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57C6-5303-4650-B738-FCADE5A0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CD5-7C36-42AA-B92B-D08E7BE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9FAB-86B7-4F6A-80DC-13F200A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F85A-879E-4C10-A83B-19AC350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092C-D277-4D09-8C1B-42048AF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1715-2739-4EBF-8357-8768CAF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91A7-69B6-4E80-A488-C3C96A7A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49FE-909A-4FDF-B4AA-7378EBEE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9DDD-F6A9-4885-963F-44D7B7F0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8CE6-DD17-47BC-A2DA-1D438207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4502-7681-4FA4-8F7C-A847FF6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5BAA-78F3-4631-BD45-B673239B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A17-DC2C-4116-BD70-1798226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5A07-17FD-4B2D-B79C-F6452502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0838-F861-4048-9137-FEE764E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C5BF-027A-4870-A01A-EA81AA9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654A-9E61-44EE-9AF9-E6CB1A1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4F50-BB3C-49DD-B322-8789E5D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740C-5BF5-4A6D-BECF-BBCEA80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B1EC-229B-442B-9705-5A0D523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AD2C-2FF8-479F-B2D8-E9320BE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0FAB-E31E-4BDE-A8EC-52B10973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69B72-C260-4F55-B8DD-099D273D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36C-E378-4C0B-8380-DF98329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893DB-97CC-410D-9728-475E595D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C705E-12A1-4288-9B67-5E1E8C5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C1AA4-6778-46B8-A595-B30B89C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E1489-224F-442C-AECF-DD930CE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77CC8-C8BD-4E2F-B5D8-93A1DA6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C73E3-6A9B-4541-8440-FB3B7A7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FC91D-9122-4AE1-A4B1-2F05B1D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210FF-3608-4B68-9781-BB95A1B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92564-0E54-476C-B069-E3C5AC9F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AF000-758D-478D-8782-B4D9ACA6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143-0786-493F-B3FD-715959B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4FC81-A7E9-479F-9386-D88B4238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F8BE-E672-4B45-A04C-9B3481E6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4D08-BD0B-4AC9-8099-6065A0CB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55AA-30C1-4D99-B89A-0C3DABD2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4785-A2FA-4B2E-A7AA-2D99819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1487-20AF-4C6D-8B50-C816B96F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8DDE-CAA5-4EB8-B60E-94EDA5C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9F15-E45C-4844-A710-A28799D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291F-EB15-40B0-97C5-F674DF8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DDAD-E823-4C67-94A7-66DFFEE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1B9-CA16-40DB-83E2-10014C7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5CA4D-FAEA-455F-A544-B39EC72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24F01-5CB8-4F2E-8B8F-DD505B5D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1A7E-0121-48C5-B68F-99AC99CC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D04C-4733-4F76-93B5-ADE08E6A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89BE-E899-4F86-80E0-46D5757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1784-9E39-4FB6-881D-DDB93FB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FF86-97D5-464A-A0C0-0363FA3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69FBC-5E3D-4FF9-8AA4-8A80854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C0E7-F79F-4B64-80E6-785B134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FB94-8E50-46EA-BA37-F9FC355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411-4B8A-4A26-BC15-C9BA8A6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236C-B021-4DA0-8C5F-8F89212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9B15-72D7-417E-9828-CB2F5CB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1B3D0-705D-44EE-87D8-9541071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FB7A-83B4-4723-8958-7F16120D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E6D37-81ED-4F3F-A86A-38282222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15A09-3A1F-4282-89EC-E30B876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A6AB-46D5-4B72-A44F-C9F0C52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5D48-73E8-4479-8D4D-979514A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1884D-9731-4944-89BB-FEBC197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B7FD4-91DD-4C11-8475-E40145A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0EB-3EFE-40A0-89A8-5FD4E95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E12E0-5328-4D3F-B4A4-49DDC15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A7B7E-5B7B-4C19-A3F8-60C6EAB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1649C-AB74-4FF0-A6EE-0DA324B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8527-2565-4479-BD8A-0F6F5C6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55C14-5177-4C8F-B71D-AF87237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7177-8856-4D83-9E20-5438F5A0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826C-3434-44CC-96C8-66C451D6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D547F-6C8A-47A3-8D35-A80E250A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2FF1-D097-4573-A882-57BF58D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3AD46-A31A-4ECF-AA12-E934034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018-71BC-47E7-B858-41F15B575C3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CA0-4AC7-4BFD-BE68-6951EEB5DD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31D-D66B-4A8B-B6DB-5017217AF3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227C-B496-41C6-8B4C-5C7F273B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30C-7F19-49A4-BD37-08108FE1168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2E4-FB30-4B2A-947C-B60A62141B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025-D481-4EB1-9A94-6253D1C24D3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F99-D667-43F4-B5B4-31B1B0066D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6EA-C601-437C-8EE8-F7B5A1770E7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C23-81E3-4A1A-B40A-93715AC5C5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6C78-5D9F-4461-A2C5-47A5BCD7B5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4ED-547A-4395-8FDE-DA37C337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AD1-4A4F-42C0-B69B-45F5443ABA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722-890A-4FEB-AA63-A2F38105C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357-C208-4AF1-9B71-AF0121B5DA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2D76-838B-4512-822E-FDF4E818C3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899-862E-4027-B177-82A90C52C14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D10-17E1-49FE-BC48-BF0A4CCA34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B30-8B3E-4A4C-8415-91B2AD25B0D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D7B-2620-4A76-875F-0B4873CDAC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A32-F262-42A4-8CC9-C14CD0DAB98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066E-A7E2-4C3A-B8D9-D9E86CA1D4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5EB-1CAF-4063-8F57-DDD6811283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7C4-4F5E-403F-8921-5B1BC8C6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2DC-96D2-4D51-9B09-5246ED60ED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FDD30-A550-4037-B5C7-A069387C4F4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7C24E-D555-4343-A526-11543ADAD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73B69C9-CAE2-406A-A302-33567EEE17F8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53C6-CB76-4A4F-BCDB-E84AABD8E3CF}" type="slidenum">
              <a:t>3</a:t>
            </a:fld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49FBC-B754-4F86-973C-ED59138DC93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A3E33F7-00CC-492C-B210-E8B95395788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B32BD-20B3-49D1-AB49-BA102512E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45B6C12-DCBF-4433-A74B-3FD0AF47AA3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92C10-9E96-49BB-B779-379BC0CC18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E906E0C-4647-48D2-A8EE-8C31C332C46E}" type="datetime1">
              <a:rPr lang="en-US"/>
              <a:t>07/31/26</a:t>
            </a:fld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