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3958-26A2-4FB1-93B7-6C6FDFCF5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CF55-6C4E-413D-993D-17AFEC008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B40AA5-ED8E-4280-9AC4-8209E391A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2881CA-2F17-4039-B780-1EE239F0F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8E8191-C096-4AA2-8AC5-3A30A1B5D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AD6F43-868F-4F71-BB6E-D0B86205D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81995E-7DC2-43CB-985B-44361E846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57E87D-C150-4454-A7BF-03B1DD1B1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9C7536-D24D-430F-93B2-A98A4609B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14A0A8-DF47-4151-9C1A-88134F968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CC013B-0D01-4132-AA49-1D3E6079E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E78928F-CD1D-494D-AD9E-236DEAC03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1331-901D-45D8-9AAD-8C15AB45F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B6CBBFD-5CA8-4B94-BD02-6E36E8973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A3684A4-3A40-4E3A-A550-BE685CDF0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E354329-76FD-4EF1-9332-BC2565D97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BDA83DF-CE37-465F-A205-BD6C02A75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FCB940D-95E3-49AD-9293-D4C6E8497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6FBBD6C-FBAD-4165-A6A5-8E0D8FB86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AEE369F-3A5A-4059-964E-19C56409C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D139FCD-C98C-493D-9944-6F7DCEC1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E128CAE-0A88-4367-95EF-0A5443923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FBD3A58-5038-4E82-9E22-9C7744FFF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A868-7737-42C7-9EC0-FE836ABEF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FBA3A7D-0B30-4AA6-85CA-2A25C5AE6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7FF884-FCB1-4157-A27D-F538E3466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0D43A2-B6A5-40A4-8CD4-35871B946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6883FD-D994-408F-9BD4-304529F59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FD356B-9DF8-4D61-ABAF-278D6FCC2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BCD567-C222-4392-AA14-B82840C51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581126-5524-4760-87D3-543B62C17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D7D8E7-90F3-4A39-8AF9-8541A7DE9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E2E6D4-7AE6-496A-9245-6DEE7F0E9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7683C4-A2DA-4115-AE25-8112C7B7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BA343-C1F0-4992-8341-2B8DCDBDD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AB18F0-6E69-40C5-AE1B-1962F9E16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8B3BF8-ACA2-4F2F-90EE-D3269030A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4132CD-33BC-4027-8FF9-46A76B2B8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A2481F-6100-4195-85C2-274E08E87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F41BC8-C7E1-4328-817B-D221392C7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5CBC4E-BA06-42C8-9C73-469375B1E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CA10D8-3011-4043-B053-BB65B2CCF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502BB6-D4BA-4A4F-8976-A6172EDFC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E27B7F-D53E-4FB7-8EE1-CA0C49EAD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3E9D60-05BE-4AA0-B6B3-0F49DD009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44316-B056-4355-ADAF-E1813A45F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CA198C-7784-4E10-A257-80631B6B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B5178B-80F4-4805-997F-7FCF91A8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71EA9C-27C3-4562-A6FD-C514C2127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CACBF6-37A3-4F9F-AEEE-7ECA0CE4B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0E4E83-F270-4E0B-BA10-6524D7697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3712C-AD52-41BA-AA5D-0BB65C78C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D62F0-DD76-4D23-9D19-A803AB99D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5E979-91E9-458F-AB0B-9754483D0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93745-253D-4DB1-A0DF-625C436CA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E190E-0C09-44F6-9ED4-631E76E6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7D29-1C0C-4759-9C41-A3C134A6E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75CFE-A82A-43D0-AACB-ADF3B870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E6C79-FEA8-4329-B26B-AD11AAD3C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36772-1D43-479A-97B7-71C6C1B20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73487-BB57-4657-951E-242AEF135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78205-5E97-434B-B109-4957DEE7C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C2ADF-AFDB-4E8F-821E-3FA9C4A37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A3C36-AD96-44B1-AF85-0235BB9E0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2EC73-2D31-447B-8149-5E19D0382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EE5A1-F724-4B61-BB41-1AAA90301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9D02B-7CC1-4000-9C1A-EB5EE3EAD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6FC3-7B05-47E3-9CC2-8B5FC81FC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6AE83-9191-42A4-97A4-C8EC897A1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86070-6735-4E28-98E8-0B0E674D5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8F4C8-7D93-4E7B-BC81-F80906D00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657E3-009F-4DB0-917D-2F628B1EA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87C58-AF5B-4D4E-A52D-69556C6AE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F4A6F-D1C8-4995-A31A-88C0CA937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E204B-0A86-41EE-A294-9DB6D2171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C81CB-4618-4E4C-94F4-59C81332F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AA3D1-C8E2-4070-ABFB-0BCBC4F60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D23A5-EBC6-48BF-8318-48BB3F04B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6A63-E247-4276-9E79-906AE87F0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845C1-A4BB-4BC2-A297-0680221E0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03DDF-FC67-407E-813A-C8E273E44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3C4C9-38E6-40CB-8283-684FDFBFF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A7C93-48A4-436A-A986-6F684CB4F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3C291-14C5-4BA0-BC56-B12C7786B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4A98F-6D7A-4E7E-B10F-4F8374FF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29F43-B5D2-4DA4-9416-51F3B76B0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30DF0-D062-48EE-BD1A-E407707F5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C3714-2508-41C8-B518-77821390A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D61613-5BE3-4525-9EE4-0D239045A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F3DB-F51C-4D09-9902-15D2E35B7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B990A4-6FBB-4695-8178-66AA70728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082631-F63F-4F30-BC86-AAE604BBC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C2CB0B-C736-4172-9BF1-C9FD95DA6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388407-AB0B-4E35-BF25-C112A5894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9F534E-081C-49FD-AB6C-5A9E8B527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FB3F89-38E5-43C6-A6A3-5B12D7007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9D0A08-7F19-47D4-9AF8-C1EAEEA1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3F94F9-9D5B-41CA-8A8D-7232CDD5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3B854D-25EA-414C-81D8-9EFDFEDF0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C083D8-6106-467F-BF42-97054E022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097D-CF78-44DF-87AB-C9F91604B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5EA885-9E4E-4E73-BAEF-69AC5C374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60C352-5C72-4220-AC90-9E9F293F9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BD4AA-23F4-409A-817F-84860D52E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8D9BB6-7FFD-4948-ADB0-864C4A902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157EEA-B075-4F28-9341-996C44E67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9C7023-C228-41EB-A752-D6C140350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7B6F09-1229-4532-896B-24AF81690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EA8839-3A91-40DC-8EB0-69E054287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755AA6-ED7C-4EC0-B38B-B8034B96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880757-AF21-43DA-9C54-A3A46C347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1835-5CD3-4EBC-8C03-20D0B91C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4A366C-A8F4-47EE-93A4-9FC5B9D38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14FE31-827F-4CDA-A629-154A0E1AB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043954-75B6-4D4E-8DB8-554FCD289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461CA9-833D-47C6-8920-9C5E24FAA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CDC464-AAE2-4712-A625-4FA849692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E3F250-769A-49D2-8CDA-5F0A59E5C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34FA36-6C65-4315-A37C-F0F748DC0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4E031C-918A-44C7-9758-E4D040C58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917C1D-E3B6-419C-ABD1-AF722C050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ACDF33-71B0-4AE6-93A9-3F879498E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E8BD-1813-4C37-953D-5EC9BE7F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043C43-C0C4-4522-A5CC-D95D40FE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977C9B-46E9-455E-AE0B-B639AE948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6C998A-7A1B-48F7-98F8-97B205EC7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B7A380-D6C7-431E-A13F-E23A9353E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F8C3FE-D06F-4CF7-80E2-05BAAA393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4C9552-D4D0-4951-83D1-37E6866D2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021ACA-9F5A-454A-9A01-A20D8F493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351C8F-B9EF-497E-8187-757458DE8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D86DC7-40F8-4C9B-9AFD-2626EC5BB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885E27-19D7-4C4A-ACC1-D85F921FD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7736-818C-4061-9B69-2A10C9AC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63130C-F66C-43D7-AB49-0541CDA09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DAEE07-5B93-486D-84FF-9471BC964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8449DD-2626-46DB-9C39-896E9A60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4D101D-FC70-41C5-BB96-C75511EB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41181C-A3FD-4442-8DF3-2A8F48085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AD29C0-51A8-46BF-8172-F6FE7F6CB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4F130B-0382-49CD-AEA5-D1A05D4D1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D6A59B-4B2C-4C34-9E76-5FD3D6154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069A05-3132-4CC8-BA0E-DF00AEEB2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8B4454-802C-4DAC-AFFF-2EBC46DAC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1375B-624C-483E-9530-0D30D87CC61D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4276E-9F16-476E-8290-61EF645D8EF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931DE-7032-4028-AEAC-B2388D51D1E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159C4-B489-46A6-B72C-BB9B89E1F3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B38AF-EF2E-4B79-A9E3-10D3E4058659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40015-8FE2-48F6-B502-673CB8AC3D46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40336-A2E7-4FD2-8C08-0F84E2D42D83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9B5AC-7929-459A-814C-E96F90D302B5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AD91F-1290-425F-922B-0EC88A77CE15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42495-88DC-41AA-AE8A-F6B7C2AE656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50295-4078-4F20-9336-FBD3A30DE0E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B45F9-EACB-4C1A-AE31-5C42684FDB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3808C-8B34-4AEE-90F5-095E7810354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F5E1E-A692-4C67-97D4-F64C00AAEE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D5EF7-D227-43E8-8E2F-B08BD33D57F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BD1BE-727A-45DC-85E0-22CE40F40AE9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64BDD-1398-447C-9962-C5E9C3749599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46152-01D7-4E40-B188-CF71FBB9EEF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6C2FE-1770-4D02-B709-4DA594883EEE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EC93E-FFF5-487B-8AF1-22BA56F8714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79613-CDFF-4A76-9E93-7F7D54636A69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0F0FD-CD9C-40D9-BEFE-7467776BA98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6A2BC-2153-444D-B3E0-535A0D1D9FA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58BE2-F492-4D4F-9944-601400C27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14FD-B2B1-4AC1-8A4B-4B2C99A7531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8AF00F-F416-4C62-B2E9-AE8271074747}" type="datetime1">
              <a:rPr lang="en-US"/>
              <a:t>07/31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D11A0B-C047-49E3-94F7-AA86B326BBF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2D935650-C228-44C8-8D65-CB903DFCE48A}" type="datetime1">
              <a:rPr lang="en-US"/>
              <a:t>07/31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" dur="1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4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128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4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CCE20-33CC-4A3E-9560-050C04D98863}" type="slidenum">
              <a:t>3</a:t>
            </a:fld>
          </a:p>
        </p:txBody>
      </p:sp>
    </p:spTree>
  </p:cSld>
  <p:transition>
    <p:comb dir="horz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000"/>
                            </p:stCondLst>
                            <p:childTnLst>
                              <p:par>
                                <p:cTn id="1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435DA8-D2BB-49D2-89BA-8797D1EE659F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8328BA05-9A81-4C11-BD7A-C29CB7018DAA}" type="datetime1">
              <a:rPr lang="en-US"/>
              <a:t>07/31/26</a:t>
            </a:fld>
          </a:p>
        </p:txBody>
      </p:sp>
    </p:spTree>
  </p:cSld>
  <p:transition>
    <p:wedg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3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4000"/>
                            </p:stCondLst>
                            <p:childTnLst>
                              <p:par>
                                <p:cTn id="2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1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6000"/>
                            </p:stCondLst>
                            <p:childTnLst>
                              <p:par>
                                <p:cTn id="2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8000"/>
                            </p:stCondLst>
                            <p:childTnLst>
                              <p:par>
                                <p:cTn id="2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9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1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5DD5AC-5B9E-4B23-9C69-D851390F9C8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EBBBE83B-9A8D-407A-97FE-2261659BC86D}" type="datetime1">
              <a:rPr lang="en-US"/>
              <a:t>07/31/26</a:t>
            </a:fld>
          </a:p>
        </p:txBody>
      </p:sp>
    </p:spTree>
  </p:cSld>
  <p:transition>
    <p:wipe dir="d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3000"/>
                            </p:stCondLst>
                            <p:childTnLst>
                              <p:par>
                                <p:cTn id="27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4000"/>
                            </p:stCondLst>
                            <p:childTnLst>
                              <p:par>
                                <p:cTn id="2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0"/>
                            </p:stCondLst>
                            <p:childTnLst>
                              <p:par>
                                <p:cTn id="2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6000"/>
                            </p:stCondLst>
                            <p:childTnLst>
                              <p:par>
                                <p:cTn id="29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7000"/>
                            </p:stCondLst>
                            <p:childTnLst>
                              <p:par>
                                <p:cTn id="30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8000"/>
                            </p:stCondLst>
                            <p:childTnLst>
                              <p:par>
                                <p:cTn id="30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9000"/>
                            </p:stCondLst>
                            <p:childTnLst>
                              <p:par>
                                <p:cTn id="3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2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4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7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A2987D-24AE-4D09-A166-AAAE232A5C9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62ED9EE0-FBE7-4DE6-8AE7-B4BDB452A6EC}" type="datetime1">
              <a:rPr lang="en-US"/>
              <a:t>07/31/26</a:t>
            </a:fld>
          </a:p>
        </p:txBody>
      </p: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9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0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8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9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