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D513-D658-45E8-B4D3-12C53BB23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BBC6-BEC9-4E17-8637-73D576A0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AAE22-0583-4054-8614-DEBA21E5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4E4DE-142C-4EC0-A79A-D3A4AE76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7AD2F-689E-487F-B1B2-D71EC9A8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1D19B-7FDD-4F60-814B-6B83D071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FD517-9134-4C81-A87E-549064B9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4CD2D-29BA-420F-B647-503DC610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6E69F-9547-4485-BAEF-F4A634C9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C59BF-49D6-47BC-BF43-AA42D1B16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566D5-2AFA-4428-86A2-7F02E6948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7FDFB5-7510-4E14-97D9-E20AA2419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9CCD-0F8C-42C9-AA88-A5C028451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458708-627B-4735-A87D-B3D461A4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F534C1-95D9-47C0-AA2B-1FE0AA0D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D6413C-F64F-4E81-BDD4-6CE05F6B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84B2FF-CADF-4D8C-A197-636C3C3D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46D3F2-2C6B-4D24-89E8-736AF117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E44612-4A2F-4DD1-97F1-4EC0A342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B3519D-C28E-4523-8BBB-1D72C791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C2CEC3-3C1B-4F1C-A07C-40770316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4D6744-33FE-45D7-A525-074463AB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167ED2-F10E-4C93-8648-CB65E996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39C7-2A73-44CC-A088-685B86B3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6B4302-32D0-4022-821E-96210094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47A43-D5BE-4C00-86F5-CC2A3D427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7D9B0-CA6A-4EC4-9598-4F2CEDC9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8B0B9-561E-4A8B-BC90-BC0D19AF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B9A4F-0D90-499D-9F97-6F5B946C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F313C-C311-404D-8B18-9682AAE9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FFAA5-99A1-41B0-9364-7CB3FF4D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76250-2FE6-4277-A15A-29672016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F7783-3A02-4E22-A18B-BC3546E8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DF182-30FB-4D9C-B120-85D466EB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E80F-6B14-4333-B067-240302F0F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E16C3-4C1A-438B-B1F8-E500B90B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B4050-110D-4040-87BB-110539E0A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8ABB6-C9B2-49A5-8696-0D914D28D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768DFD-3C7F-4A5C-B23B-32729844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1881A3-7BB3-4C8F-89A8-9D2506D6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21ED1-D615-4E77-B290-F0FB5092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D98DFB-B7BD-4125-AACE-FF0CC529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5F9E4-536C-4808-AE61-35B90273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5AD7B-A9C8-4092-B7DF-84A9E387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6E5491-DEC3-4F72-8547-BD6EB28A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7670-46E9-4830-B6E5-43336F80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FE3F3C-9BBC-4401-97C4-41922DDB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7C5A1F-B56C-4DC7-BDE7-8739B7EB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E9F38-0673-4294-B802-7D8760D9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81A1C-39C2-49ED-9C50-FD9CBC62A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85AF2-AD23-4E51-AF70-9EE9BA5AC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6447-0F58-41E8-B776-AD6C11E3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D6F6-26C3-4099-9040-7924A076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C7AC-7B6C-441C-B47B-C1D9D7D3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56E5-AF31-442A-861C-BD86FE3D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482F-9702-48FB-9DFE-9E4E22CD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C2A1-6E99-4469-B5A7-9BB6A0B1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3C76-1A85-462A-9E5C-64540005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90B9-44EB-4CFC-BA10-ACD97874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3362-46A2-43C9-BA84-96CB2CFA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5857-2B06-4E7D-B418-FCD56262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5A13-D3E4-4D65-9174-CB49FBF8A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57F32-BEE5-42AB-81F1-0740AFDF7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D8F06-7C54-457D-92EF-878BFA5C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4AE07-5113-4D9E-986C-A4B3D07B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8B011-E369-4D8E-A071-BA746E44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F496F-BAE3-4B06-BE23-E8CC661E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FF72-477C-48F1-A340-EF3A505D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3F7A0-F805-4593-AEE5-4BAE0ABE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565AD-C74E-49C3-BC66-1F8ED1D9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4E4AC-6AB2-4288-998B-A4A78D12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83761-5D91-4CF4-9553-9E25ADCE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05295-1418-423A-BCDC-20F65140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FE815-731E-41AC-B607-4DDD03C8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F1B13-4C75-4730-A3AF-36C2467D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E751C-3A03-47EF-897D-FBB482B73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FD122-7248-4C74-88C9-EA4406A8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74EDC-9802-42DE-B978-C9C6C00E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62AD-92C3-4CF5-AC49-59A5AEC4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C8045-C1F7-475F-8358-C903E33C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21CC4-92EC-480D-9FCF-E1EAE08D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DE57E-3DBE-49AB-8A41-8CE4FC8F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2AA36-988A-4A9B-B4EB-43DA4428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771DB-7A49-440D-9203-FAC4ABF8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2EE66-22C2-47FE-A57D-819071EB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C0756-7453-448B-8BAD-72CAE730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28BA7-C32B-49B8-B725-C55D5837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E2100-B01F-4459-8360-F9F4C2FA0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395B15-DD42-414C-8EF3-41B635958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84EB-5783-4E30-8428-B984D6DA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DB9ABA-896C-4B28-9AFA-B71F2248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5910D4-52D9-40F5-B865-EB78A260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2BC6CC-B1C3-4945-BC78-802955E3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802DAD-2AD2-4940-899F-B34FDE8A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0B93B2-475E-4A14-8572-072A73A7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1D0B5C-2C44-4DBF-9BB5-966D0BD8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0382CB-6B36-4F99-BCD6-965407B2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77D84C-316C-48CA-8CE7-F2E36AD4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C405A2-8E12-4FB4-A054-5DEC32D5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29432D-7C4F-4E09-BC4D-98D741991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9DF4-6714-428B-B19C-48294ACD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B9905E-19A9-4E71-96A7-97D4D52F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A98B4-B528-4E56-9C41-F50EC47E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55442-D544-4F16-BF4A-8CBCB6F7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E2674-BCE8-4CB7-A91D-664493BA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FF0C3-4D12-4DFB-80E2-EB1823BE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D0E57-2A2A-4A35-BC50-54DABEDD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7491F-B13F-4101-B2C8-07A331B8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8571D-7046-4781-9078-65C21006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B9460-D06B-44B2-A049-FD220357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E1B84-3913-4762-8D19-B3746057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E662-9F6A-46FE-A8C0-1F15BDEE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2AA64-3CE2-4F56-B38C-DC086DAA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A16C2-A1F3-45FF-801C-48834D0E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B56CE-B69B-44C6-B64D-63886F78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A2A5B-495B-43B4-A730-B3201B2FB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4B9E4-4BFA-4DAD-92D9-2CF35A04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53307-FBB0-4113-8269-DFA2845E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145B2-1FB7-437F-A1C3-A0D96FC6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E8493-B088-4013-B581-4457F586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69FA0-EB2B-47F4-93F5-98E2A5B5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94295-B44F-4A33-9A2D-930AECA9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687B-4825-485F-B484-2C478948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87136-9635-4091-A593-5C445B34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BEB71-F0CB-449A-B9CE-3C30D8E3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6A7FC-5686-4E05-B48F-4CA83C89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A2B59-584C-477F-B85A-5D281AB7B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74F0F-A10E-4C39-A68D-2BABBFCC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87D0C-631F-4063-9669-FA6FBE86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7B1C8-56F5-466C-BE29-5FDFBE9D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D4CC5-771A-4653-94F3-1E5F64EC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23157-8463-4F12-A2D5-BAAF9F00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832AF-E561-42A6-B73F-2EFA4618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1DA9-95F4-45EF-B5F5-EA4A9AC6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39415-646D-4BFA-B6FC-4BEC7995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24E74-F22E-4746-BB26-6F292CE2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A2B99-655C-478E-8FDE-C270A41C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400D8-B0FB-49CA-AA72-C962B760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C1EF1-3C2C-4B65-948F-F1046EDE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4E654-5E14-46EC-A69B-C9B24A68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13171-C673-4C30-B403-9CA8B3740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E10AC-2181-4A65-97CA-A8FB4A7C2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71639-D4CA-48D7-A7F4-5BD31643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01CFE-683B-4788-AED3-F5EEAA6C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3904-A7B5-4145-BA5F-7D2564635A6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B9A9-5026-4449-9E4C-38CA8EC5BE9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073F-382E-4674-8991-C2BC5AAC06D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2C72-8CD9-473F-AECB-8A55CB50C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D045-3B74-4F2B-99C5-4DBC9783A5B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5017-D5E0-4E12-B59D-49AA245B8FC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E0A7-6FD8-4191-9043-6700555CE795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2499-E537-4897-87F0-3563542D88C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15D5-3F22-4BD4-8C4E-3BE6C72986B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3ABF-6776-4EBE-84BF-6D2A102C304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AB00-530D-400D-95D3-26BFE2CC612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89A5-AFB2-4165-8C83-410D90378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1E54-9F03-49E9-BE46-303C3E32329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216F-21BC-4E98-A471-FDB5D0341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77B4-D90E-4728-90E8-9C6515D615C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181E-2C5C-4E60-822E-1026AEE5DAF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D33C-E4C7-4FAD-9733-26D418FA45F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2306-8DD0-42B0-9721-501865E2756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B719-3F96-4E40-8F37-72538F790BA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96A0-917D-4D6E-BFEC-8D703AD31C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65A3-0212-4B91-A6E8-5256C37F78C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75C4-FDFD-425D-8FFB-BA8657B8577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1AF0-C616-40AD-B205-52CE423027D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5554-0851-49A1-8A67-641AECD26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46B7-1CAA-4836-9EC4-C730426BEEC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493A4C-873F-4D73-9B41-B4DD0B6B5089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2FE28-3DE6-48D5-99E0-795F36E967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A6DF5C32-0D98-49E2-B8E5-E8DD39D3327A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15" dur="1230" fill="hold"/>
                                        <p:tgtEl>
                                          <p:spTgt spid="1197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16" dur="123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1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18" dur="123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1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B8FBC-EFA1-4974-BA91-DE4C465B83A9}" type="slidenum">
              <a:t>3</a:t>
            </a:fld>
          </a:p>
        </p:txBody>
      </p:sp>
    </p:spTree>
  </p:cSld>
  <p:transition>
    <p:comb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3F30E3-D8EF-4611-811C-A1FEDF8C138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9933B5C2-923C-4A32-8521-DB9CF660AA57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E4034-8AC3-40D7-AA03-AECB4FFB4D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F7790F10-B24C-4F9F-B9BD-D14FFA1D84B9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000"/>
                            </p:stCondLst>
                            <p:childTnLst>
                              <p:par>
                                <p:cTn id="3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22BB2-F762-4C70-B4BF-CE57518E90F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EA1DCF29-BC29-41DD-8F7E-681F9E0352F0}" type="datetime1">
              <a:rPr lang="en-US"/>
              <a:t>07/29/26</a:t>
            </a:fld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