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22F27-0A43-494B-93F4-5EB8593C2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91E8F-85E9-4DC5-8E8F-66DED1286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69E80-2111-49C4-AD12-84F1D80F6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AB8A7-E344-4F0C-8D8A-9EC21C7C8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7502D-F396-4275-9A3A-16B451D86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753E0-823E-4A9A-8CF9-921843040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BA52E-378E-4F45-B5FA-B1FF7B095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98B89-96F0-481C-B66B-05890DE3E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E4584-9C60-42B6-AB38-8625986FC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20298-7527-4C53-886E-07A2F651D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0CEBA-5715-4967-AA0E-3B34291F7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34B8A-13B6-4461-9B01-35B6DAE98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B6A98-A604-46F7-BCD7-3DA465415462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flowChartPrepa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p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flowChartManualIn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flowChartManualOpe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flowChartOffpage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ff-page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flowChartPunchedCar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lowChartPunched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unched 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umming J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flowChar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flowChartCollat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l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Alternat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flowChartSor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flowChartExtra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Ex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flowChartMer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e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tore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prstGeom prst="flowChartMagnetic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equential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gnetic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rect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defined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flowChartInternal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Internal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ulti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Termin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03:09Z</dcterms:created>
  <dc:creator>tb121644</dc:creator>
  <dc:description/>
  <dc:language>en-US</dc:language>
  <cp:lastModifiedBy>tb121644</cp:lastModifiedBy>
  <dcterms:modified xsi:type="dcterms:W3CDTF">2005-05-25T11:15:34Z</dcterms:modified>
  <cp:revision>2</cp:revision>
  <dc:subject/>
  <dc:title>Slide 1</dc:title>
</cp:coreProperties>
</file>