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6B9A-6065-43DD-97BB-5A0822234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DFEC-54CA-485B-AE12-26155CB6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3B480-C646-46EA-95B4-51BD0785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2315B-C398-4CF7-9987-76392EB8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9B413-9A17-4BA5-9FBA-AA844853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2F64E-FEF1-4DD4-9F02-58C72CAE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F9BC8-291C-4E2F-BED9-663A9D7C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B5DAA3-FE59-41DD-BD19-EB09BAB5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68CC2-FC6C-46E2-96EB-E6992AF3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BCF49-479F-4498-AD81-D700196A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98E33-EB22-428E-9B2E-C1EF1BDD0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98FCE2-1777-4A99-9287-226070A2C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E3C4-8A27-436D-A54A-02794C23B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6FEDDB-018A-44D8-8BBF-19E7593D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A6D510-6B60-4652-9E7F-C37F727C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C54335-CAC7-484B-B585-6E2C172D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CE73E3-CA4C-4223-B57F-44E0B995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36D2F0-4E19-4589-A2AB-C540A3AC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F7088F-7DF8-47D8-A36C-29598314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FB61E5-E0AF-4FA9-8964-D9F16D8E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10F927-6346-42BA-9C07-6411A52B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E9675D-4BD6-4394-9B21-70B86FFB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B3ADFA-386D-4C8D-B986-0DD0AC848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C5D0-0B5B-457C-A44D-C17EBE49B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A071C2-5CFE-4EFD-89D4-A2577B7DE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9C4CE-33B1-4B2E-895F-91A676024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30F45-6891-4F56-B494-F9049151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97549-93E6-42AF-B6FB-480C12F9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82922-3D51-432C-B200-F47A0AF2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EFBFF-0432-4C9D-8A54-D51FC302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F61F3-4DCD-4D63-905C-D9E8E34E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0AD75-F1A6-481B-885C-40F3F7E8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D3A98-97F1-4441-B7A8-18064346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5ADA5-E756-4CC8-8563-5343C315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BA18-AA05-43E1-AC4A-6089E31B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B7B39-5423-4D10-9FFB-E4E1373E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97899-9095-448E-881A-418CFFAB4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75FD7-7834-4286-A268-1711D964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0BD326-E884-4DBD-9777-E5DAD82F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F65DEA-CF1F-425F-8426-354434FE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62EC19-C5DE-424D-80BB-C97B5487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CD853B-3810-423B-8CCC-357C4218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56FF23-3790-467C-A6B3-5FB3BF65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5D43CA-F80B-44C9-A0DD-C121E69F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194957-8536-4B2D-BB71-B23C4E83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8E1E-6D2E-47B6-B763-C0072D81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BA2635-03D6-430E-B49A-37FBEE21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8F3DBC-9AA9-49D6-A909-23A2033C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D1E708-7196-4A2C-8047-BAC8A754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B4A102-2E84-4626-8796-6E675D128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E7956-02F5-4085-8A44-F65F276A2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C7F7-6AF7-4E96-AF86-7EAE6327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2381-8E49-49B2-A991-84F9FE0E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0BEA-8666-4D6D-8BDA-CE906ED9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AF72-01B2-4286-AE73-443AE506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9953-19AE-49A7-A41C-FBA85B00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A79A-F2DF-43ED-B7FA-71953CA8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DBAD-F650-4624-A4EE-6E585B1B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2CB1-5564-4A08-8CA9-1FFF668B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0B55-F507-4D23-BC8A-45488154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F727-E6B1-4D63-9A29-60E5779D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3FBE-3A4C-48E8-BBD3-5FA812786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E4217-9211-4EE9-992E-9FBC1D6B8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C749F-7B50-4D05-91FB-F44ECA90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30C22-E225-48AC-97BF-EE1AF381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E4F17-17DF-4245-A723-E62C13AA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28587-EE23-4158-A25D-C137B38F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5EE2-305A-4314-B4B3-BBD8C87A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EEBAE-7343-47D6-8513-516089EA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F87BD-9DC3-4EC8-AEB3-29CC3567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899D1-55BE-4334-AD4B-A45165BA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D91EA-3FE9-4BA4-BA67-5660C9ED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6D995-353D-4320-ACAA-FC2487C5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6EFE6-D80F-49CC-9848-188C8ADEE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02423-BC89-4480-A79E-004C65DED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D7891-09BC-4521-BC7B-05C16B5F1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CC8BB-77F7-4CA8-AA8E-B040496F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0A158-9D97-4D44-A502-44BCC327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3303-8482-433E-80B3-818B4337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44329-D783-4E25-9046-DAB64DFA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5A8E6-5B6A-4BE9-BBEC-EC2939A1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361E1-6274-4578-8BAE-173B2DE0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BF551-C379-4473-8D39-987EEB4A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D8CE5-BB47-4B94-A918-2BF51B95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C7E30-11FD-44F7-9A4B-786D7367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9D3C7-272C-4173-9521-85E84466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A065A-7DA1-47C3-9082-498AED4F1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DD15D-DA30-4206-9E77-6B4FA4ABF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7982E6-E9D8-4D6D-AB6D-82380D78B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2E4B-E2C6-4277-AC99-A55C416D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053656-2F3E-4827-A4EE-FC9C8441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261286-02EB-4868-808E-D8230146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5110AD-2A24-496B-9A6B-04BE1F5F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E60F22-1A87-42D7-A39D-BFF79102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7A53FA-D73A-4B27-9D99-E327B718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B74F5A-100F-4576-A478-1E964ECB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A518C9-5F25-412E-8B22-93CD2918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6E864B-1CA6-4FA3-8887-F9C9922C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1C0A0B-A173-4DCB-B21A-F3DAFFDA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522431-4C54-4A9B-AC27-49B6BF2B4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9A98-1233-415B-AC94-EF5BCEB0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C46C6E-6B27-4B78-89FD-60EA07B9D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E051F-E30D-4DAD-9E82-49F5EEE1F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55137-DB66-4F24-B32C-496432AA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D548C-4F43-49EF-9CEB-966E5C77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9A327-CC0B-4788-AC30-E82FE8B3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A5284-EB1C-4759-8558-2DABF28F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E6FA8-B5E0-4F46-B22C-98C39B26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74E86-A71A-442E-A878-0CC66DEA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B30B8-2418-4F76-9C2E-DC03501B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2DBEA-1F3D-42DF-ADC9-3527C09D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8006-9B2C-44E0-A00D-A90BAB03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805CF-65F9-4939-8BB9-3FEF843A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84C1F-9F8D-433C-A227-0250C2516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3A34E-3097-4ED0-BE36-17BB61BE0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3842C-E85F-47BF-A851-BD345EAB0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10F67-B89E-4E97-B150-AA938347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AF110-7EB3-495F-A7EF-29009062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C4DEC-DD4B-4EC9-8F16-AB871A2C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984AA-7988-4043-BCA7-9EB76C64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01A38-3A80-413E-B409-C91A5575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41199-8B37-4325-AD3F-543C2B60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65DA-AF5C-4909-A513-F48DDF76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3168F-7718-4B4A-AD20-05D93C50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9CC52-8BBD-44D0-AF73-F38E05CA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44619-ADF8-43E6-ABED-5CD16B17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2E495-F404-4E18-A07C-6F7F1A30A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AD539-E539-4525-BB02-F4C7B540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EF296-E3BC-44DD-B3BD-C2F7E621D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E1A97-0884-4A35-9B59-FAECC268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DA053-03AC-4338-8A56-501D6DA9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3784E-4AA3-4BB4-A207-9F112A42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BC1EF-F106-4E36-8951-55022B4E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4A5E-BEC9-4226-B848-ABCF20F0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2AABA-541C-46BF-B00B-C025DD5C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E7F33-A129-42CB-8D89-DFCC1531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CC44B-7B15-41C0-A1CF-E1EE4A93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621BB-2E93-4AC9-84F2-5F06DCED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8958E-1AA5-4965-BF4A-96588B41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80948-1DFC-43BD-8EA9-39DFE8A42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D252C-B50D-4F6B-9708-DCDD4661A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6D87D-48A4-4574-AEFB-8EE6887B8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33BBC-96C9-4DBB-B301-74BB428F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9F6AE-CA40-4FEF-8DF9-7C0CE652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0739-3980-4823-ADFE-DAB517F8CF6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BBC0-322D-4F37-B863-24805B92FA1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928C-7FA9-4E49-8C6A-72C28F859DC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1F06-8D48-4C79-9DF6-0EDDB6EA3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71F8-7A29-465C-8EF4-0402E8D50326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A521-2B23-4BE2-8889-22C246E7200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CBDE-6697-4AF8-BCF3-A48EF294F683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2928-FB61-4923-A176-CFEBD70E1DF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17B7-3742-4562-9CE4-709AE43C579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F1C6-BF23-41A5-8085-7739C4F2AD6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EEBB-4767-4F47-BA9C-BC742E4903F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52D4-62BB-4164-B1D2-B24DEA939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ED58-23E5-4A2D-894D-2C6272E94F9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7F5F-FCBE-4D3A-8E3B-9BF26B4B0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ADC9-4E8B-439A-9EEB-AFFDF55F66A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5414-D23F-4C34-A18B-46754F9F8177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2044-9E8E-4758-9D36-18388B4DD41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3045-9A6C-4B0D-B5DF-2D426DB5401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B219-14B4-4C2D-970E-C735567A7555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A83F-49A6-49D5-A4C6-3A40D767B8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6CA1-8981-4E6A-83B6-ECCB3B4D0CB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DAA7-F66E-41B4-AA61-76B9A56336D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5E4C-B227-41CA-9681-F9D69F690C5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E819-FFAE-49DC-BEA9-EC469F39E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36E8-6E8E-4915-840A-A5205E3F075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4139A8-4043-41D4-8E2F-8EE97BC3CEC1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26C02-A28A-431A-8360-58CAA1C7BA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1340C913-F5EB-48F5-A540-F91F97857490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4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13F6D-DB5B-404A-B8A0-8DEE0AE3451A}" type="slidenum">
              <a:t>3</a:t>
            </a:fld>
          </a:p>
        </p:txBody>
      </p:sp>
    </p:spTree>
  </p:cSld>
  <p:transition>
    <p:comb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629272-6D6A-4243-BE37-C5754EFFF9F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FB53E6D2-5ACF-4587-85C1-A2CC01AEE285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8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4B428-E89A-4306-8378-96FAE54BD6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85622A30-0FDC-4567-87A2-D9E902BBB0BC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0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9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55E82-1265-4339-8D67-774D76F9714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C6980C4C-E50F-4654-9402-86A0D05BC7D9}" type="datetime1">
              <a:rPr lang="en-US"/>
              <a:t>07/29/26</a:t>
            </a:fld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