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843300"/>
        <c:axId val="8244185"/>
      </c:barChart>
      <c:catAx>
        <c:axId val="228433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4185"/>
        <c:crosses val="autoZero"/>
        <c:auto val="1"/>
        <c:lblAlgn val="ctr"/>
        <c:lblOffset val="100"/>
        <c:noMultiLvlLbl val="0"/>
      </c:catAx>
      <c:valAx>
        <c:axId val="82441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433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C0B9-E779-41EC-B75E-7F6269F60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A021-057C-4E5A-BED8-F8B15E00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1469-AD74-4EF0-972B-3BEC311EB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2533-8284-4818-A828-323CFB0D9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CCFA-B9D0-4FC8-B70F-6589167A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170D-BB9A-43C7-8002-46C0A158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6ABF-BB8E-4999-BD1B-C69DC899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8725-EEF1-4858-A1C4-84BBAE71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1A58-97FB-43C7-9A7D-C3A9DDD2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F114-3640-41AB-B296-1C661D24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6193-C852-4401-B488-5043D7EE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1CD3-BAD6-45DB-8E77-A1D47790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2D163-C33C-4E34-8F33-D76B1C86AB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