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459591"/>
        <c:axId val="66739543"/>
      </c:barChart>
      <c:catAx>
        <c:axId val="474595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39543"/>
        <c:crosses val="autoZero"/>
        <c:auto val="1"/>
        <c:lblAlgn val="ctr"/>
        <c:lblOffset val="100"/>
        <c:noMultiLvlLbl val="0"/>
      </c:catAx>
      <c:valAx>
        <c:axId val="667395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595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4394-510E-47AA-99C3-CE7A9F51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F29C-E46E-4799-B0DA-AF0E858B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2F3E-8C26-4C09-AF5F-DEC26827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9EB7-BD00-46D6-BAD9-86E69A7E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64EB-9A08-4CA0-915B-0B7FFEF1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8908-22CB-4554-821F-26E92F19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2630-589E-4C7E-BD88-6E9DDF91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99BB-EEC6-47E1-98EE-F37DCDFD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363B-654B-4B18-A7E2-4B1E111B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969B-7C61-4F7E-A9EE-4ADBA2B7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4785-428B-4F24-A6B5-20982231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A42E-ECC7-40C1-B81C-7C33F404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9A3AF-DE80-4600-B96A-F1F40FB66C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