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48033"/>
        <c:axId val="77806908"/>
      </c:barChart>
      <c:catAx>
        <c:axId val="106480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6908"/>
        <c:crosses val="autoZero"/>
        <c:auto val="1"/>
        <c:lblAlgn val="ctr"/>
        <c:lblOffset val="100"/>
        <c:noMultiLvlLbl val="0"/>
      </c:catAx>
      <c:valAx>
        <c:axId val="77806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480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170-333A-4DD7-8C49-6224227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B9C7-169E-4CA7-BCDA-F301C95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46D-382D-4DF0-88E8-0F857B81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E3F-AD2B-498F-8391-9F748FF8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926-DD7B-474F-BA18-9A3E581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953-5CCE-4A90-9337-F6A67F7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569-5268-4437-A54E-7900BBF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EBF-B515-471A-B35E-E3151E9B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233-3AC2-42D5-A25F-A41AE46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CC0-CAB0-4F29-822C-3E54E6A6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FCC-0B64-4475-B2FF-E200C40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A2A-8955-4D70-9D6F-BA0435BD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DCF04-1280-4C68-BDF9-E87A26935B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