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39151"/>
        <c:axId val="59240856"/>
      </c:barChart>
      <c:catAx>
        <c:axId val="44739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40856"/>
        <c:crosses val="autoZero"/>
        <c:auto val="1"/>
        <c:lblAlgn val="ctr"/>
        <c:lblOffset val="100"/>
        <c:noMultiLvlLbl val="0"/>
      </c:catAx>
      <c:valAx>
        <c:axId val="59240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39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CA6-7AFD-44DC-9718-EDC3B335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E20-E07B-4173-8A2F-A0085B70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A5A-F46F-4127-991E-F7DFE90D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48A-5183-47FD-9FB1-F210A0FB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AA3-5DCE-4666-8E7A-61C5945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335-AC79-4C12-BAC1-BF883DCC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7DC-76D8-4D7D-94CB-A6DC0B04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02F-EEE2-4E70-8A5A-6387432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460-A8DF-4849-AC05-91547EC5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E3E-76DC-40AD-AEB0-D4D15590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AC5-5532-4129-A8B2-28C1BDE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A9B-5CE7-4FB4-8454-5D3EDFA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4E0A8-4ABD-4889-9BA8-DAB0BC00F0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