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792117"/>
        <c:axId val="47742983"/>
      </c:barChart>
      <c:catAx>
        <c:axId val="587921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42983"/>
        <c:crosses val="autoZero"/>
        <c:auto val="1"/>
        <c:lblAlgn val="ctr"/>
        <c:lblOffset val="100"/>
        <c:noMultiLvlLbl val="0"/>
      </c:catAx>
      <c:valAx>
        <c:axId val="477429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921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2543-73D7-4C2E-8786-5A6B3D68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8C3-E98C-4DF7-A588-7452EFDD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06A0-E540-4AC2-87A3-A7872103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29F-CA94-4BF3-A872-5958D3DC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53D-2108-4631-946F-A8A43CD9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51E4-CC7A-4576-92B4-98141B7E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9E9A-0522-4899-B02E-1506B0E8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79FE-325C-4B79-AB79-33B8B279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D7F6-B57A-4FD9-92EF-B9D6401E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8D2-C42E-4CA2-95CB-0DF683C9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7EA3-1DBF-43B2-8859-AB50AAF4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D9B-115B-499D-99E8-7119E41B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492C6-9F2E-40B8-9313-B0E8B51859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