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90911"/>
        <c:axId val="82693642"/>
      </c:barChart>
      <c:catAx>
        <c:axId val="83890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93642"/>
        <c:crosses val="autoZero"/>
        <c:auto val="1"/>
        <c:lblAlgn val="ctr"/>
        <c:lblOffset val="100"/>
        <c:noMultiLvlLbl val="0"/>
      </c:catAx>
      <c:valAx>
        <c:axId val="82693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90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6F5-DBEA-4CEE-9A6D-27A94914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A5A-92BB-490B-B7BD-2A36DC14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4A4-C79C-4664-A01B-905A9835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510-3AD9-4B63-A90A-F938DCCC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605-D769-433C-BE7B-16986E4D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188-59E7-48B5-910F-A048E1CB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CE8-09DC-4E74-A5F4-66F6B6C4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FE7-003E-48B0-82E9-A3F1EB7B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C0B-B6CF-4BE8-B9FC-F1DF9A08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A70-DF8A-46E3-95F8-FF45628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4338-C9CA-4F8F-BE2E-BEFCFDF9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567-7520-40FE-9ED0-92133BCA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66F78-3FA6-487C-AB98-136CBABD9C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