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74469"/>
        <c:axId val="88449578"/>
      </c:barChart>
      <c:catAx>
        <c:axId val="65574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49578"/>
        <c:crosses val="autoZero"/>
        <c:auto val="1"/>
        <c:lblAlgn val="ctr"/>
        <c:lblOffset val="100"/>
        <c:noMultiLvlLbl val="0"/>
      </c:catAx>
      <c:valAx>
        <c:axId val="88449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74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819-FAE5-4200-8DAE-17DFDA84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2C9-D92C-4677-9705-627174D9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5E9-1A8E-4408-9718-658D10D9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E82-B7A1-4891-AE85-7FCEF434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99C-9FCA-46FA-8FCB-5B6211CA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239-2DAA-46C6-9B2C-99033025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D3F-BE3B-4911-B309-CD9977B1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C33-CEB3-4F72-B1E0-E62AAE08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09D-1B34-4427-B98A-426FCCE0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FF2-0738-4EC0-BD2F-5A6E1101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7E94-2ED2-41D2-A632-C113783C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F55-B277-4F9F-9948-D61C3CA3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FE83D-4D8B-42E5-BFAB-0AF8865CE6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