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08531"/>
        <c:axId val="18598743"/>
      </c:barChart>
      <c:catAx>
        <c:axId val="39008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98743"/>
        <c:crosses val="autoZero"/>
        <c:auto val="1"/>
        <c:lblAlgn val="ctr"/>
        <c:lblOffset val="100"/>
        <c:noMultiLvlLbl val="0"/>
      </c:catAx>
      <c:valAx>
        <c:axId val="18598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08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5D8-91AC-48BB-B9C3-9484C31C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EF0-F2B1-48AF-B3C8-CA66F806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202-C0DD-4767-8294-3B3A5319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D3D4-F11E-4F59-90F8-36586FD1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F8E-DC03-4B5E-9249-40336C4F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E76-05A4-44F8-B763-E969782C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B04-2341-4C3E-881E-D72012DF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EB4-FCBB-4415-875A-703B9F83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3E5D-C27C-4C2E-B104-ABB988ED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EDF-B6B0-472D-84E5-F11814B2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825-3E64-4286-9231-DA4EE2AF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E5B-76D3-4B82-85FE-22CFFCE8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412B8-5BC6-4D66-B950-E912BB44DE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