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613"/>
        <c:axId val="84983498"/>
      </c:barChart>
      <c:catAx>
        <c:axId val="521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83498"/>
        <c:crosses val="autoZero"/>
        <c:auto val="1"/>
        <c:lblAlgn val="ctr"/>
        <c:lblOffset val="100"/>
        <c:noMultiLvlLbl val="0"/>
      </c:catAx>
      <c:valAx>
        <c:axId val="84983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CEC-D6CB-4E5A-BE7A-7D95A9A7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8CE-CABE-46EF-88A4-B05B748D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CC6-03C9-40E7-92C9-9735BB3A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626-34A3-4AE3-8CDC-390A20F3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B77-27A7-4683-A72C-9137CD32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EBD-A3DE-4FE0-BF9A-E044FA05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3C7-FEC1-4A72-AF42-B6526E41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F75-91EA-425F-9318-69194481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BA9-CB18-4FDF-90C4-74E7B529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59B-FEAE-442C-A6B1-13B8F983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9E1-DB84-4A75-BA53-630F5CB7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0EB-A20D-48EC-8730-A24670C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1D8ED-8933-41DC-9969-93DE3B98C3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