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804133"/>
        <c:axId val="30301235"/>
      </c:barChart>
      <c:catAx>
        <c:axId val="628041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301235"/>
        <c:crosses val="autoZero"/>
        <c:auto val="1"/>
        <c:lblAlgn val="ctr"/>
        <c:lblOffset val="100"/>
        <c:noMultiLvlLbl val="0"/>
      </c:catAx>
      <c:valAx>
        <c:axId val="303012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8041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BE01-5CDC-4F38-BF14-D8D15F05F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A6C3-72DA-4246-85A2-EEA188E0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0AC1-3563-49AF-A930-54004148D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8D80-85F1-463F-8A89-BCFC2B76A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6835-4E7A-4B8C-955A-50970606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6021-8056-43AB-A07C-3538E791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0D6D-A0DA-413A-BA12-A8A97ACC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7D84-2DE6-4E4B-A734-5B05BA05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EE5F-A786-446F-AC97-FBFE4009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F72C-0BCA-4FE9-BE3D-EEEB677B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12DE-E4F3-443C-8541-204D7548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F7BE-7208-4C12-A64C-98D47AAD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7D490-01AD-43C2-9B37-02964DD023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