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06142"/>
        <c:axId val="64736755"/>
      </c:barChart>
      <c:catAx>
        <c:axId val="61206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6755"/>
        <c:crosses val="autoZero"/>
        <c:auto val="1"/>
        <c:lblAlgn val="ctr"/>
        <c:lblOffset val="100"/>
        <c:noMultiLvlLbl val="0"/>
      </c:catAx>
      <c:valAx>
        <c:axId val="64736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06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956-E773-4E46-8C54-7E31E965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08A-C1B4-41B4-9DA8-A4B9F91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961-6A34-4019-8194-CEFF1CF7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B5A-08C8-4E88-A57E-F6F3F8C2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72F-FB7F-4823-A76B-F015E85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E9E-70E4-4314-AEEB-2232A70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80-6B04-424E-9235-2229C14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F21-7602-4F19-8300-884C371F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714-9241-49CD-97F2-ED66B3F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D3C-2A7A-4B21-A484-03844A3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AEF-70A1-4585-841A-3BCDE60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072-757D-49FC-8228-A5B5706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E5AF2-FABE-4567-8139-4040CA394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