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26863"/>
        <c:axId val="6690474"/>
      </c:barChart>
      <c:catAx>
        <c:axId val="54726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474"/>
        <c:crosses val="autoZero"/>
        <c:auto val="1"/>
        <c:lblAlgn val="ctr"/>
        <c:lblOffset val="100"/>
        <c:noMultiLvlLbl val="0"/>
      </c:catAx>
      <c:valAx>
        <c:axId val="6690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26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9B3-2A47-4957-BF19-88C42922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FCA-7C7B-4DF2-84FA-DF31614B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94C-87E7-486C-BD07-4A1FDDAB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895-C2DF-4886-B688-9A1290A7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ECF-B664-4720-BDB7-5B9E7A0D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653-5992-480E-97ED-8C97C07E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6C3-0243-44AA-8719-9F7039E4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E2B-B7DA-46E8-9D43-24C3E9F3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A00-8E19-4930-B151-C2C18F0C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32B-5836-4314-8172-CECF8F3D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ADB-DE84-47D8-A6B9-47290E81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946-C9AC-4E0C-A3B4-C9AEEECF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C4705-45C5-45DB-9E98-675F78B22C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