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84034"/>
        <c:axId val="17351106"/>
      </c:barChart>
      <c:catAx>
        <c:axId val="62384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51106"/>
        <c:crosses val="autoZero"/>
        <c:auto val="1"/>
        <c:lblAlgn val="ctr"/>
        <c:lblOffset val="100"/>
        <c:noMultiLvlLbl val="0"/>
      </c:catAx>
      <c:valAx>
        <c:axId val="17351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84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3AD-4715-4502-A806-B7BDCD92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386-E983-4348-9369-465E64AA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587-DC2D-4C5F-B0D7-DB4F57CE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06A-1585-4514-ADD5-14B629E5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1A9-42B2-48A1-967E-330D759B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3D2-B814-4E13-9794-6B4130D0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346-67B0-43FE-8D92-753EA341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1B7-7C6E-4C91-A6A0-100DA76D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4B7-B5B0-496C-A533-B6A80115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126-6351-467B-9DFD-2E3E1A65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B0B-3C03-49D4-BD0B-DCB646AC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1C1-FE27-45E2-91D5-5B438103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17700-7A63-4A8D-A321-FFAAAA8D99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