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27034"/>
        <c:axId val="47054252"/>
      </c:barChart>
      <c:catAx>
        <c:axId val="23727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54252"/>
        <c:crosses val="autoZero"/>
        <c:auto val="1"/>
        <c:lblAlgn val="ctr"/>
        <c:lblOffset val="100"/>
        <c:noMultiLvlLbl val="0"/>
      </c:catAx>
      <c:valAx>
        <c:axId val="47054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27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51D-7AE6-4997-9D2C-DD9A6C67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85B-0644-43C3-A177-0F74ED06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B80-BA44-4370-A12A-92DAF8CA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97E-1BD5-4D6E-80FA-C727DDBF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3FE-D87D-4073-91FC-3B6C0671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A71-4737-419A-8DE7-0A9658A7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9C0-BC20-40C2-8437-FD0425B7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74B-A32B-4BB9-B902-FBB75303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447-B103-4271-A930-55F6A1AF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7DF-0ACA-4E87-ADCF-EAAB5A63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B23-E8C9-4398-BEC7-D6A6311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6B5-465F-4A73-8F83-C28D860E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32A1F-836E-4D55-A85D-74E0B5DE2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