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605274"/>
        <c:axId val="93450681"/>
      </c:barChart>
      <c:catAx>
        <c:axId val="146052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50681"/>
        <c:crosses val="autoZero"/>
        <c:auto val="1"/>
        <c:lblAlgn val="ctr"/>
        <c:lblOffset val="100"/>
        <c:noMultiLvlLbl val="0"/>
      </c:catAx>
      <c:valAx>
        <c:axId val="934506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052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37E4-9888-41B5-9DCC-AF55D7D2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5CEF-0824-44F4-8554-20349EBC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750D-1A16-4E20-BE8E-745D1A77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F936-5CC4-402C-B8BC-37DA4D13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A332-7D79-4DD5-99A3-E2DFCAAD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7458-FCB4-46A4-BEDF-39CA1BAE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BAB1-DA99-404D-89E3-A0D99974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9FD7-0115-4403-8BBC-EE768A55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45AA-FD28-4A92-AB09-32F7C688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A5FC-E51E-4906-ADA2-5F29E13C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699A-B4DC-4F53-AEC3-B0D60321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E0C2-5F4B-4B18-AD2C-D80B8F55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D2A27-88A9-4508-9900-2E55F5BAB1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