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35644"/>
        <c:axId val="88189002"/>
      </c:barChart>
      <c:catAx>
        <c:axId val="70735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89002"/>
        <c:crosses val="autoZero"/>
        <c:auto val="1"/>
        <c:lblAlgn val="ctr"/>
        <c:lblOffset val="100"/>
        <c:noMultiLvlLbl val="0"/>
      </c:catAx>
      <c:valAx>
        <c:axId val="88189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35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CD6-C300-4F1B-94BA-BB1A1DC9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DA1-73A1-4DD6-BC13-CC20FFFD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C56-EA2A-4988-BFB6-4D5E1832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9F7-82E9-45B1-9495-59D0132A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948-02D0-4435-B00C-27FEBF36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690-77E1-4DB5-AE6C-4C1C1CB1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729-4979-4B0E-8E2C-3363A0FA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A5C-4AB5-4E2A-AD59-BC57348C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A89-0CD5-496F-958F-7D70B843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4E5-446C-47F3-B59F-EDA69224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67D-2013-47AE-B68A-E03365E6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46C-7C00-40FF-9906-5E347A18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E8AE5-986C-46DB-A6B9-A96A4C65FF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