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31816"/>
        <c:axId val="90312324"/>
      </c:barChart>
      <c:catAx>
        <c:axId val="87431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12324"/>
        <c:crosses val="autoZero"/>
        <c:auto val="1"/>
        <c:lblAlgn val="ctr"/>
        <c:lblOffset val="100"/>
        <c:noMultiLvlLbl val="0"/>
      </c:catAx>
      <c:valAx>
        <c:axId val="90312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1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659-EC6B-4180-B9F2-064E411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B66-568D-4B48-B49E-D8CA958A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773-C02B-49C4-8C0E-3E6D749F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D44-C430-4574-81A9-25DE2D2B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D19-85E8-4529-8D2D-6F59C29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445-35D4-4BD6-A9AC-2EDFD96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16A-C68E-4518-820A-924AFCF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9C0-35E7-492A-9B22-364F978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5F5-CB3A-4BBA-A0D5-9FFF377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8E6-4BC6-4CCC-BF51-F054BAB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883-3CFF-42A3-A20E-FA7D1C2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DAD-3483-4286-8748-00DEB33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828D-7FCD-4CEE-A85D-40C05FFEA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