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55532"/>
        <c:axId val="18976247"/>
      </c:barChart>
      <c:catAx>
        <c:axId val="925555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76247"/>
        <c:crosses val="autoZero"/>
        <c:auto val="1"/>
        <c:lblAlgn val="ctr"/>
        <c:lblOffset val="100"/>
        <c:noMultiLvlLbl val="0"/>
      </c:catAx>
      <c:valAx>
        <c:axId val="18976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555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3688-683E-4D9F-BB37-26FF0BED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E44D-66B0-42DB-BAFB-680ADB3B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15F-7C40-4AD1-B1B5-5EBBDE5C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439-C25E-40A5-8B5D-0E8938F6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FF3-B16F-46FA-8192-89E14CA6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677-2B32-46A9-B432-C95726DD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505-9329-46C1-8188-ACA301CB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5F0B-4845-4F97-9A8A-B62751B2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ED73-4006-4127-9C00-D1AF9212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3601-ACCD-4D63-8B56-A4116FD8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66D-BA8B-4909-82A7-7594E314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834-3621-4A0C-9625-22E83CE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9C879-0EA2-40AD-909F-DC9179F54D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