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51556"/>
        <c:axId val="97180351"/>
      </c:barChart>
      <c:catAx>
        <c:axId val="40951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80351"/>
        <c:crosses val="autoZero"/>
        <c:auto val="1"/>
        <c:lblAlgn val="ctr"/>
        <c:lblOffset val="100"/>
        <c:noMultiLvlLbl val="0"/>
      </c:catAx>
      <c:valAx>
        <c:axId val="97180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51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947-4ECE-4429-8356-667CCA01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B3B-CE55-486D-9A28-8B6EC13F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CAD-4A11-4547-A09D-C3A9FEEA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530-E952-427D-A2D0-759AB786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ED9-409F-47AC-BA2C-2C27E33C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055-829E-4602-8AD7-41F90B9A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915-7651-4B8F-946E-D8049629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37A-20F9-4B97-8CB0-EAF1526E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3D9-40D3-4CCD-ADBA-0FB6C35D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409-E285-456E-88F8-3E8B344D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8ED-260B-4FC0-9D99-A810BE56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D60-28B8-4057-A7C8-DBB26F6E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BE32C-E01C-41E2-9A27-2FC3DA44ED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