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33226"/>
        <c:axId val="63593760"/>
      </c:barChart>
      <c:catAx>
        <c:axId val="98933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3760"/>
        <c:crosses val="autoZero"/>
        <c:auto val="1"/>
        <c:lblAlgn val="ctr"/>
        <c:lblOffset val="100"/>
        <c:noMultiLvlLbl val="0"/>
      </c:catAx>
      <c:valAx>
        <c:axId val="63593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33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E90-B056-4143-B349-DF88BEE2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3D0-4F1B-485A-BCB8-009358F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CF6-8335-4DC1-9055-2338D91D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B65-35DE-4421-B974-CD40106B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630-2479-4E08-AF1B-4B262D3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729-6F65-493F-AFE7-C1D740A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04A-4289-4638-B1E0-4E5DF81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EA5-89C6-4721-9D60-298EDE37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E48-35B5-4C7F-AC6C-97BF8AFB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DE6-0582-4F4F-9BA0-E3A58E8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CE1-A9E1-4C69-9CCB-E573ECE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87D-67EF-489D-8E5D-1135C2F3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DBC0F-D85F-4185-85E8-1E21D351C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