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50317"/>
        <c:axId val="20886651"/>
      </c:barChart>
      <c:catAx>
        <c:axId val="99050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86651"/>
        <c:crosses val="autoZero"/>
        <c:auto val="1"/>
        <c:lblAlgn val="ctr"/>
        <c:lblOffset val="100"/>
        <c:noMultiLvlLbl val="0"/>
      </c:catAx>
      <c:valAx>
        <c:axId val="20886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0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AAB-04A8-45D4-B3BA-044C4872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2DE-9FA9-4920-9BEE-D349A25A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E7A-3B86-459E-BD7E-F94B675E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B57-74C0-4B62-90DD-027B9919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4C2-1D07-40C8-A36A-8658A5E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0C6-BC20-4F0D-AA6E-C6725623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047-720C-4212-8B6F-4F1BD44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EF9-484F-47FD-8CA8-8C61958D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B2D-7B38-4C73-892A-FA869728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9AE-D375-408C-9705-EE3154C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473-924C-4E31-8ED4-9463A8DF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317-7ED4-4897-937D-DE78960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5F133-E7FB-4C90-A64F-F5E163682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