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82785"/>
        <c:axId val="40460257"/>
      </c:barChart>
      <c:catAx>
        <c:axId val="17382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60257"/>
        <c:crosses val="autoZero"/>
        <c:auto val="1"/>
        <c:lblAlgn val="ctr"/>
        <c:lblOffset val="100"/>
        <c:noMultiLvlLbl val="0"/>
      </c:catAx>
      <c:valAx>
        <c:axId val="40460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82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8B2-ADBC-450D-B250-7EB28DD0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922-41C7-4B86-AA15-66D65236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CB5-6C45-492F-BC5A-B33AC87F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110-AFBF-49A6-AD67-E763D4D7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FFF-CD63-44FB-B7F3-FBF51C58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8CE-BB86-4DBC-BF8F-4969658D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618-918D-44A2-A00F-054021DA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A3A-BFE6-4034-8A12-9E0987F7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62F-EDE5-43BC-A6B2-EAFDE43B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7AE-3C33-4B4C-8453-B2BAA79A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566-2266-40AA-A829-4F7DFE10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9F1-9A18-4372-BCDB-AB97E5A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3AE9F-0043-49BC-BE89-79ED86327C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