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2874"/>
        <c:axId val="30056132"/>
      </c:barChart>
      <c:catAx>
        <c:axId val="37912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6132"/>
        <c:crosses val="autoZero"/>
        <c:auto val="1"/>
        <c:lblAlgn val="ctr"/>
        <c:lblOffset val="100"/>
        <c:noMultiLvlLbl val="0"/>
      </c:catAx>
      <c:valAx>
        <c:axId val="30056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2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4DA-3E6C-476F-A6C7-9B76E00C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BAA-A726-40F2-AEE8-2FADBEC4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36C-662F-4BF4-AF3F-689E7ADE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83A-31AB-4946-B143-249AB644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0C4-56A8-4953-ABE2-41A1F5C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E07-5713-43B9-A120-DDDCACB1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D89-4062-4DA9-94A3-711E5CA6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A2A-05F0-44CC-B279-51C0956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652-70F9-4C83-9F9A-3E07457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D5B-D9A8-4F90-885F-4759066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155-E2BE-4B35-A3EF-174438E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2DF-B620-4070-8704-ECE37F0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F248-5E54-4C4F-A5CB-D2ADA6C131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