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54326"/>
        <c:axId val="76855646"/>
      </c:barChart>
      <c:catAx>
        <c:axId val="413543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55646"/>
        <c:crosses val="autoZero"/>
        <c:auto val="1"/>
        <c:lblAlgn val="ctr"/>
        <c:lblOffset val="100"/>
        <c:noMultiLvlLbl val="0"/>
      </c:catAx>
      <c:valAx>
        <c:axId val="76855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543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AD09-A4E8-4141-AB08-A752EB44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17E2-5341-4391-88FC-9C0F44E1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2DF-237B-49B1-8CD6-2C794727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31D-56C8-4B45-9C4B-C3D59D4F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2B26-F8DB-4B0F-856E-B55D6BAB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678-5899-42D4-B7AD-623A75F5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5B6-5C99-408D-968D-ACD01FAC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6CBA-15E5-4D07-A110-86F37B06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40F-8A0D-40B7-AE6A-A6BB6CA7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B94D-52B5-475C-8FF2-C90543DF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596-C478-4BED-9134-C73DDC89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128C-9569-44E0-9F53-83F2743F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22F85-2B83-4730-95DC-0311F32FD4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