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17098"/>
        <c:axId val="44872814"/>
      </c:barChart>
      <c:catAx>
        <c:axId val="74817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72814"/>
        <c:crosses val="autoZero"/>
        <c:auto val="1"/>
        <c:lblAlgn val="ctr"/>
        <c:lblOffset val="100"/>
        <c:noMultiLvlLbl val="0"/>
      </c:catAx>
      <c:valAx>
        <c:axId val="44872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17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426-BA65-432E-9535-46B04233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5CB-C354-482C-BEC2-C10B4706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E12-85A3-43E1-B9E6-50832CF1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1F3-C3BE-4FC7-BECC-4E98EA8F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77D-3DC2-42CB-9B3D-F799E7F6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778-9D54-4436-A1A0-4A9C5D1E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6B6-ED01-4768-B557-E19224A4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F6C-8FD7-4A28-A6D0-C4F80EA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C9E-5A72-4F9B-BF5E-8FFFE685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DDD-05FD-4B23-BFB9-8419C497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584-EFA9-483C-9B9C-5BB87D58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CDE-0183-4C01-AAE5-683A3607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79EA9-F436-470C-92A4-BD4A044E10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